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1236-52E7-459A-9984-B4EE36993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32C3-5CC8-48C4-9131-1E4A994AE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BC9A-F859-4303-A8F1-2CED552B1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735C-C0E2-4F3E-9C1D-95BDCA16E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4CD4-E6DE-43FB-A6DA-91900590E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A9C7-81ED-4ACC-A356-A437FF37F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1323-9510-46E9-A3D6-0C06572D1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C2B5-7171-4C34-A9F7-E7C9D1475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6293-368E-4387-8826-2E7CD3F2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7E46-FCA1-44C0-84E7-28E600B30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6A02-7FDF-441D-B922-170D85510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FD82-2E3F-40B2-A49F-28ADBF3B3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D64F-78D8-41C2-82AE-36F51E9D2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5522-05B6-40E2-98AA-781761A95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AC4C-95DA-414C-B852-E901AA18C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351C-BCFB-4FE5-84AF-646E3EA0E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AAE9-AB15-4B5D-804B-EE37EBB95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A954-70E8-4D57-B9DA-F66728A2B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9E37-5D01-48D4-A432-EB8DB23BC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33D6-C9C8-43AC-84A2-05765E906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FED9-352B-4DE8-815E-19DBE7B11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CBA0-8827-4366-8105-28709D4F1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1FEB-B51B-4ADA-8D9B-94F9AB05E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35, THE SPIRAL BINDING COMPANY PATENTED THE MODERN FORM OF WHAT STATIONERY I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WORDS CAN BE FOLLOWED BY "SINGER", "PLANNER", "RINGER", OR "DATE" TO GIVE TITLES OF RECENT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S  IN  RODAN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ROMANTIC MOVIE FILMED ON A BEACH IN NORTH CAROLINA STARRED RICHARD GERE AND DIANE 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BELI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TERM IS    USED FOR ONE WHO STRICTLY ADHERES, PERHAPS IRRATIONALLY, TO A PARTICULAR RELIGIOUS DOG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E  H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AWS, ALSO CALLED "BABY MOSES LAWS", DECRIMINALIZE THE LEAVING OF INFANTS TO BECOME WARDS OF THE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O  BY  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7:9, WHAT WORDS COME JUST BEFORE "MALE AND FEMALE, THEY ENTERED THE ARK TO JOIN NOAH, JUST AS GOD HAD COMMAND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UAR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IBERAL-LEANING BRITISH NEWSPAPER BROKE THE STORY OF THE EDWARD SNOWDEN LEA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R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UDD HIRSCH DIVORCE SITCOM TOOK ITS NAME FROM THE LETTER HIS WIFE SENT TO END THEIR RELATION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WORDS CAN BE FOLLOWED BY "SINGER", "PLANNER", "RINGER", OR "DATE" TO GIVE TITLES OF RECENT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SSAGE  IN  A  BO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HIT SONG BY THE POLICE TELLS THE STORY OF A CASTAWAY LOST AT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OTE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35, THE SPIRAL BINDING COMPANY PATENTED THE MODERN FORM OF WHAT STATIONERY I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267080"/>
            <a:ext cx="5715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S  WRITTEN  BY  NICHOLAS  S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ROMANTIC MOVIE FILMED ON A BEACH IN NORTH CAROLINA STARRED RICHARD GERE AND DIANE 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71360" y="762120"/>
            <a:ext cx="880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TERM IS    USED FOR ONE WHO STRICTLY ADHERES, PERHAPS IRRATIONALLY, TO A PARTICULAR RELIGIOUS DOG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AWS, ALSO CALLED "BABY MOSES LAWS", DECRIMINALIZE THE LEAVING OF INFANTS TO BECOME WARDS OF THE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7:9, WHAT WORDS COME JUST BEFORE "MALE AND FEMALE, THEY ENTERED THE ARK TO JOIN NOAH, JUST AS GOD HAD COMMAND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IBERAL-LEANING BRITISH NEWSPAPER BROKE THE STORY OF THE EDWARD SNOWDEN LEA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UDD HIRSCH DIVORCE SITCOM TOOK ITS NAME FROM THE LETTER HIS WIFE SENT TO END THEIR RELATION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HIT SONG BY THE POLICE TELLS THE STORY OF A CASTAWAY LOST AT S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17:04:19Z</dcterms:created>
  <dc:creator>Jennifer Budzinski</dc:creator>
  <dc:description/>
  <dc:language>en-US</dc:language>
  <cp:lastModifiedBy>Erich Friedman</cp:lastModifiedBy>
  <dcterms:modified xsi:type="dcterms:W3CDTF">2020-09-01T00:50:57Z</dcterms:modified>
  <cp:revision>447</cp:revision>
  <dc:subject/>
  <dc:title>Slide 1</dc:title>
</cp:coreProperties>
</file>