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2A7C-F60C-49A4-A162-D4DB93E73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506F-005C-4460-B35A-D21E88A31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88C9-FEE9-40DA-9D13-24CBE9B7F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7C27-F1B3-4BA8-9F23-5D524898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3E79-7687-4064-9782-A5A461F63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70C3-7403-421F-9C21-6E550E89C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3DE2-5279-4882-A597-0A8A18DE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EF11-8779-4029-B951-959E4497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21FB-15B2-4BF7-B21E-E99C2ECC5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1A7-9343-498A-BAA2-C6504E9B8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F285-7C26-46E1-920E-A83FE93F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FEC7-86CE-4C95-AE0A-F9019ED74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9E56-E256-483B-B8B3-EAF53DE1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717A-0577-4A02-BCAB-A87394053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32D0-060A-40B5-9702-9A3CFC51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0E91-3BDB-4A13-B067-6E6B2E26A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1246-927E-41FB-BB0A-4BD2DFDA4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4FA4-7DC4-405B-B519-576B3880D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AD4C-9DC0-4BB7-9909-F03E84FCA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A88D-5451-4C58-95A4-A9B1164A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33B4-A85B-4307-A35E-8628DAF7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26E4-983B-455D-943F-DD565DC64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2DD8-25D6-4965-A080-CB4180E61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35, THE SPIRAL BINDING COMPANY PATENTED THE MODERN FORM OF WHAT STATIONERY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FOLLOWED BY "SINGER", "PLANNER", "RINGER", OR "DATE" TO GIVE TITLES OF RECENT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S  IN  RODAN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MOVIE FILMED ON A BEACH IN NORTH CAROLINA STARRED RICHARD GERE AND DIANE 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BELI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TERM IS    USED FOR ONE WHO STRICTLY ADHERES, PERHAPS IRRATIONALLY, TO A PARTICULAR RELIGIOUS DOG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  H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WS, ALSO CALLED "BABY MOSES LAWS", DECRIMINALIZE THE LEAVING OF INFANTS TO BECOME WARDS OF TH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 BY 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7:9, WHAT WORDS COME JUST BEFORE "MALE AND FEMALE, THEY ENTERED THE ARK TO JOIN NOAH, JUST AS GOD HAD COMMAN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UAR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IBERAL-LEANING BRITISH NEWSPAPER BROKE THE STORY OF THE EDWARD SNOWDEN LEA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DD HIRSCH DIVORCE SITCOM TOOK ITS NAME FROM THE LETTER HIS WIFE SENT TO END THEIR RELATIO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FOLLOWED BY "SINGER", "PLANNER", "RINGER", OR "DATE" TO GIVE TITLES OF RECENT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SSAGE  IN  A  BO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HIT SONG BY THE POLICE TELLS THE STORY OF A CASTAWAY LOST AT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OTE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35, THE SPIRAL BINDING COMPANY PATENTED THE MODERN FORM OF WHAT STATIONERY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267080"/>
            <a:ext cx="5715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S  WRITTEN  BY  NICHOLAS  S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MOVIE FILMED ON A BEACH IN NORTH CAROLINA STARRED RICHARD GERE AND DIANE 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360" y="762120"/>
            <a:ext cx="880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TERM IS    USED FOR ONE WHO STRICTLY ADHERES, PERHAPS IRRATIONALLY, TO A PARTICULAR RELIGIOUS DOG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WS, ALSO CALLED "BABY MOSES LAWS", DECRIMINALIZE THE LEAVING OF INFANTS TO BECOME WARDS OF THE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7:9, WHAT WORDS COME JUST BEFORE "MALE AND FEMALE, THEY ENTERED THE ARK TO JOIN NOAH, JUST AS GOD HAD COMMAND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IBERAL-LEANING BRITISH NEWSPAPER BROKE THE STORY OF THE EDWARD SNOWDEN LEA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DD HIRSCH DIVORCE SITCOM TOOK ITS NAME FROM THE LETTER HIS WIFE SENT TO END THEIR RELATIO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HIT SONG BY THE POLICE TELLS THE STORY OF A CASTAWAY LOST AT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17:04:19Z</dcterms:created>
  <dc:creator>Jennifer Budzinski</dc:creator>
  <dc:description/>
  <dc:language>en-US</dc:language>
  <cp:lastModifiedBy>Erich Friedman</cp:lastModifiedBy>
  <dcterms:modified xsi:type="dcterms:W3CDTF">2020-09-01T00:50:57Z</dcterms:modified>
  <cp:revision>447</cp:revision>
  <dc:subject/>
  <dc:title>Slide 1</dc:title>
</cp:coreProperties>
</file>