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5617A-34EA-42D7-8581-05C74FFDEC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C9CDC-00D2-4942-BF6A-E1843AA1B2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A0DD7-F181-4BF1-ABA8-0C0969DCE1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AE4CB-1F10-48A1-B932-4C4F114F69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92948-3DE3-4911-BF35-B06EE174AE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F1257-116D-4BD0-9E80-AD12C60834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D3267-50EE-4AAA-88E5-8BBE2540A7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74DE9-FF48-494B-970D-36AD7BEE7C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9E2AB-9A10-4EE6-81EC-9B19962C48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D9A3E-0630-4AF4-8A42-2F834985F1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3D70B-C747-4118-BBD2-87A586642C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E1CDA-187C-4D8D-BEA7-6E7CD63CA8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1D94F-E10B-4568-B1D0-3EEE63BF07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40B2D-57E1-4539-967E-A12C5F8BEA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2DB1B-946B-40EC-A569-F79B4AAAF1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6E744-DA3C-4F2E-8F8B-ED9510E0AC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295FF-43EC-4F93-A819-1E542A443A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18328-7989-4C79-A956-6D30C38FB5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62873-A14A-49B4-B8CC-A6FF8CC204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9DDBB-E588-40C7-A0B9-31688EFC1D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A4D9D-2391-40A2-90C6-C32F268F44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92567-B781-409A-9BAE-6A671FA745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13627-D73D-456F-B5C6-1835A50824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1935, THE SPIRAL BINDING COMPANY PATENTED THE MODERN FORM OF WHAT STATIONERY ITE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533520" y="4876920"/>
            <a:ext cx="80769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WE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838080" y="762120"/>
            <a:ext cx="74678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WO WORDS CAN BE FOLLOWED BY "SINGER", "PLANNER", "RINGER", OR "DATE" TO GIVE TITLES OF RECENT FIL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600200" y="4876920"/>
            <a:ext cx="6095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IGHTS  IN  RODANT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419040" y="762120"/>
            <a:ext cx="83059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8 ROMANTIC MOVIE FILMED ON A BEACH IN NORTH CAROLINA STARRED RICHARD GERE AND DIANE LA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05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  BELIE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90440" y="762120"/>
            <a:ext cx="87631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WO-WORD TERM IS    USED FOR ONE WHO STRICTLY ADHERES, PERHAPS IRRATIONALLY, TO A PARTICULAR RELIGIOUS DOGM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FE  HAV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RT OF LAWS, ALSO CALLED "BABY MOSES LAWS", DECRIMINALIZE THE LEAVING OF INFANTS TO BECOME WARDS OF THE STA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WO  BY  TW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343080" y="762120"/>
            <a:ext cx="84582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GENESIS 7:9, WHAT WORDS COME JUST BEFORE "MALE AND FEMALE, THEY ENTERED THE ARK TO JOIN NOAH, JUST AS GOD HAD COMMANDE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333440" y="4876920"/>
            <a:ext cx="6477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GUARDI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47640" y="762120"/>
            <a:ext cx="784872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LIBERAL-LEANING BRITISH NEWSPAPER BROKE THE STORY OF THE EDWARD SNOWDEN LEAK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638360" y="4876920"/>
            <a:ext cx="5867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EAR  JOH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762120" y="762120"/>
            <a:ext cx="76197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JUDD HIRSCH DIVORCE SITCOM TOOK ITS NAME FROM THE LETTER HIS WIFE SENT TO END THEIR RELATIONSHIP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914400" y="761760"/>
            <a:ext cx="73152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WO WORDS CAN BE FOLLOWED BY "SINGER", "PLANNER", "RINGER", OR "DATE" TO GIVE TITLES OF RECENT FILM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06668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ESSAGE  IN  A  BOT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571680" y="762120"/>
            <a:ext cx="800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79 HIT SONG BY THE POLICE TELLS THE STORY OF A CASTAWAY LOST AT SE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NOTEBO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09480" y="762120"/>
            <a:ext cx="79250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1935, THE SPIRAL BINDING COMPANY PATENTED THE MODERN FORM OF WHAT STATIONERY ITE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752480" y="4267080"/>
            <a:ext cx="57150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marL="188640" indent="-188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OKS  WRITTEN  BY  NICHOLAS  SPAR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380880" y="76176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8 ROMANTIC MOVIE FILMED ON A BEACH IN NORTH CAROLINA STARRED RICHARD GERE AND DIANE LAN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71360" y="762120"/>
            <a:ext cx="88012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WO-WORD TERM IS    USED FOR ONE WHO STRICTLY ADHERES, PERHAPS IRRATIONALLY, TO A PARTICULAR RELIGIOUS DOGM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19040" y="762120"/>
            <a:ext cx="8305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RT OF LAWS, ALSO CALLED "BABY MOSES LAWS", DECRIMINALIZE THE LEAVING OF INFANTS TO BECOME WARDS OF THE STAT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342720" y="76212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GENESIS 7:9, WHAT WORDS COME JUST BEFORE "MALE AND FEMALE, THEY ENTERED THE ARK TO JOIN NOAH, JUST AS GOD HAD COMMANDE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LIBERAL-LEANING BRITISH NEWSPAPER BROKE THE STORY OF THE EDWARD SNOWDEN LEAK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723960" y="761760"/>
            <a:ext cx="76960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JUDD HIRSCH DIVORCE SITCOM TOOK ITS NAME FROM THE LETTER HIS WIFE SENT TO END THEIR RELATIONSHIP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79 HIT SONG BY THE POLICE TELLS THE STORY OF A CASTAWAY LOST AT SE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6T17:04:19Z</dcterms:created>
  <dc:creator>Jennifer Budzinski</dc:creator>
  <dc:description/>
  <dc:language>en-US</dc:language>
  <cp:lastModifiedBy>Erich Friedman</cp:lastModifiedBy>
  <dcterms:modified xsi:type="dcterms:W3CDTF">2020-09-01T00:50:57Z</dcterms:modified>
  <cp:revision>447</cp:revision>
  <dc:subject/>
  <dc:title>Slide 1</dc:title>
</cp:coreProperties>
</file>