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E19A1-8C50-44D4-A1D6-C66753A92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7B6EF-BF77-496E-A143-5053E1391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65F03-3480-4792-B7EC-28140C7A9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C9596-F1E4-4AB5-A9D3-4CA45ECC0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C923E-F6C8-49A9-B7DE-4E949AB7E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17EB-3604-48B7-9021-858B69A6F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61759-0FFC-4797-9287-99FBFA61D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58867-33EB-4DF2-866D-66EB25AA0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ECAFF-5C2F-4045-9CAD-BF840BC57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60E4F-7801-4D90-9E98-D690E8E01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8F447-D348-430F-B2CA-5B3B438DD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F08E7-5A2A-41F0-8F40-245BD73C1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F9879-C60C-44FA-A087-088687234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F93E7-72C0-4F52-86BB-BB15DB935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4114E-CF00-45CF-A53E-D111A22A0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BFF83-4348-41F3-8C6F-9D83A6877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168D0-0847-4077-8152-DE6C9071B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0691A-2F89-412D-BE0E-362DAC24F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2864B-E214-424F-BDD6-A3EE22172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439F3-48CF-4831-964E-396FB1C5B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6C3D7-A1EE-4A88-86B0-2C85ED638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22345-5613-49AC-8461-45D417CFC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F65F2-8D1D-47C5-9404-E0839B4D7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1076400" y="761760"/>
            <a:ext cx="6991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WHAT FILM DID FRANCES MCDORMAND WIN HER FIRST OSCAR FOR BEST ACTRES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ITIZ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800280" y="762120"/>
            <a:ext cx="7543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WATCHMAKING COMPANY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5335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SCO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1030320" y="762120"/>
            <a:ext cx="70833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ONTHLY SCIENCE MAGAZINE LAUNCHED BY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IM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IN 1980 BEGINS WITH THE LETTER "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1171440" y="762120"/>
            <a:ext cx="6801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ACTRESS SHEEDY IN "THE BRAT PAC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1752480" y="4876920"/>
            <a:ext cx="563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AST – W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REAK BETWEEN THE ORTHODOX CATHOLIC  CHURCH AND THE CATHOLIC CHURCH IN 1054 IS KNOWN AS THE ____-____ SCHIS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TE  FA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566640" y="762120"/>
            <a:ext cx="8010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U.S. INSURANCE COMPAN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5 /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304920" y="762120"/>
            <a:ext cx="853416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DO YOU WRITE 1.6 AS A FRACTION IN LOWEST FOR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3"/>
          <p:cNvSpPr/>
          <p:nvPr/>
        </p:nvSpPr>
        <p:spPr>
          <a:xfrm>
            <a:off x="6477120" y="9907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4860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D  (TOUCHDOW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BBREVIATION FOR A 6-POINT SCORING PLAY IN FOOTBA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WATCHMAKING COMPANY IN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H. G.)  WE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82640" y="762120"/>
            <a:ext cx="75772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UTHOR OF "THE TIME MACHINE" AND "THE WAR OF THE WORLD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R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104840" y="762120"/>
            <a:ext cx="69343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WHAT FILM DID FRANCES MCDORMAND WIN HER FIRST OSCAR FOR BEST ACTRE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585720" y="4800600"/>
            <a:ext cx="797256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BAN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019160" y="761760"/>
            <a:ext cx="7105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ONTHLY SCIENCE MAGAZINE LAUNCHED BY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IM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IN 1980 BEGINS WITH THE LETTER "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38240" y="762120"/>
            <a:ext cx="7067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ACTRESS SHEEDY IN "THE BRAT PAC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46200" y="762120"/>
            <a:ext cx="7851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REAK BETWEEN THE ORTHODOX CATHOLIC  CHURCH AND THE CATHOLIC CHURCH IN 1054 IS KNOWN AS THE ____-____ SCHIS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90400" y="762120"/>
            <a:ext cx="7963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U.S. INSURANCE COMPAN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276120" y="761760"/>
            <a:ext cx="8591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DO YOU WRITE 1.6 AS A FRACTION IN LOWEST FOR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TextBox 1"/>
          <p:cNvSpPr/>
          <p:nvPr/>
        </p:nvSpPr>
        <p:spPr>
          <a:xfrm>
            <a:off x="6477120" y="9907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52400" y="761760"/>
            <a:ext cx="7639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BBREVIATION FOR A 6-POINT SCORING PLAY IN FOOTBA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66800" y="762120"/>
            <a:ext cx="7610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UTHOR OF "THE TIME MACHINE" AND "THE WAR OF THE WORLD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0-09-01T00:51:15Z</dcterms:modified>
  <cp:revision>384</cp:revision>
  <dc:subject/>
  <dc:title>Slide 1</dc:title>
</cp:coreProperties>
</file>