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8230-015A-4E48-B8BC-5C3B7DA5D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D018-FAA3-4E33-8F75-3FFCFF05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4ACC-C363-49D4-B2AF-92A59A146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3C11-E643-4DA6-989A-D7192FFE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5392-C3BA-4F2D-8C94-ADE86F34A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70A8-603D-4D49-A7B9-44870612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A1A9-3D66-4EBE-AE5A-2C30B276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2BE4-3D2D-4EEB-905C-205997BC4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06FD-4523-4368-A451-0CD0E56AB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838-EE42-4E86-B25F-4746E7C73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538B-895C-40CA-AAF3-A33B490C2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F923-F3F1-476F-86A3-43C817F93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4FBA-BB15-4C98-8889-67273D0E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860F-1190-4ABE-9EA0-CFD42F50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4591-AB69-4363-BC0A-251CC6C4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1EC6-9929-4EA9-94EE-A25F19D62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0BC1-87D5-4410-8C52-D5A2B5C8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EEC-D8B0-4F08-A6B5-19E32F5C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9A30-C317-44C3-9CEA-EA79165D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70F2-D39C-414D-97B6-E6D856F8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1DF9-1303-4246-816A-A978F70BE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B112-22EC-4DBA-8C91-0AF697D0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8367-9C38-447B-8105-3312EAE2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FRANCES MCDORMAND WIN HER FIRST OSCAR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ATCHMAKING COMPAN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30320" y="762120"/>
            <a:ext cx="708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SCIENCE MAGAZINE LAUNCH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80 BEGINS WITH THE LETTER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71440" y="762120"/>
            <a:ext cx="680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ACTRESS SHEEDY IN "THE BRAT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–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EAK BETWEEN THE ORTHODOX CATHOLIC  CHURCH AND THE CATHOLIC CHURCH IN 1054 IS KNOWN AS THE ____-____ SCH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INSURANCE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 /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1.6 AS A FRACTION IN LOWEST 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647712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D  (TOUCHD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FOR A 6-POINT SCORING PLAY IN FOO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ATCHMAKING COMPAN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. G.)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82640" y="762120"/>
            <a:ext cx="7577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TIME MACHINE" AND "THE WAR OF THE WORL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FRANCES MCDORMAND WIN HER FIRST OSCAR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85720" y="4800600"/>
            <a:ext cx="79725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SCIENCE MAGAZINE LAUNCH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80 BEGINS WITH THE LETTER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ACTRESS SHEEDY IN "THE BRAT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6200" y="762120"/>
            <a:ext cx="785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EAK BETWEEN THE ORTHODOX CATHOLIC  CHURCH AND THE CATHOLIC CHURCH IN 1054 IS KNOWN AS THE ____-____ SCH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INSURANCE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1.6 AS A FRACTION IN LOWEST 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Box 1"/>
          <p:cNvSpPr/>
          <p:nvPr/>
        </p:nvSpPr>
        <p:spPr>
          <a:xfrm>
            <a:off x="6477120" y="990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FOR A 6-POINT SCORING PLAY IN FOO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TIME MACHINE" AND "THE WAR OF THE WORL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9-01T00:51:15Z</dcterms:modified>
  <cp:revision>384</cp:revision>
  <dc:subject/>
  <dc:title>Slide 1</dc:title>
</cp:coreProperties>
</file>