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E3465-4C41-4166-B2EE-485F29B98B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D32E5-B12F-491C-9FCE-98A706CF1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88617-77BD-4D2F-9B02-13316AFBB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47A2D-0575-405A-A320-3DAF0EDC0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30E73-0AE9-4E52-A56B-C8A1CFFD8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19CD1-BE28-4805-B3C0-719FBAE79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2E06D-3A9A-4175-94D4-67F382477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50AF4-CDD6-4E87-8C3E-D306B3447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A6638-1315-45DD-B491-D252C12A7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8F9DE-6B07-43E9-8841-BDC7BAAE2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FADD9-63B5-4502-945D-8D1857BBD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46C1B-399F-4971-8FD0-B7000120E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AF71C-B387-4E21-A758-1D9407673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8AA5E-32B2-4468-A8AB-C978BB730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80A60-5965-4B09-BF6F-35A683F05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A9131-F244-4866-B660-5FC7120DA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6CF1-7523-4179-ACA0-FA52D385E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C32F4-DF13-406E-B5D2-2DFFF7258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E7AE4-E4DB-4308-B8FF-DB434F1D6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9FE04-5857-44A8-8869-78E533D4C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EEA03-DA03-4FAD-857C-AF73058E5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B65FC-A806-4919-AC31-002C0C896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53FCD-0FC5-4ECD-B591-2B9AF60B1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1076400" y="761760"/>
            <a:ext cx="6991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WHAT FILM DID FRANCES MCDORMAND WIN HER FIRST OSCAR FOR BEST ACTRES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ITIZ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800280" y="762120"/>
            <a:ext cx="75438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WATCHMAKING COMPANY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5335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SCO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1030320" y="762120"/>
            <a:ext cx="70833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ONTHLY SCIENCE MAGAZINE LAUNCHED BY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IM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IN 1980 BEGINS WITH THE LETTER "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1171440" y="762120"/>
            <a:ext cx="6801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ACTRESS SHEEDY IN "THE BRAT PAC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1752480" y="4876920"/>
            <a:ext cx="5639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AST – W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REAK BETWEEN THE ORTHODOX CATHOLIC  CHURCH AND THE CATHOLIC CHURCH IN 1054 IS KNOWN AS THE ____-____ SCHIS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TE  FA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566640" y="762120"/>
            <a:ext cx="8010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U.S. INSURANCE COMPAN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5 /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304920" y="762120"/>
            <a:ext cx="853416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DO YOU WRITE 1.6 AS A FRACTION IN LOWEST FOR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3"/>
          <p:cNvSpPr/>
          <p:nvPr/>
        </p:nvSpPr>
        <p:spPr>
          <a:xfrm>
            <a:off x="6477120" y="9907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4860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D  (TOUCHDOW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BBREVIATION FOR A 6-POINT SCORING PLAY IN FOOTBA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WATCHMAKING COMPANY IN THE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H. G.)  WE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82640" y="762120"/>
            <a:ext cx="75772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UTHOR OF "THE TIME MACHINE" AND "THE WAR OF THE WORLD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R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104840" y="762120"/>
            <a:ext cx="69343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WHAT FILM DID FRANCES MCDORMAND WIN HER FIRST OSCAR FOR BEST ACTRE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585720" y="4800600"/>
            <a:ext cx="797256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BAN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019160" y="761760"/>
            <a:ext cx="7105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ONTHLY SCIENCE MAGAZINE LAUNCHED BY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IM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IN 1980 BEGINS WITH THE LETTER "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38240" y="762120"/>
            <a:ext cx="7067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ACTRESS SHEEDY IN "THE BRAT PAC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46200" y="762120"/>
            <a:ext cx="7851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REAK BETWEEN THE ORTHODOX CATHOLIC  CHURCH AND THE CATHOLIC CHURCH IN 1054 IS KNOWN AS THE ____-____ SCHIS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90400" y="762120"/>
            <a:ext cx="7963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U.S. INSURANCE COMPAN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276120" y="761760"/>
            <a:ext cx="8591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DO YOU WRITE 1.6 AS A FRACTION IN LOWEST FOR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TextBox 1"/>
          <p:cNvSpPr/>
          <p:nvPr/>
        </p:nvSpPr>
        <p:spPr>
          <a:xfrm>
            <a:off x="6477120" y="9907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52400" y="761760"/>
            <a:ext cx="7639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BBREVIATION FOR A 6-POINT SCORING PLAY IN FOOTBA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66800" y="762120"/>
            <a:ext cx="7610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UTHOR OF "THE TIME MACHINE" AND "THE WAR OF THE WORLD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0-09-01T00:51:15Z</dcterms:modified>
  <cp:revision>384</cp:revision>
  <dc:subject/>
  <dc:title>Slide 1</dc:title>
</cp:coreProperties>
</file>