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DB5D-2537-43F6-A896-2C2337D31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850B-F59B-4085-AFDF-2F756D39F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1094-9779-46F9-86AE-B88CD359F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0D84-7C42-4BDE-AC39-1618272FF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DEEA-8FBB-4687-957C-25B24E6A9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59F3-56A5-4FAE-9B38-8E245D9E3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4FCB-978F-424F-A4B0-3232ACB3A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FBD1-F4E3-407F-8444-BA0AA1965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2588-7C86-47C1-A5B1-2A019D273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93C9-F803-4F15-8343-39294CF01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9297-2A6C-4E1C-AADD-4AA085D9C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579E-6A1C-4B2C-8CF8-348EE5788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E0CD-086B-4401-81DE-6E6F324D0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E933-8699-46A6-BAF5-AD7E7F732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66B6-4D68-41A1-A3DD-7BB7016A7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31DC-2734-4B5E-A164-B4733E013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C16A-3DE9-43F2-9971-C13BFED92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A3E1-08AD-4E25-9777-2F34B7547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CC45-B8EB-4AEF-BDA0-6A3DA28E3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4CCD-F341-4D8A-96E5-396DE3A98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612F-A8F3-4E68-BC1B-35DB2FC7B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54AB-AD25-40F9-A130-3BBA60F69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8311-0117-402D-B11E-B2D9873A1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FL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PLAY THEIR HOME GAMES IN LOS ANGE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TEAM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TTLE  SEAHAW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33320" y="762120"/>
            <a:ext cx="7677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FL TEAM'S FANS HOLD THE WORLD RECORD FOR THE LOUDEST CROWD NOISE OF 137 DECIBE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FFALO  B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LOST 4 SUPER BOWLS IN A ROW, IN 1990-199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YORK  GI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HAS A WAITING LIST OF OVER 135,000 PEOPLE FOR SEASON TICK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AGO  B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04840" y="77472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HAS MORE TOTAL VICTORIES THAN ANY OTHER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TROIT  L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HAS HOSTED A THANKSGIVING DAY GAME EVERY YEAR SINCE 193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NNESSEE  TIT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352520" y="762120"/>
            <a:ext cx="6438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FL TEAM USED TO BE THE HOUSTON OILERS UNTIL 199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NAPOLIS  CO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FL TEAM HAS WON THE AFC SOUTH DIVISION MORE THAN ANY 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FL TEAM'S FANS HOLD THE WORLD RECORD FOR THE LOUDEST CROWD NOISE OF 137 DECIBE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76520" y="48769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LLAS  COWBO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HAD 20 CONSECUTIVE WINNING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90440" y="4876920"/>
            <a:ext cx="87631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S  ANGELES  CHARGERS  &amp;  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85760" y="762120"/>
            <a:ext cx="6972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PLAY THEIR HOME GAMES IN LOS ANGE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52560" y="487692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WEAR  BLUE  JERSE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TEAM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LOST 4 SUPER BOWLS IN A ROW, IN 1990-199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HAS A WAITING LIST OF OVER 135,000 PEOPLE FOR SEASON TICK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85760" y="762120"/>
            <a:ext cx="6972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HAS MORE TOTAL VICTORIES THAN ANY OTHER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HAS HOSTED A THANKSGIVING DAY GAME EVERY YEAR SINCE 193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390680" y="761760"/>
            <a:ext cx="6362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FL TEAM USED TO BE THE HOUSTON OILERS UNTIL 199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FL TEAM HAS WON THE AFC SOUTH DIVISION MORE THAN ANY O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HAD 20 CONSECUTIVE WINNING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11:07:52Z</dcterms:created>
  <dc:creator>Jennifer Budzinski</dc:creator>
  <dc:description/>
  <dc:language>en-US</dc:language>
  <cp:lastModifiedBy>Erich Friedman</cp:lastModifiedBy>
  <dcterms:modified xsi:type="dcterms:W3CDTF">2020-09-01T00:51:39Z</dcterms:modified>
  <cp:revision>466</cp:revision>
  <dc:subject/>
  <dc:title>Slide 1</dc:title>
</cp:coreProperties>
</file>