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562F-C2DA-4E5C-9400-B83E1C67F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DD2-BF9C-44C5-9631-6A80B4C7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8A9B-21A5-4E02-A58D-91D957A3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31E8-90C7-4294-9754-C9DDFBA03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1B7A-13A2-4C27-8EDD-6CEF1228F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B617-C4F3-4BD5-93AE-E2FD9BB6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F2A3-BFA2-4B04-91F8-C1B23C9CC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D0AA-DE68-4BA6-8C36-8378F4E3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B20B-7FCC-4A5D-967B-A5B2D8247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9CD-DA1F-429A-82EC-8990157B7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1C6-08DF-4E17-A098-8FB52631F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8B6-0EF9-49C3-852A-949298BD0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1D43-6785-4DD4-9DA9-DB3CC41E7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F8D6-C2EC-4D5A-83C9-112B0A85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65D7E-9A4E-4CF0-92E6-17506CA2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F8A6-5D1A-4BDA-8F79-24C020D5A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BF53-AC1B-48A8-812E-5AFA24C81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2AFB-ADBF-4D5B-8568-B919D039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E89E3-42B6-4894-AE56-4F30E374F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8FEF-8A13-4475-B484-ED93FAAA4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0907-1752-4CD0-BB22-3626B18F9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E0E4-E937-4A9B-9CFC-3F4D8F28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E572-60AC-4338-8782-01A87A571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FL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TLE  SEAHA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33320" y="762120"/>
            <a:ext cx="7677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  B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GI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747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TROIT  L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352520" y="762120"/>
            <a:ext cx="643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APOLIS  CO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'S FANS HOLD THE WORLD RECORD FOR THE LOUDEST CROWD NOISE OF 137 DECIB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LAS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CHARGERS  &amp;  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85760" y="762120"/>
            <a:ext cx="6972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NFL TEAMS PLAY THEIR HOME GAMES IN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52560" y="48769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AR  BLUE  JERS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TEA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LOST 4 SUPER BOWLS IN A ROW, IN 1990-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A WAITING LIST OF OVER 135,000 PEOPLE FOR SEASON TICKE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MORE TOTAL VICTORIES THAN ANY OTH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S HOSTED A THANKSGIVING DAY GAME EVERY YEAR SINCE 193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USED TO BE THE HOUSTON OILERS UNTIL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NFL TEAM HAS WON THE AFC SOUTH DIVISION MORE THAN ANY O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0-09-01T00:51:39Z</dcterms:modified>
  <cp:revision>466</cp:revision>
  <dc:subject/>
  <dc:title>Slide 1</dc:title>
</cp:coreProperties>
</file>