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56D2-FF08-445D-9751-04C43CA9E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D790-95EB-4BF0-889A-421DF1FF7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FA48-09F0-4559-93AD-83021A096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125A-C158-43B4-B7F4-15B20669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AFA1-A7CF-4106-9A20-0263D70A9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0EA3-FE8C-4568-8F34-265631CD9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744F-AEEE-4E45-A228-F24D7E571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C7E8-3F77-4549-942E-D12EF7E34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D3F4-78E5-4B4E-B718-525C24AD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A1A4-60F6-4F54-B6BE-22B572A6B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D89E-CEB1-42F7-B603-4BF38EC28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6723-66D5-4E5D-BAC6-753D65596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25F-3F9E-486C-9973-5B2510679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F9A3-E071-41B0-9CAD-39EAF2FC4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D27C-89E5-4C1A-8223-E24F9CD81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D694-193B-451D-91C5-D030C86DA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BB5A-173F-4E97-9213-746E8DD42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CE52-4E74-409A-8678-D15678E60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1D52-C024-415D-8C15-5703C586E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6E1C-B30E-4CDE-A2D4-C2604591C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3FC6-6A29-4566-8C6A-F9D2298F6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8449-9F90-4BC2-A917-3325429C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951C-691D-461C-8696-D1E8075FD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FL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PLAY THEIR HOME GAMES IN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EA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TLE  SEAHAW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33320" y="762120"/>
            <a:ext cx="7677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'S FANS HOLD THE WORLD RECORD FOR THE LOUDEST CROWD NOISE OF 137 DECIB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  B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LOST 4 SUPER BOWLS IN A ROW, IN 1990-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A WAITING LIST OF OVER 135,000 PEOPLE FOR SEASON TI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 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747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MORE TOTAL VICTORIES THAN ANY OTHER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  L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HOSTED A THANKSGIVING DAY GAME EVERY YEAR SINCE 193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TIT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52520" y="762120"/>
            <a:ext cx="643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USED TO BE THE HOUSTON OILERS UNTIL 19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  C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WON THE AFC SOUTH DIVISION MORE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'S FANS HOLD THE WORLD RECORD FOR THE LOUDEST CROWD NOISE OF 137 DECIB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  COW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CHARGERS  &amp;  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PLAY THEIR HOME GAMES IN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52560" y="48769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AR  BLUE  JERS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EA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LOST 4 SUPER BOWLS IN A ROW, IN 1990-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A WAITING LIST OF OVER 135,000 PEOPLE FOR SEASON TI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MORE TOTAL VICTORIES THAN ANY OTHER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HOSTED A THANKSGIVING DAY GAME EVERY YEAR SINCE 193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90680" y="761760"/>
            <a:ext cx="6362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USED TO BE THE HOUSTON OILERS UNTIL 19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WON THE AFC SOUTH DIVISION MORE THAN ANY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9-01T00:51:39Z</dcterms:modified>
  <cp:revision>466</cp:revision>
  <dc:subject/>
  <dc:title>Slide 1</dc:title>
</cp:coreProperties>
</file>