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C3CB-6ED1-4AD6-8C6B-FD54AEFAE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6554-2DD3-4E77-BF34-CF33A94B8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38D6-DB0D-4FFA-B813-6039F7BBE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40ED-8767-4686-A6BB-2D5446591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7459-58FC-4A85-8163-69B05882B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7D29-35EC-4306-9F3F-E36E9757C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3176-5595-497F-A484-9512AC3D1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4629-4152-4E75-B0DE-8FF8CB141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7817-698A-4550-BBE3-58D49EBD3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1B91-D7C5-4828-A99D-26EC974A2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3D1D-EA76-4EA1-AB16-3067E0227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2972-C228-4152-8EE5-807729C47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4507-E74D-4EEB-98E4-6DE71E1C6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81E4-690A-4E98-AE0A-B56941E0E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024C-ADDE-4D48-AE36-1AF67F4F4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32BA-379B-463B-A967-E138D3DBA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F598-FAF6-4763-952A-BAD611549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4DDB-2571-47AF-896D-7FBAD7D97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1926-5A02-4A4C-B589-6E912179E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C199-CD40-4B02-B12F-00AE0063F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CCBA-F2D8-47AB-B355-3881A0364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AA5D-277E-49BE-9CB7-2B703B410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F22E-3C1D-42CC-90F1-EC7C40EAC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95400" y="761760"/>
            <a:ext cx="7153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ORLANDO GAY NIGHTCLUB WAS THERE A MASS SHOOTING IN 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961920" y="762120"/>
            <a:ext cx="7220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IDE FROM THE SUN AND MOON, WHAT IS THE BRIGHTEST NATURAL OBJECT IN THE SK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DID TIME WARNER CABLE AND BRIGHT HOUSE NETWORKS BECO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P  RO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776160" y="762120"/>
            <a:ext cx="759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KNOWN 70'S CANDY THAT FIZZED WHEN EAT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CT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HEMICAL COMPOUND 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18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50328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461880" y="762120"/>
            <a:ext cx="8220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CTOR OMAR SHARIF WAS ONCE ONE OF THE BEST PLAYERS OF WHAT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2819520" y="4876920"/>
            <a:ext cx="3504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228600" y="1143000"/>
            <a:ext cx="3848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A FRANCHISE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2" descr=""/>
          <p:cNvPicPr/>
          <p:nvPr/>
        </p:nvPicPr>
        <p:blipFill>
          <a:blip r:embed="rId1"/>
          <a:stretch/>
        </p:blipFill>
        <p:spPr>
          <a:xfrm>
            <a:off x="4648320" y="533520"/>
            <a:ext cx="4038480" cy="415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SCA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EY IS IN THE UPPER LEFT HAND CORNER OF MOST KEYBO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71720" y="762120"/>
            <a:ext cx="7000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IDE FROM THE SUN AND MOON, WHAT IS THE BRIGHTEST NATURAL OBJECT IN THE SK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NSTANT)  ME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671480" y="762120"/>
            <a:ext cx="579924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M" IN "IM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23760" y="762120"/>
            <a:ext cx="7296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ORLANDO GAY NIGHTCLUB WAS THERE A MASS SHOOTING IN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077840" y="4876920"/>
            <a:ext cx="698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RIUSXM  RADIO  S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DID TIME WARNER CABLE AND BRIGHT HOUSE NETWORKS BECO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0600" y="762120"/>
            <a:ext cx="71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KNOWN 70'S CANDY THAT FIZZED WHEN EAT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66560" y="762120"/>
            <a:ext cx="8210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HEMICAL COMPOUND 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18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52600" y="762120"/>
            <a:ext cx="8038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CTOR OMAR SHARIF WAS ONCE ONE OF THE BEST PLAYERS OF WHAT G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52280" y="114264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A FRANCHISE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4648320" y="533520"/>
            <a:ext cx="4038480" cy="41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65280" y="761760"/>
            <a:ext cx="7813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EY IS IN THE UPPER LEFT HAND CORNER OF MOST KEYBO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697040" y="762120"/>
            <a:ext cx="5749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M" IN "IM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09-01T00:51:56Z</dcterms:modified>
  <cp:revision>394</cp:revision>
  <dc:subject/>
  <dc:title>Slide 1</dc:title>
</cp:coreProperties>
</file>