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A7AC-7379-42F9-B05A-168CCA4F9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7842-A01D-494E-B135-4C34642A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E98C-99D3-4ED0-A31F-1FD90B9D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721E-8AFD-4F53-A99C-7FBA5020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69B7-711B-4C4C-B53F-AC369AB7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AA7D-83A3-4AFC-827A-25F878215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31FF-C055-4700-BBB2-FF55634E5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8EA9-D1CA-4626-9FAD-700B0B852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E5C9-A4AE-4CEF-862F-4919FAAC4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7ED4-552E-4779-A0E6-CC7B9EDB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EC0A-4D92-4CE7-BDF8-70486DBE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9F0B-18A5-41B2-B3FD-D6490D39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FD5A-26A2-497B-9336-FEE014C6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1D76-B969-4640-A819-AA20C3F9E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9FE5-92E0-4747-9AB7-0906BDCF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E76-A367-4BE3-9484-455B7832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91D-AE95-42DE-BF92-085312D0B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D9D-AA74-4481-975E-21876AAD9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D8D-CBED-457A-902D-A8582825C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DF93-C24E-49DA-8F01-A779AD72A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F2CC-533D-4CDE-9E41-F7C956CB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38C4-183D-4211-A97A-F1E32F55D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6332-F4A0-4346-97DB-4437E4CF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  R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0328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819520" y="4876920"/>
            <a:ext cx="3504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1143000"/>
            <a:ext cx="3848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71720" y="762120"/>
            <a:ext cx="700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THE SUN AND MOON, WHAT IS THE BRIGHTEST NATURAL OBJECT IN TH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STANT)  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71480" y="762120"/>
            <a:ext cx="57992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ORLANDO GAY NIGHTCLUB WAS THERE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077840" y="4876920"/>
            <a:ext cx="698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XM  RADIO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DID TIME WARNER CABLE AND BRIGHT HOUSE NETWORKS BE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0600" y="762120"/>
            <a:ext cx="71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70'S CANDY THAT FIZZED WHEN EA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EMICAL COMPOUND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8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CTOR OMAR SHARIF WAS ONCE ONE OF THE BEST PLAYERS OF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3990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FRANCHISE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IS IN THE UPPER LEFT HAND CORNER OF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97040" y="762120"/>
            <a:ext cx="574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M" IN "I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56Z</dcterms:modified>
  <cp:revision>394</cp:revision>
  <dc:subject/>
  <dc:title>Slide 1</dc:title>
</cp:coreProperties>
</file>