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7D6-54CA-4DC0-8E1E-493588CA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5420-95CD-4420-BEAD-46404882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8F7-6C39-4A95-8B85-0A5C017F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6C4-19EC-4DDB-AEF5-16C0DD9D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0F3-A65F-40C1-A0B3-AB5549F5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7D73-93B9-4959-8DBD-493B967C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2795-0787-4F91-AB3A-8AEE52BD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1B06-AA57-4097-AC86-8AE2E3711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344-200D-4F2B-A217-17F6D504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0E49-1FB4-4B28-9C13-3D2E39FB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2DA7-C111-440A-8379-80645B46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9F64-44A9-4E46-BF6A-510BE144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DB18-48F6-4571-B252-8A76E907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90BA-1C81-42D6-96A9-C4358DD0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8699-F7F3-4C76-ADBE-BCC78002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DE80-555B-46BB-A9B4-F27D1AB2C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AE2-2AC1-4D51-AFA2-3EA4AFE2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0F2-6DEA-40DC-8525-A0826521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649-B7AE-4305-9AE5-811C7BFF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B287-3FD2-42C4-BF4B-52BE64AA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8C1-79FE-4EAE-A39D-55C179BB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6427-B8D0-4D9A-93BB-B6AB05DB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7E14-73C7-4D36-9882-19C5A044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R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0328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819520" y="4876920"/>
            <a:ext cx="3504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1143000"/>
            <a:ext cx="3848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71720" y="762120"/>
            <a:ext cx="700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STANT) 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71480" y="762120"/>
            <a:ext cx="5799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77840" y="4876920"/>
            <a:ext cx="698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XM  RADIO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0600" y="762120"/>
            <a:ext cx="71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97040" y="762120"/>
            <a:ext cx="574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56Z</dcterms:modified>
  <cp:revision>394</cp:revision>
  <dc:subject/>
  <dc:title>Slide 1</dc:title>
</cp:coreProperties>
</file>