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393F-C853-4618-A059-A1C58220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6CEC-F280-4867-9B1C-EA880D31F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0FD-B0E6-47E7-9A3C-C24339C6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6D1B-4162-4C06-8AA7-9E05AA8D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C48F-6286-4AB1-8A24-88287AB8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FF5-58AF-4302-AC6A-2C305112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D858-8351-457D-8933-DB1731231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9D58-1D04-4C17-8439-1180645D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E273-F6DF-409E-9E5B-7F5027B5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951E-C9CF-4ADA-9C36-DA6B4335F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34E9-94FD-42F5-8457-7FC01F6D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DE83-3FE1-4343-AE6E-DB61CB7C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59C1-0A84-4A89-8485-83158E5D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40D-58CF-4521-A2FD-24D330863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C6FC-B6B9-4ADA-BCE5-DC6E3926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4815-EDEB-49C2-8742-6516398B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191A-1D47-4D9F-A041-6F432FDF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EEAE-0D19-4616-8EB8-A99FA979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4420-8364-4B80-97A5-89627991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31D-DD4F-459F-A46A-6FEB6E5B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A846-4D7D-41EF-A70E-1B7A14D47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8324-0C55-4649-AB97-EC507100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4C47-4D08-4444-9091-EF9DC049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520"/>
            <a:ext cx="6172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OULD THE ROBOT ON "LOST IN SPACE" OFTEN SAY BEFORE THE NAME OF THE YOUNGEST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57360" y="762120"/>
            <a:ext cx="6029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CY DOES GREEC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09720" y="762120"/>
            <a:ext cx="732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ARS CONTAIN THE LETTERS "PRNDL".  WHAT DOES THE "N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8040" y="762120"/>
            <a:ext cx="846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HIT SONG BEGINS WITH CHIMING CLOCKS THAT WERE RECORDED BY ALAN PAR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54200" y="76212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"X" MEAN ON A BOWLING SCORE SH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82800" y="685800"/>
            <a:ext cx="71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'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GHT)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7240" y="762120"/>
            <a:ext cx="7769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WHAT DOES THE "E" IN "TE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FOLLOWED BY SEQUELS CALLED "NEW MOON" AND "ECLIPS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17840" y="762120"/>
            <a:ext cx="590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CY DOES GREECE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SPILL THE WINE" AND "LOW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(WILL  ROBI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OULD THE ROBOT ON "LOST IN SPACE" OFTEN SAY BEFORE THE NAME OF THE YOUNGEST CHI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7520" y="4267080"/>
            <a:ext cx="670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ZO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17560" y="761760"/>
            <a:ext cx="750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ARS CONTAIN THE LETTERS "PRNDL".  WHAT DOES THE "N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HIT SONG BEGINS WITH CHIMING CLOCKS THAT WERE RECORDED BY ALAN PAR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"X" MEAN ON A BOWLING SCORE SH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'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WHAT DOES THE "E" IN "TE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FOLLOWED BY SEQUELS CALLED "NEW MOON" AND "ECLIP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SPILL THE WINE" AND "LOW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9-01T00:52:14Z</dcterms:modified>
  <cp:revision>377</cp:revision>
  <dc:subject/>
  <dc:title>Slide 1</dc:title>
</cp:coreProperties>
</file>