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4EDF-F7B8-4A07-A2C3-628EBEEF7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6709-35E7-451E-876C-1F61DF6B2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0739-412B-4276-8AE0-0233FDB76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8A3A-105F-4A5B-8341-DE509C97A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F69F-8F33-43DE-A577-8A446F97A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7C1C-5F3B-4A4F-A8C9-45AF30069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BFAE-25F9-4456-B0E5-8E9C82C5E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D38F-E10C-423A-A79C-70741E19B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7C8B-BBE6-40D4-AB0A-9D891E8F1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2C00-39C5-45AE-9B59-33BBDAFFF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A6A0-AA83-43BC-A9A6-8BA01DBDE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0AD8-D2C8-486B-98DD-23D579B1C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FF3C-43BE-40FB-8BD7-F89DCC6FC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A2D3-F9CB-4A3B-87D2-4FA2E418D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143D-8073-474D-B892-0B3965C51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ED00-9040-48CA-8348-A9F52FB0F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24F2-90BF-4834-8105-E4186504E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F321-F73B-4650-8871-6BDA918A2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6D0C-E95F-469B-87FE-7D7442AAF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AB56-6D1D-4092-B5D1-15CF970FD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040C-30ED-4CDF-9C0D-BF1E1E301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A380-0416-424A-9B01-B8CD57EF7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18F8-5F34-4D36-BC50-0E6F3461E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520"/>
            <a:ext cx="61722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60360" y="761760"/>
            <a:ext cx="8421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OULD THE ROBOT ON "LOST IN SPACE" OFTEN SAY BEFORE THE NAME OF THE YOUNGEST CHI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57360" y="762120"/>
            <a:ext cx="6029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CY DOES GREECE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UT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09720" y="762120"/>
            <a:ext cx="7324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CARS CONTAIN THE LETTERS "PRNDL".  WHAT DOES THE "N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38040" y="762120"/>
            <a:ext cx="846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NK FLOYD HIT SONG BEGINS WITH CHIMING CLOCKS THAT WERE RECORDED BY ALAN PAR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515880" y="4876920"/>
            <a:ext cx="81122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54200" y="762120"/>
            <a:ext cx="763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N "X" MEAN ON A BOWLING SCORE SH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82800" y="685800"/>
            <a:ext cx="71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PRAH'S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IGHT) 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7240" y="762120"/>
            <a:ext cx="77695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WHAT DOES THE "E" IN "TE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04880" y="762120"/>
            <a:ext cx="773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WAS FOLLOWED BY SEQUELS CALLED "NEW MOON" AND "ECLIPS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617840" y="762120"/>
            <a:ext cx="5908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CY DOES GREECE 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57160" y="762120"/>
            <a:ext cx="7429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 SANG "SPILL THE WINE" AND "LOW RI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GER  (WILL  ROBIN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OULD THE ROBOT ON "LOST IN SPACE" OFTEN SAY BEFORE THE NAME OF THE YOUNGEST CHI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7520" y="4267080"/>
            <a:ext cx="670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ZON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17560" y="761760"/>
            <a:ext cx="750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 CARS CONTAIN THE LETTERS "PRNDL".  WHAT DOES THE "N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NK FLOYD HIT SONG BEGINS WITH CHIMING CLOCKS THAT WERE RECORDED BY ALAN PAR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N "X" MEAN ON A BOWLING SCORE SH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PRAH'S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09560" y="762120"/>
            <a:ext cx="7724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WHAT DOES THE "E" IN "TE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9440" y="761760"/>
            <a:ext cx="784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WAS FOLLOWED BY SEQUELS CALLED "NEW MOON" AND "ECLIP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 SANG "SPILL THE WINE" AND "LOW RI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9-01T00:52:14Z</dcterms:modified>
  <cp:revision>377</cp:revision>
  <dc:subject/>
  <dc:title>Slide 1</dc:title>
</cp:coreProperties>
</file>