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9D14-AABC-4E10-945A-81B107048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3074-4397-48A4-8CC8-951E1B4EC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E7BF-F0E5-4B21-AF85-4CDB2AB3E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2468-53AB-48A8-B265-B8BB02EE1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44B8-4CF7-44C4-B7AF-85A523F00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BEBF-7EAB-47EC-ABCC-97DB8B434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0915-295E-4FB0-8FF6-07B093C86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4D0E-53D9-489D-AB51-A24ED1435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6C80-A672-4350-8C6A-8A781AB71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069D-E940-4EB5-952A-8AD8C074B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1956-A362-4566-B908-693E6DA95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A1DE-746B-49DF-8D52-810A4B83D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84E2-F111-41C7-AC3A-9BECCB7D4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E138-6CCF-4A65-89BC-F1BCF749F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53FC-C5C9-470C-9CB1-0E90244DD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96BE-196E-44DA-AD95-71FB27D57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5565-40D0-42D6-B073-10C2C204E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0938-9070-4950-9DDD-60B170906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5577-F7F2-4871-A506-72331C01B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4B3D-C469-4770-BFB3-5095BBFAF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0FC2-4159-4B53-AC1D-54C41055B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A472-EB3E-4251-B14E-C5505D3BA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91C5-E1F2-46F1-AC0D-58AE6E3D5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520"/>
            <a:ext cx="6172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60360" y="761760"/>
            <a:ext cx="8421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OULD THE ROBOT ON "LOST IN SPACE" OFTEN SAY BEFORE THE NAME OF THE YOUNGEST CHI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57360" y="762120"/>
            <a:ext cx="6029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CY DOES GREECE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UT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09720" y="762120"/>
            <a:ext cx="7324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CARS CONTAIN THE LETTERS "PRNDL".  WHAT DOES THE "N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38040" y="762120"/>
            <a:ext cx="846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NK FLOYD HIT SONG BEGINS WITH CHIMING CLOCKS THAT WERE RECORDED BY ALAN PAR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515880" y="4876920"/>
            <a:ext cx="81122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54200" y="762120"/>
            <a:ext cx="763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N "X" MEAN ON A BOWLING SCORE SH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82800" y="685800"/>
            <a:ext cx="71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PRAH'S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IGHT) 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7240" y="762120"/>
            <a:ext cx="77695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WHAT DOES THE "E" IN "TE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04880" y="762120"/>
            <a:ext cx="773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WAS FOLLOWED BY SEQUELS CALLED "NEW MOON" AND "ECLIPS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617840" y="762120"/>
            <a:ext cx="5908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CY DOES GREECE 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57160" y="762120"/>
            <a:ext cx="7429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 SANG "SPILL THE WINE" AND "LOW RI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GER  (WILL  ROBIN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OULD THE ROBOT ON "LOST IN SPACE" OFTEN SAY BEFORE THE NAME OF THE YOUNGEST CHI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7520" y="4267080"/>
            <a:ext cx="670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ZON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17560" y="761760"/>
            <a:ext cx="750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CARS CONTAIN THE LETTERS "PRNDL".  WHAT DOES THE "N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NK FLOYD HIT SONG BEGINS WITH CHIMING CLOCKS THAT WERE RECORDED BY ALAN PAR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N "X" MEAN ON A BOWLING SCORE SH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PRAH'S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09560" y="762120"/>
            <a:ext cx="7724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WHAT DOES THE "E" IN "TE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9440" y="761760"/>
            <a:ext cx="784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WAS FOLLOWED BY SEQUELS CALLED "NEW MOON" AND "ECLIP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 SANG "SPILL THE WINE" AND "LOW RI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9-01T00:52:14Z</dcterms:modified>
  <cp:revision>377</cp:revision>
  <dc:subject/>
  <dc:title>Slide 1</dc:title>
</cp:coreProperties>
</file>