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F018-2F29-471E-8F48-DB920C10B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6542-2C2B-4AD1-B237-A6C0B8B4B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A5BD-5BA6-43E5-BDEC-94F66242D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4832-6348-470E-8DFB-E3AB00050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00C3-AA35-4986-84BD-A2A0922EC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2284-6A76-4CFE-8F93-9205552AD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C2C7-BDCA-44DB-9677-DF5C62A1D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5EE3-66F2-4E4E-81C3-E954F1A72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E32A-B7BB-4C6A-B32D-354393941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7C89-3255-4B17-BB03-9E015E314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52F7-6DDE-4275-BECA-56ACBEC58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40BE-C726-4A0F-8304-64EFCB749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ECAF-697F-40F3-89B1-A0B20B8CE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DB15-4E26-4FC1-9EAC-BD079866E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AD27-7305-41AB-B22F-CAC57D369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2FC6-148F-4BE2-805B-8BBB0607B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1523-1B1D-4EC1-8A84-6E5CB9B4D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FF88-E6DA-466D-9B7C-A7316CAEF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082C-599E-4FE8-81DD-023F13A6C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05E6-3E22-4BE6-878A-AE88AD28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E388-F480-49D4-B39B-A2FB6E155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6EDA-05FC-4269-8926-ECE197584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5FC9-78F8-45F2-9C47-D97CB5FDD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NGER OF THE #1 HITS "CARIBBEAN QUEEN" AND "GET OUT OF MY DREAMS, GET INTO MY C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P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85640" y="762120"/>
            <a:ext cx="817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SHOW THAT ENDED IN 2020 STARRED TERRENCE HOWARD AND CENTERED ON A HIP-HOP MUSIC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CANY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VISITED NATIONAL PARK, AFTER THE GREAT SMOKE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BASEBALL FILM STARRED ROBERT REDFORD, ROBERT DUVALL, GLENN CLOSE, AND KIM BA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ORTH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OTHER NAME IS POLARIS USUALLY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19160" y="762120"/>
            <a:ext cx="7105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AMSEL IN DISTRESS IN NINTENDO'S "MARIO" FRANCHISE IS PRINCES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47760" y="762120"/>
            <a:ext cx="84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HORSE HAS A BROWN BODY WITH BLACK MANE, TAIL, AND LOWER LE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0680" y="762120"/>
            <a:ext cx="8162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SHOW THAT ENDED IN 2020 STARRED TERRENCE HOWARD AND CENTERED ON A HIP-HOP MUSIC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IONAL ANIMAL OF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ILLY)  OC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NGER OF THE #1 HITS "CARIBBEAN QUEEN" AND "GET OUT OF MY DREAMS, GET INTO MY C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267080"/>
            <a:ext cx="7639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 FOLLOWED  BY  "STATE",  NICKNAMES  OF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62080" y="761760"/>
            <a:ext cx="6819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VISITED NATIONAL PARK, AFTER THE GREAT SMOKE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BASEBALL FILM STARRED ROBERT REDFORD, ROBERT DUVALL, GLENN CLOSE, AND KIM BASI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OTHER NAME IS POLARIS USUALLY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AMSEL IN DISTRESS IN NINTENDO'S "MARIO" FRANCHISE IS PRINCES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HORSE HAS A BROWN BODY WITH BLACK MANE, TAIL, AND LOWER LE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IONAL ANIMAL OF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0:02Z</dcterms:modified>
  <cp:revision>440</cp:revision>
  <dc:subject/>
  <dc:title>Slide 1</dc:title>
</cp:coreProperties>
</file>