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BFB5-8AB9-4924-80AA-94B460D2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A4B8-7E03-4967-BDF7-9A09513B9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E736-8FF4-43E9-8F18-C9B57F78C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7A0B-8A19-4E39-B32B-E48C50C35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2831-10F6-4F3C-B339-80ADF8932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53A-5A8D-4A43-A394-ED88C774E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9E3D-31BC-442F-BB2C-9AB85DC9F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F0DA-A12E-4D05-A8C6-D697EF7F4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2251-0A21-4A96-809D-51E0A3F47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BF9D-421D-480E-8867-7A7D08157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4F14-9F07-43B7-890D-1A3EF9969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B721-8CB9-43B6-B5C9-14B94E906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3CB3-AC9A-4C86-8469-83247784C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D535-1CDD-4351-88F2-8E19A8BF5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299-AA73-417D-84CC-68543720C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57FA-9570-45FB-ADB7-991B706B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BA09-DBC0-4164-8F30-D1C30C000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F449-8D41-4836-84A9-141BA3CA3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E038-6965-4F93-8422-CC917285E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DEA0-9285-43D3-80D3-7A02683B7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2C06-E125-419E-8BA9-606EB40E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4A66-DBC1-4167-9559-865603339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EED5-B257-4D0E-A4B1-6D8DE95F9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THE #1 HITS "CARIBBEAN QUEEN" AND "GET OUT OF MY DREAMS, GET INTO MY C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P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5640" y="762120"/>
            <a:ext cx="817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HOW THAT ENDED IN 2020 STARRED TERRENCE HOWARD AND CENTERED ON A HIP-HOP MUSIC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81160" y="762120"/>
            <a:ext cx="6781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AN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VISITED NATIONAL PARK, AFTER THE GREAT SMOKE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BASEBALL FILM STARRED ROBERT REDFORD, ROBERT DUVALL, GLENN CLOSE, AND KIM BA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RTH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OTHER NAME IS POLARIS USUALLY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19160" y="762120"/>
            <a:ext cx="71056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AMSEL IN DISTRESS IN NINTENDO'S "MARIO" FRANCHISE IS PRINCES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HORSE HAS A BROWN BODY WITH BLACK MANE, TAIL, AND LOWER LE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0680" y="762120"/>
            <a:ext cx="8162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SHOW THAT ENDED IN 2020 STARRED TERRENCE HOWARD AND CENTERED ON A HIP-HOP MUSIC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ANIMAL OF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ILLY)  OC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INGER OF THE #1 HITS "CARIBBEAN QUEEN" AND "GET OUT OF MY DREAMS, GET INTO MY C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52400" y="4267080"/>
            <a:ext cx="7639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FOLLOWED  BY  "STATE",  NICKNAMES  OF 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VISITED NATIONAL PARK, AFTER THE GREAT SMOKEY MOUNTA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BASEBALL FILM STARRED ROBERT REDFORD, ROBERT DUVALL, GLENN CLOSE, AND KIM BASIN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OTHER NAME IS POLARIS USUALLY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DAMSEL IN DISTRESS IN NINTENDO'S "MARIO" FRANCHISE IS PRINCES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9600" y="762120"/>
            <a:ext cx="852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HORSE HAS A BROWN BODY WITH BLACK MANE, TAIL, AND LOWER LE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IONAL ANIMAL OF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02Z</dcterms:modified>
  <cp:revision>440</cp:revision>
  <dc:subject/>
  <dc:title>Slide 1</dc:title>
</cp:coreProperties>
</file>