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9588-299C-4E3E-BC53-AFEEFD36B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94E3-978F-48AF-A410-A794EFDA0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E7CE-65B1-4A57-AF06-96A25304C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2F52-2B35-427D-B2BE-A216B4639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029B-C28D-4DF4-BF2D-906C0CA5C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8A92-106B-4B3E-B5CC-8D402D350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EC21-9208-462C-9F52-1B9C8DC10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DF28-0CA3-4BC8-A843-DA8B0EBAF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5DA8-DC5A-417C-8A97-7F2FF5E58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B869-9282-480C-A9D6-5FB79C384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D334-B174-40C2-8F8C-228FA43C4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3525-238B-4532-841B-B22F522AF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7EA1-D5EB-49E6-8FBE-16EDDD990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26A6-4C1A-4BB9-A50A-47E4E818E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03C2-1A1C-46EC-AE02-E6DB3204E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89C8-8B24-4766-A996-9343139CA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B103-BF04-4A2A-AF93-0E42FA3B8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81CD-040D-4FE4-AF3E-51DF94E95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72BA-5A98-46C4-98D5-E6D36C707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AC90-C6C5-40C9-B370-327E82F6F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4A09-11E6-4CD5-A761-5843125C3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AFF7-A842-4CAA-BFF8-ED2BF59A1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A4EB-F89F-49B1-9171-EBDF89AD8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SINGER OF THE #1 HITS "CARIBBEAN QUEEN" AND "GET OUT OF MY DREAMS, GET INTO MY CA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P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85640" y="762120"/>
            <a:ext cx="8172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X SHOW THAT ENDED IN 2020 STARRED TERRENCE HOWARD AND CENTERED ON A HIP-HOP MUSIC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L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181160" y="762120"/>
            <a:ext cx="6781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HAS CHEMICAL SYMBO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ND  CANY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52560" y="762120"/>
            <a:ext cx="7238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MOST VISITED NATIONAL PARK, AFTER THE GREAT SMOKEY MOUNTAI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NATU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BASEBALL FILM STARRED ROBERT REDFORD, ROBERT DUVALL, GLENN CLOSE, AND KIM BASING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NORTH  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90560" y="762120"/>
            <a:ext cx="7562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OTHER NAME IS POLARIS USUALLY KN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019160" y="762120"/>
            <a:ext cx="71056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AMSEL IN DISTRESS IN NINTENDO'S "MARIO" FRANCHISE IS PRINCESS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47760" y="762120"/>
            <a:ext cx="8448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HORSE HAS A BROWN BODY WITH BLACK MANE, TAIL, AND LOWER LE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90680" y="762120"/>
            <a:ext cx="8162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X SHOW THAT ENDED IN 2020 STARRED TERRENCE HOWARD AND CENTERED ON A HIP-HOP MUSIC COMPAN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TIONAL ANIMAL OF CANA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BILLY)  OC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SINGER OF THE #1 HITS "CARIBBEAN QUEEN" AND "GET OUT OF MY DREAMS, GET INTO MY C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52400" y="4267080"/>
            <a:ext cx="7639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EN  FOLLOWED  BY  "STATE",  NICKNAMES  OF 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62080" y="761760"/>
            <a:ext cx="6819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HAS CHEMICAL SYMBO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71640" y="762120"/>
            <a:ext cx="7200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MOST VISITED NATIONAL PARK, AFTER THE GREAT SMOKEY MOUNTAI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BASEBALL FILM STARRED ROBERT REDFORD, ROBERT DUVALL, GLENN CLOSE, AND KIM BASING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OTHER NAME IS POLARIS USUALLY KN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AMSEL IN DISTRESS IN NINTENDO'S "MARIO" FRANCHISE IS PRINCESS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9600" y="762120"/>
            <a:ext cx="8524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HORSE HAS A BROWN BODY WITH BLACK MANE, TAIL, AND LOWER LE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33480" y="762120"/>
            <a:ext cx="7277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TIONAL ANIMAL OF CANA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3:40:02Z</dcterms:modified>
  <cp:revision>440</cp:revision>
  <dc:subject/>
  <dc:title>Slide 1</dc:title>
</cp:coreProperties>
</file>