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BC17-6A2D-48E7-9E59-C00B9011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5E7A8-0E46-4540-A5CE-C3AC6B61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A6008-507A-4B1E-96A6-024737F2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91BB-8D0A-4728-B028-D61247DB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9DA9-3F89-4225-9916-3E23FBDCD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569B-78F1-49BA-87C0-4E2B42E19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4F16-342D-4647-AF04-7BB6C3DA1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ABE2-FB14-4DDD-B11C-8AB7A5DEF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4E4D-10AC-4981-BDFC-25C588218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CCB8-730B-40C2-80DC-8F2D73742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3D3-4646-4E91-924F-C71EE914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5D8B-2326-41BC-BC05-D7F5AF02B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9B20-FE22-4D27-905C-0EB2FF849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8238-1FC7-45E5-861D-589F5FE5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6E2-E637-441D-BEE0-3FB0548AB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9347-F923-47A2-8BBC-2F70FB7F4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2972-3687-4AE5-8A1F-CC14B1F26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F726-BF87-4C58-AFA0-F2BC61A48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93A6-C5F4-40FB-ABCB-6A005692D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6C5E-9244-40A5-BA55-30693E6C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28ED-3CAA-485A-BFD2-F8CA405F6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FF5AE-4DD3-4FC9-8079-E65A4D261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72D-2C75-49A4-8FA6-04590E071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  AND NATHAN F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90440" y="762120"/>
            <a:ext cx="876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5888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I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ES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71360" y="762120"/>
            <a:ext cx="880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"THE BACHELOR", WHAT IS GIVEN TO EACH WOMAN WHO IS NOT SENT HOME THAT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HEROIC COMEDY FILM STARRED RAINN WILSON, ELLEN PAGE,     LIV TYLER, KEVIN BACON, AND NATHAN F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W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WORD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POPULAR AND TRADITIONAL PUPPET SHOW, WHO IS JUDY'S VIOLENT HUS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MOST CLOSELY ASSOCIATED WITH THE NETHER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NY GIVEN MORNING, WHAT FOOD IS CONSUMED THE MOST FOR BREAKFAST IN THE UNITED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RARY TO POPULAR BELIEF, WHAT WAS INVENTED BY SIR JOHN HARRINGTON, AND NOT BY SIR THOMAS CRAPP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DID ROMANS CALL A "PERSIAN AP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ANISH WORD FOR "PAR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NAZI WAS FEATURED ON "SEINFE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2:12:57Z</dcterms:created>
  <dc:creator>Jennifer Budzinski</dc:creator>
  <dc:description/>
  <dc:language>en-US</dc:language>
  <cp:lastModifiedBy>Erich Friedman</cp:lastModifiedBy>
  <dcterms:modified xsi:type="dcterms:W3CDTF">2020-08-24T17:52:31Z</dcterms:modified>
  <cp:revision>431</cp:revision>
  <dc:subject/>
  <dc:title>Slide 1</dc:title>
</cp:coreProperties>
</file>