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8848-9BE4-4FBB-8E48-2B1FE9746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3B28-13CF-4934-9222-C068980B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CEB-6FCE-4CAC-AAF1-997517F1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7282-3583-4E43-BBBA-AF8D2A0E0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975-FCB4-4DE4-BDE0-E7BD92C3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B34-D9C0-4536-AB3A-A3C7F4B85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F90E-489B-42ED-B581-0840497E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C4A-0501-415E-8E58-B74390A6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B90-AA63-4F1D-9298-7C8346C6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689-BB32-47FA-B885-1803FCED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D46F-770D-4D7E-B0BD-523F5A80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CF1B-6269-4AEA-8D2E-2A880607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81D4-F63F-49E2-AC6C-0BA89179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5F3-28D9-41CD-8E41-3E676482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4334-8A65-4AA7-A2B1-E22231BF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C6ED-7315-429C-AC3C-570792A2A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B5A4-B8A7-4226-8406-7D6E2D89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186-5CBA-4B31-86F1-7329EE33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02D-5748-46AB-9844-7A28520C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5F4-18FB-49E2-9A61-B25AC7D5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A95D-3B9B-45C1-905B-FF0DDAB5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1ED-09FF-462B-9A12-B2FB9777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A222-8FBA-457A-B2FD-B8E60F85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  AND NATHAN F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58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I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71360" y="762120"/>
            <a:ext cx="880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AND NATHAN F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W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2:12:57Z</dcterms:created>
  <dc:creator>Jennifer Budzinski</dc:creator>
  <dc:description/>
  <dc:language>en-US</dc:language>
  <cp:lastModifiedBy>Erich Friedman</cp:lastModifiedBy>
  <dcterms:modified xsi:type="dcterms:W3CDTF">2020-08-24T17:52:31Z</dcterms:modified>
  <cp:revision>431</cp:revision>
  <dc:subject/>
  <dc:title>Slide 1</dc:title>
</cp:coreProperties>
</file>