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1A6E-82FF-4BAA-9143-A6725AA97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857-4735-419D-91F2-892B87BA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8F8F-D233-4580-AFD3-A29621A4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7AED-1D42-4DA9-8439-1C7FF1912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5CA-1588-45EA-BD49-91F8CF67D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1964-5D85-4801-A523-44E024A2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EC16-AA66-442A-888E-5D350B683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B18A-AF39-4418-B37A-2C4D8D30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C1CD-834F-4B6A-8DF3-A6FB82F5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8A73-CE10-4B32-ABFE-06095B528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3B9F-4134-474D-A339-A580E0604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7DCF-6943-4198-B37B-25C7BFC1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CB8D-5CA8-4C20-B6E2-6EE1B24F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CFA6-A9DB-468E-BBF3-0EAA43988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A7F6-DD18-4142-8479-34B963BAE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A02-BEA7-4C16-B7C9-99358B5C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6F86-72CC-48CF-8623-3882F7C8F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C201-3E97-4018-9E47-3D2C737D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88D6-2CB9-4DCA-8EA0-311905BAC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B860-708E-4147-88D6-4BAA5DB3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B984-8019-4E1A-A76F-C3976F5B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BA92-2920-4C0F-B21A-09CBF499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A634-CD0E-40A5-8D67-501FB4AF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HEROIC COMEDY FILM STARRED RAINN WILSON, ELLEN PAGE,     LIV TYLER, KEVIN BACON,   AND NATHAN F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BACHELOR", WHAT IS GIVEN TO EACH WOMAN WHO IS NOT SENT HOME THAT W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POPULAR AND TRADITIONAL PUPPET SHOW, WHO IS JUDY'S VIOLENT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OST CLOSELY ASSOCIATED WITH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588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NY GIVEN MORNING, WHAT FOOD IS CONSUMED THE MOST FOR BREAKFAST IN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I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WAS INVENTED BY SIR JOHN HARRINGTON, AND NOT BY SIR THOMAS CRA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ROMANS CALL A "PERSIAN AP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PA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71360" y="762120"/>
            <a:ext cx="880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BACHELOR", WHAT IS GIVEN TO EACH WOMAN WHO IS NOT SENT HOME THAT W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AZI WAS FEATURED ON "SEINFE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HEROIC COMEDY FILM STARRED RAINN WILSON, ELLEN PAGE,     LIV TYLER, KEVIN BACON, AND NATHAN F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OW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POPULAR AND TRADITIONAL PUPPET SHOW, WHO IS JUDY'S VIOLENT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OST CLOSELY ASSOCIATED WITH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NY GIVEN MORNING, WHAT FOOD IS CONSUMED THE MOST FOR BREAKFAST IN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WAS INVENTED BY SIR JOHN HARRINGTON, AND NOT BY SIR THOMAS CRA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ROMANS CALL A "PERSIAN AP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PA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AZI WAS FEATURED ON "SEINFE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2:12:57Z</dcterms:created>
  <dc:creator>Jennifer Budzinski</dc:creator>
  <dc:description/>
  <dc:language>en-US</dc:language>
  <cp:lastModifiedBy>Erich Friedman</cp:lastModifiedBy>
  <dcterms:modified xsi:type="dcterms:W3CDTF">2020-08-24T17:52:31Z</dcterms:modified>
  <cp:revision>431</cp:revision>
  <dc:subject/>
  <dc:title>Slide 1</dc:title>
</cp:coreProperties>
</file>