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2D02-77E4-46E1-8725-20FF89356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85C2-D5A6-4BBD-9D2B-B6022FEC7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483A-66D4-4C17-8510-D9D7D303D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FBAE-4362-4433-9C43-8A2112D8B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C7C5-EB76-4D90-9344-69818240B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765F-02B2-4DC1-A961-CFF06FDB4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BE50-E532-4A16-BBF9-3BD89C21B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056E-D581-4580-A9E2-D082E5208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1A70-FADC-4050-94A1-BBD20E8C2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57CE-16FB-4078-812C-03FEDDA1E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A8B1-133C-4A5E-8419-DAEF7B0A5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FB5B-0502-4693-9F7C-D253F7D08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2C69-D02C-44A4-BA5A-76DEC0D25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6A1F-A48D-44C8-A33E-BB3E13901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EC33-BB44-4C2F-957E-0177DCE5D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1AC7-2B1A-4D4E-95B3-CA7872E4D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5D19-4991-4C47-9EA7-5941A9988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8EE0-EE59-4765-8625-3267AFD4B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79E1-5431-431F-A12F-3F7465462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69CF-6AF2-41F8-A2BD-C0B293FFE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E7BD-A603-41DA-AE41-E894D6291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6455-D96F-4DBB-8E67-89E93B974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6AC7-DC19-4DA3-BFCC-87BF4964E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RANK IS RIGHT ABOVE LIEUTEN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MAKES THESE RUNNING SHO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74680" y="2757600"/>
            <a:ext cx="2620800" cy="1468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3092400" y="2757600"/>
            <a:ext cx="2657520" cy="1468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5946840" y="2746440"/>
            <a:ext cx="284148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REE LETTER ABBREVIATION FOR THE MONTH THAT CONTAINS NATIONAL HANGOVER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(HOU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81200" y="762120"/>
            <a:ext cx="7581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PRESIDENT OF THE REPUBLIC OF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43080" y="4876920"/>
            <a:ext cx="84582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47680" y="782640"/>
            <a:ext cx="864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U.S. NAVY'S PRIMARY SPECIAL OPERATIONS FORCES USU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47560" y="762120"/>
            <a:ext cx="804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ACRONYM FOR THE ARMS CONTROL TALKS BETWEEN THE USA AND USSR IN THE EARLY 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ICHAEL  C.)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TITLE ROLE ON "DEX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NY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10960" y="762120"/>
            <a:ext cx="8720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LAND BBQ RESTAURANT            IS LOCATED AT THE CORNER   OF INTERNATIONAL SPEEDWAY AND WOODLAND BLVD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MAKES THESE RUNNING SHO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74680" y="2757600"/>
            <a:ext cx="2620800" cy="1468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092400" y="2757600"/>
            <a:ext cx="2657520" cy="146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5946840" y="2746440"/>
            <a:ext cx="2841480" cy="14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71680" y="4876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PERTY GROUP OWNS THE MOST MALLS IN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RANK IS RIGHT ABOVE LIEUTE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604800" y="4876920"/>
            <a:ext cx="793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HALF  OF  MUSICAL  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REE LETTER ABBREVIATION FOR THE MONTH THAT CONTAINS NATIONAL HANGOVER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752400" y="762120"/>
            <a:ext cx="7639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PRESIDENT OF THE REPUBLIC OF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U.S. NAVY'S PRIMARY SPECIAL OPERATIONS FORCES USUALL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ACRONYM FOR THE ARMS CONTROL TALKS BETWEEN THE USA AND  USSR IN THE EARLY 7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TITLE ROLE ON "DEX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9680" y="762120"/>
            <a:ext cx="8682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LAND BBQ RESTAURANT            IS LOCATED AT THE CORNER   OF INTERNATIONAL SPEEDWAY AND WOODLAND BLVD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52440" y="762120"/>
            <a:ext cx="8439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PERTY GROUP OWNS THE MOST MALLS IN AME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0:24Z</dcterms:modified>
  <cp:revision>444</cp:revision>
  <dc:subject/>
  <dc:title>Slide 1</dc:title>
</cp:coreProperties>
</file>