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C27-51AE-4239-B873-6570A7B0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E125-73F4-4361-B28B-F627D24F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914D-3C1F-4F83-AB57-6EF946A1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88FD-71EC-43B1-9E6E-FAFF7735F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338F-5DF3-41CA-9C6B-34584EA78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4ED1-1D2D-4A00-8096-E159F640B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F8BD-0655-4D12-BD0F-DC7858EC2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A5DE-FB7A-4D0D-8434-7F29FEC6D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1C39-4DB8-4E2A-9CB3-C11A1CC99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5CFC-7949-4AF7-BD9E-4F9EA3B7B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3955-453C-4E61-B180-225671AA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4211-2B32-4B2B-AB0F-8BC4B145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32C1-EEA2-41E3-A5BA-89399C2A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4CFE-8C61-439C-8074-3CF00D4D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6C28-6AD8-4204-A35A-4CEA037FC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7358-4155-4FA9-898C-3917EC98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8926-8231-46AF-B489-058B0ECB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514B-46FB-49C1-A35E-42C355CF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89D1-7ED0-4EC2-AE36-B20302F4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F9CF-E303-4F5A-AFBE-95B26F0F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9EF0-305E-449F-B47D-43E67EB3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4185-9C87-4547-9067-FCBC2D0C1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F5F9-71AD-4C9D-8CD7-5EC305B19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RANK IS RIGHT ABOVE LIEUTEN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RUNNING SH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4680" y="2757600"/>
            <a:ext cx="2620800" cy="146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3092400" y="2757600"/>
            <a:ext cx="2657520" cy="1468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5946840" y="2746440"/>
            <a:ext cx="284148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REE LETTER ABBREVIATION FOR THE MONTH THAT CONTAINS NATIONAL HANGOVER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(HOU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1200" y="762120"/>
            <a:ext cx="7581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PRESIDENT OF THE REPUBLIC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43080" y="4876920"/>
            <a:ext cx="84582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7680" y="782640"/>
            <a:ext cx="864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U.S. NAVY'S PRIMARY SPECIAL OPERATIONS FORCES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7560" y="762120"/>
            <a:ext cx="804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CRONYM FOR THE ARMS CONTROL TALKS BETWEEN THE USA AND USSR IN THE EARLY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CHAEL  C.)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ROLE ON "DEX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N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0960" y="762120"/>
            <a:ext cx="872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LAND BBQ RESTAURANT            IS LOCATED AT THE CORNER   OF INTERNATIONAL SPEEDWAY AND WOODLAND BLVD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RUNNING SHO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4680" y="2757600"/>
            <a:ext cx="2620800" cy="146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092400" y="2757600"/>
            <a:ext cx="2657520" cy="146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5946840" y="2746440"/>
            <a:ext cx="284148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ERTY GROUP OWNS THE MOST MALLS IN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RANK IS RIGHT ABOVE LIEU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04800" y="4876920"/>
            <a:ext cx="793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HALF  OF  MUSICAL  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REE LETTER ABBREVIATION FOR THE MONTH THAT CONTAINS NATIONAL HANGOVER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752400" y="762120"/>
            <a:ext cx="7639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PRESIDENT OF THE REPUBLIC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U.S. NAVY'S PRIMARY SPECIAL OPERATIONS FORCES USU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CRONYM FOR THE ARMS CONTROL TALKS BETWEEN THE USA AND  USSR IN THE EARLY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ROLE ON "DEX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9680" y="762120"/>
            <a:ext cx="8682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LAND BBQ RESTAURANT            IS LOCATED AT THE CORNER   OF INTERNATIONAL SPEEDWAY AND WOODLAND BLVD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ERTY GROUP OWNS THE MOST MALLS IN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24Z</dcterms:modified>
  <cp:revision>444</cp:revision>
  <dc:subject/>
  <dc:title>Slide 1</dc:title>
</cp:coreProperties>
</file>