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02E8-2697-481D-A778-B22CA7749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645D-135A-4148-A6FE-E909EAB9D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2417-BF14-4CAE-87B7-BE1F53380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4165-B3D5-42C5-8661-978DBD5BE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9BF3-830C-42CE-8641-6CFE000E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8FDC-0AFB-4321-BD32-172E93F10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3F2F-69EB-4C01-B302-0A0881F7C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2542-E0B3-4B36-9E6A-DEFEDB090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EAF8-08F1-410C-AE46-704FB98F7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6050-50B0-4793-A5F0-6FB1FC753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59B2-D2C5-43A5-B1E1-BFF72C16A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4C01-2EA5-4D87-8B43-EEEAEAA2B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C942-D57C-4D0C-90C1-8400A01D3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B544-255B-400E-8622-FD143C5EF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37AF-3B5F-44B1-8AE9-AC626F878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09A6-83C6-48C2-A6E2-8691A4C71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D955-D8D4-443E-AD6E-7D83B39F9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BC0F-4191-42EC-B0F4-417996339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B9121-5F15-41D7-B906-A049C325C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C236-82D8-4A39-9D84-8F9525204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44DD-AB6A-4AF1-AA9A-717EBA19A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E589-DC7F-4F51-995A-A8FA50E41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8759-5D41-4A04-A3BF-73B774F96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RANK IS RIGHT ABOVE LIEUTEN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MAKES THESE RUNNING SHO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74680" y="2757600"/>
            <a:ext cx="2620800" cy="1468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"/>
          <p:cNvPicPr/>
          <p:nvPr/>
        </p:nvPicPr>
        <p:blipFill>
          <a:blip r:embed="rId2"/>
          <a:stretch/>
        </p:blipFill>
        <p:spPr>
          <a:xfrm>
            <a:off x="3092400" y="2757600"/>
            <a:ext cx="2657520" cy="1468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5946840" y="2746440"/>
            <a:ext cx="284148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REE LETTER ABBREVIATION FOR THE MONTH THAT CONTAINS NATIONAL HANGOVER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(HOU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81200" y="762120"/>
            <a:ext cx="7581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PRESIDENT OF THE REPUBLIC OF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43080" y="4876920"/>
            <a:ext cx="84582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47680" y="782640"/>
            <a:ext cx="864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U.S. NAVY'S PRIMARY SPECIAL OPERATIONS FORCES USU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47560" y="762120"/>
            <a:ext cx="804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ACRONYM FOR THE ARMS CONTROL TALKS BETWEEN THE USA AND USSR IN THE EARLY 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ICHAEL  C.)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TITLE ROLE ON "DEX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NY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10960" y="762120"/>
            <a:ext cx="8720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LAND BBQ RESTAURANT            IS LOCATED AT THE CORNER   OF INTERNATIONAL SPEEDWAY AND WOODLAND BLVD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MAKES THESE RUNNING SHO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74680" y="2757600"/>
            <a:ext cx="2620800" cy="1468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3092400" y="2757600"/>
            <a:ext cx="2657520" cy="1468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5946840" y="2746440"/>
            <a:ext cx="2841480" cy="14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71680" y="4876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PERTY GROUP OWNS THE MOST MALLS IN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RANK IS RIGHT ABOVE LIEUTE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604800" y="4876920"/>
            <a:ext cx="793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HALF  OF  MUSICAL  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REE LETTER ABBREVIATION FOR THE MONTH THAT CONTAINS NATIONAL HANGOVER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752400" y="762120"/>
            <a:ext cx="7639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PRESIDENT OF THE REPUBLIC OF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U.S. NAVY'S PRIMARY SPECIAL OPERATIONS FORCES USUALL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ACRONYM FOR THE ARMS CONTROL TALKS BETWEEN THE USA AND  USSR IN THE EARLY 7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TITLE ROLE ON "DEX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9680" y="762120"/>
            <a:ext cx="8682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LAND BBQ RESTAURANT            IS LOCATED AT THE CORNER   OF INTERNATIONAL SPEEDWAY AND WOODLAND BLVD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52440" y="762120"/>
            <a:ext cx="8439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PERTY GROUP OWNS THE MOST MALLS IN AME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0:24Z</dcterms:modified>
  <cp:revision>444</cp:revision>
  <dc:subject/>
  <dc:title>Slide 1</dc:title>
</cp:coreProperties>
</file>