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E0C9-B0F4-4513-8B4F-5A433E187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1FE7-0B52-4E10-9A15-0E74C726B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15D0-C357-40D9-9839-6C53714F6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FE92-EC51-4416-BC54-D2D15331E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5BBA-E5CC-498F-8F36-C17163C5F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3B2C-A445-43B8-9544-DF1848F9B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8836-2E57-4090-B9F8-48A7C1F8E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21E2-321C-4C48-BA2C-9C38BC8F8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A448-F6C3-42D7-B77F-92A9A8912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376D-2B7C-40C0-AA00-12F2A025F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CBC1-8D5D-42E2-AA24-55A39C57B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E5AB-52A5-47D2-A597-45575B3F9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44DA-0418-427D-B639-4B09145A2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8F36-2225-4E29-9329-FC8A6D8EE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C96E-8AE2-447E-B2CF-23A61B8D6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B7BA-7893-4CEA-A5A0-6CC1B0762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D965-EC6C-4539-AFD5-1CE0DA084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0E62-B058-45DF-99E7-FFB723E85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FF61-5699-44A8-AD22-8C0860DAF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C931-A82D-4827-9C7B-92D3D178F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AC4B-3F38-4AB1-87EF-FB1AD76D2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CC56-F4DB-422C-9A23-34D332493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C961-E9BB-470B-B07E-7D46EC5A3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990360"/>
            <a:ext cx="6096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ATO MEMBER WITH NO STANDING ARM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866960" y="762120"/>
            <a:ext cx="5410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MINICAN  REPUB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514520" y="762120"/>
            <a:ext cx="6114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JUST EAST OF HAIT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'S KINGDOM INCLUDES GREEN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COUNTRY HAS NOT BEEN AT WAR SINCE 18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62080" y="782640"/>
            <a:ext cx="681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'S CAPITAL IS TBILIS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RDER BETWEEN RUSSIA  AND WHAT OTHER COUNTRY IS THE MOST NORTHE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38360" y="762120"/>
            <a:ext cx="76672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HISTORIANS, WHAT WAS THE FIRST INDUSTRIALIZED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68360" y="762120"/>
            <a:ext cx="8207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UROPEAN COUNTRY TO GRANT ALL ADULT CITIZENS THE RIGHT TO VOTE AND THE RIGHT TO HOLD PUBLIC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19200" y="762120"/>
            <a:ext cx="6105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JUST EAST OF HAIT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409760" y="762120"/>
            <a:ext cx="6324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ON THE OTHER SIDE OF THE BALTIC SEA FROM THE BALTIC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C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ATO MEMBER WITH NO STANDING AR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99880" y="4876920"/>
            <a:ext cx="8544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E  CROSSES  ON  THEIR  FLA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790640" y="762120"/>
            <a:ext cx="5562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47800" y="761760"/>
            <a:ext cx="7448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'S KINGDOM INCLUDES GREEN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1640" y="762120"/>
            <a:ext cx="7200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COUNTRY HAS NOT BEEN AT WAR SINCE 18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0" y="762120"/>
            <a:ext cx="6667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'S CAPITAL IS TBILIS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RDER BETWEEN RUSS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WHAT OTHER COUNTRY IS THE MOST NORTHE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HISTORIANS, WHAT WAS THE FIRST INDUSTRIALIZED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0840" y="762120"/>
            <a:ext cx="8300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UROPEAN COUNTRY TO GRANT ALL ADULT CITIZENS THE RIGHT TO VOTE AND THE RIGHT TO HOLD PUBLIC OFF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66840" y="762120"/>
            <a:ext cx="6610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ON THE OTHER SIDE OF THE BALTIC SEA FROM THE BALTIC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0:38Z</dcterms:modified>
  <cp:revision>442</cp:revision>
  <dc:subject/>
  <dc:title>Slide 1</dc:title>
</cp:coreProperties>
</file>