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006E-0B25-4B45-A602-8760DD1E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6766-0D28-4DE7-9830-D13DD8EE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0B8C-51FB-4DC6-9BFE-51CD60B1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971-62A9-49F0-9659-DFAD986D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009B-8E58-497B-9434-37745655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4EF-F766-40AD-BA5E-6898733C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A58-2ADB-43CC-A7CF-61BA8FFC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E40-13D0-49C1-8005-C74B8741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3C1-8C9A-4375-AF33-7288DF78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EBC0-121C-46DD-9726-D800DEBA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600-4A40-4382-8E5A-0B93AE40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B72E-3419-458F-A651-ED72E5FD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005-9995-4E9E-BE38-6BEB994E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F3A-A274-4675-9C4A-7579C10C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B76-9BF7-4968-8AD2-C4208888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CB3-63BC-4CF6-8171-44C4FD11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C827-EC26-40BC-8822-27A17AA1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688-8049-4A85-A23E-B5300EEF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55F-717F-4A52-AEEF-5B000611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EC9-4E90-41A9-81EC-5B5A9FAB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7FE-91CE-4D9C-BB7B-AF6DBA33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2BB9-FC2B-4878-AB5D-695869EB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84D-6F37-4960-A560-D3FAF87A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9903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866960" y="762120"/>
            <a:ext cx="54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ICAN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8264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  AND WHAT OTHER COUNTRY IS THE MOST NORTH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8360" y="762120"/>
            <a:ext cx="76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8360" y="762120"/>
            <a:ext cx="820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0" y="762120"/>
            <a:ext cx="61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76920"/>
            <a:ext cx="8544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CROSSES  ON  THEIR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0640" y="762120"/>
            <a:ext cx="556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WHAT OTHER COUNTRY IS THE MOST NORTH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38Z</dcterms:modified>
  <cp:revision>442</cp:revision>
  <dc:subject/>
  <dc:title>Slide 1</dc:title>
</cp:coreProperties>
</file>