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C48E-A2C7-4F8F-97F5-9DCA34DC1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BB87-25BF-4C20-957C-5F1E7420F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ED48-EE3D-4433-97AC-D59BBD564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1C0D-0B61-43F6-9BA4-DF690ECE5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6A49-4DFD-47AC-9BB6-2A7B2A06F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8C3D-4ED3-40DB-A80F-D4EF6C469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930A-C4B9-496A-8BCD-DCCE65523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9C8B-3FCE-493B-A636-467B5D8C6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AAD5-D6E7-4055-9511-F7A52F663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4850-56E8-4CB7-AD09-84928F925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51C9-9063-4AE4-B05E-A9857F292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8EF7-CF67-4FBE-99A6-8AF0647F0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50BF-0B1D-482E-ABFC-1A46E6FB5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B76E-3438-4F02-BD55-E5723287A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268F-DEA3-4914-8645-33A0D818D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1DDF-D0CC-4786-BE1A-60110322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BA38-B60C-4AD3-9E36-0A39A7902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5665-78F0-4BAC-8ACD-CD4E7D8AF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AB98-0BB0-4719-AEBD-F9152B8C2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479F-E73F-4DDA-939B-97CA1D5F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95CB-C4B6-4432-B117-13238B44C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40C7-5244-4C8E-800C-45EE61579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AC22-3A28-4881-934A-0EE7927E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990360"/>
            <a:ext cx="6096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ATO MEMBER WITH NO STANDING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866960" y="762120"/>
            <a:ext cx="541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ICAN  REPUBL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514520" y="762120"/>
            <a:ext cx="61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HAI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KINGDOM INCLUDES GREEN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NOT BEEN AT WAR SINCE 18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62080" y="78264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CAPITAL IS TBILIS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RDER BETWEEN RUSSIA  AND WHAT OTHER COUNTRY IS THE MOST NORTHE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38360" y="762120"/>
            <a:ext cx="7667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HISTORIANS, WHAT WAS THE FIRST INDUSTRIALIZED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8360" y="762120"/>
            <a:ext cx="820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UROPEAN COUNTRY TO GRANT ALL ADULT CITIZENS THE RIGHT TO VOTE AND THE RIGHT TO HOLD PUBLIC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19200" y="762120"/>
            <a:ext cx="610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HA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ON THE OTHER SIDE OF THE BALTIC SEA FROM THE BALTIC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ATO MEMBER WITH NO STANDING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99880" y="4876920"/>
            <a:ext cx="8544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CROSSES  ON  THEIR  FL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790640" y="762120"/>
            <a:ext cx="5562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47800" y="761760"/>
            <a:ext cx="7448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KINGDOM INCLUDES GREEN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OUNTRY HAS NOT BEEN AT WAR SINCE 18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CAPITAL IS TBILIS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ORDER BETWEEN RUSS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WHAT OTHER COUNTRY IS THE MOST NORTHE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HISTORIANS, WHAT WAS THE FIRST INDUSTRIALIZED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UROPEAN COUNTRY TO GRANT ALL ADULT CITIZENS THE RIGHT TO VOTE AND THE RIGHT TO HOLD PUBLIC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66840" y="762120"/>
            <a:ext cx="661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ON THE OTHER SIDE OF THE BALTIC SEA FROM THE BALTIC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38Z</dcterms:modified>
  <cp:revision>442</cp:revision>
  <dc:subject/>
  <dc:title>Slide 1</dc:title>
</cp:coreProperties>
</file>