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0DCB5-B499-4566-82CF-C5DFFAA51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620F5-E98A-4D32-98CA-35435AA978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BA5E7-7C80-41EA-BEEC-2553FC73E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696FB-AFA5-4018-84DD-0E8A3B940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52D28-F882-4B69-A92B-A3C852F6F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C3A5E-61A1-4DFD-8307-E873A0457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91B67-B4FB-4DE1-90FF-BB9285987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8BBC0-6CE4-4BE1-9E3F-A163B4948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0C781-A762-4CBB-8918-3CBCCEB449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E2C5B-06A1-414C-8126-1ABDF1203C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1BB1E-0482-45E0-B347-128CE6624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4CB0C-637F-48A1-AECF-A12FA88E95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68C57-F595-4726-A2BB-D9ABD8B1A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A1F1B-F659-4A05-8A3D-5BE69DE1E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C8FDA-D167-4C23-8516-95EE363AB8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59FFE-35B4-4B38-8CF4-0172B04C7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70AD2-8F90-406F-8D04-ABAAF1979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8EBB6-286D-4A11-B817-C0C1664C0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29618-309C-47B8-AB7F-58A1B9334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CF2DD-8DF4-4A69-A01B-CF47CD5CA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F68A0-D77A-4362-B71F-999B9C6E1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0981B-6A17-4CA6-B249-55AFDF688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94536-7B9D-4E7E-A633-1B231337B2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523880" y="1523880"/>
            <a:ext cx="6096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57280" y="762120"/>
            <a:ext cx="8029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WORD OF THE TITLE OF THE 1990 ARNOLD SCHWARZENEGGER AND SHARON STONE FILM THAT WAS REMADE IN 2012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E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333360" y="762120"/>
            <a:ext cx="8477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ITISH WORD FOR "GOODBYE" ORIGINATED FROM THE PHRASE "CHAIR HO", USED TO SUMMON PORTERS WITH    A SEDAN CHAI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4860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I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76280" y="762120"/>
            <a:ext cx="81914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PLETE THE VERNON LAW QUOTE: "SOME PEOPLE ARE SO BUSY LEARNING THE ____ OF THE TRADE THAT THEY NEVER LEARN THE TRAD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M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085760" y="762120"/>
            <a:ext cx="69724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N YOU MAKE WITH MARSHMALLOWS, GRAHAM CRACKERS, AND CHOCOL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9744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SANDRA)  O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399960" y="782640"/>
            <a:ext cx="8344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RESS WHO WON GOLDEN GLOBES FOR "GREY'S ANATOMY" AND "KILLING EV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790560" y="762120"/>
            <a:ext cx="7562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CHESS, WHAT ARE MOVES THREATENING TO CAPTURE THE KING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723960" y="762120"/>
            <a:ext cx="769608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ALL-PHOTOGRAPHIC AMERICAN NEWS MAGAZI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600200" y="487692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347760" y="762120"/>
            <a:ext cx="84484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PAUL REVERE AND THE RAIDERS, WHAT "JUST KEEP GETTIN' HARDER TO FIND" AND "AIN'T BRINGIN' YOU PEACE OF MI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38040" y="762120"/>
            <a:ext cx="8467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ITISH WORD FOR "GOODBYE" ORIGINATED FROM THE PHRASE "CHAIR HO", USED TO SUMMON PORTERS WITH   A SEDAN CHAI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57168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ECIAL  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838080" y="762120"/>
            <a:ext cx="7467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R SLANG NAME FOR THE DRUG KETAMI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TAL  (RECAL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561960" y="762120"/>
            <a:ext cx="8020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WORD OF THE TITLE OF THE 1990 ARNOLD SCHWARZENEGGER AND SHARON STONE FILM THAT WAS REMADE IN 201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328760" y="4343400"/>
            <a:ext cx="6486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(OR  HOMONYMS) OF  CEREAL  BR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8002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81040" y="761760"/>
            <a:ext cx="7981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PLETE THE VERNON LAW QUOTE: "SOME PEOPLE ARE SO BUSY LEARNING THE ____ OF THE TRADE THAT THEY NEVER LEARN THE TRAD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095480" y="762120"/>
            <a:ext cx="69530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N YOU MAKE WITH MARSHMALLOWS, GRAHAM CRACKERS, AND CHOCOL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99960" y="762120"/>
            <a:ext cx="8344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RESS WHO WON GOLDEN GLOBES FOR "GREY'S ANATOMY" AND "KILLING EV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CHESS, WHAT ARE MOVES THREATENING TO CAPTURE THE KING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81200" y="761760"/>
            <a:ext cx="7581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ALL-PHOTOGRAPHIC AMERICAN NEWS MAGAZI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20840" y="762120"/>
            <a:ext cx="8300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PAUL REVERE AND THE RAIDERS, WHAT "JUST KEEP GETTIN' HARDER TO FIND" AND "AIN'T BRINGIN' YOU PEACE OF MIN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47800" y="762120"/>
            <a:ext cx="7448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R SLANG NAME FOR THE DRUG KETAMI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13:38:10Z</dcterms:created>
  <dc:creator>Jennifer Budzinski</dc:creator>
  <dc:description/>
  <dc:language>en-US</dc:language>
  <cp:lastModifiedBy>Erich Friedman</cp:lastModifiedBy>
  <dcterms:modified xsi:type="dcterms:W3CDTF">2020-12-16T13:40:50Z</dcterms:modified>
  <cp:revision>446</cp:revision>
  <dc:subject/>
  <dc:title>Slide 1</dc:title>
</cp:coreProperties>
</file>