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6665-C0DA-4267-8AF2-126BAF67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042D-D2A3-47CF-B918-1DFE4125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BEDF-DD2B-4749-91C8-86EA4A34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92F1-FF3C-46C9-8ABB-CAEBA915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4636-B687-49B5-B8B2-734A0660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F6D-F126-4B88-AB7A-777BE325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CC8-004D-4C18-9F86-CDDD2F71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4954-BAFE-4FAF-A763-A33C00B3A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7AE-2D27-4E9D-BBBE-56AB1017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9C22-0BD8-43BD-8401-E494F657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F9BE-C811-4AC4-93E1-4AB789F4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72D5-7104-446E-999B-47809F64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5870-CB58-43F7-87F6-B8E0EE8A5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4A5-83A4-4BA1-BEF1-8BB9BCE0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ECA-4F92-49DA-A5F2-1D3CA72E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25C5-BA2B-478F-9D72-A0CB9D4D1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E9B7-97E9-491D-9155-12A5CAB8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DC51-9BC9-4AA3-B8AE-36DF514B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6816-1A9D-4E77-99C0-159B8BD2F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12E2-C55C-49B7-9076-61D90D42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BD09-6C42-4F74-A435-052955EAA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FE7-E4E4-4699-9497-D4A385E1D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8139-6ECF-4239-A72B-B6D1F4A1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1990 ARNOLD SCHWARZENEGGER AND SHARON STONE FILM THAT WAS REMADE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3360" y="762120"/>
            <a:ext cx="84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WORD FOR "GOODBYE" ORIGINATED FROM THE PHRASE "CHAIR HO", USED TO SUMMON PORTERS WITH    A SEDAN C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VERNON LAW QUOTE: "SOME PEOPLE ARE SO BUSY LEARNING THE ____ OF THE TRADE THAT THEY NEVER LEARN THE TRA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85760" y="762120"/>
            <a:ext cx="6972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MAKE WITH MARSHMALLOWS, GRAHAM CRACKERS, AN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NDRA)  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9960" y="78264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GOLDEN GLOBES FOR "GREY'S ANATOMY" AND "KILLING E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ARE MOVES THREATENING TO CAPTURE THE KING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L-PHOTOGRAPHIC AMERICAN NEW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PAUL REVERE AND THE RAIDERS, WHAT "JUST KEEP GETTIN' HARDER TO FIND" AND "AIN'T BRINGIN' YOU PEA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WORD FOR "GOODBYE" ORIGINATED FROM THE PHRASE "CHAIR HO", USED TO SUMMON PORTERS WITH   A SEDAN C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 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LANG NAME FOR THE DRUG K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AL  (RECA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1990 ARNOLD SCHWARZENEGGER AND SHARON STONE FILM THAT WAS REMADE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28760" y="4343400"/>
            <a:ext cx="648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(OR  HOMONYMS) OF  CEREAL  B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VERNON LAW QUOTE: "SOME PEOPLE ARE SO BUSY LEARNING THE ____ OF THE TRADE THAT THEY NEVER LEARN THE TRA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95480" y="762120"/>
            <a:ext cx="6953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MAKE WITH MARSHMALLOWS, GRAHAM CRACKERS, AN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GOLDEN GLOBES FOR "GREY'S ANATOMY" AND "KILLING E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ARE MOVES THREATENING TO CAPTURE THE KING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L-PHOTOGRAPHIC AMERICAN NEW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PAUL REVERE AND THE RAIDERS, WHAT "JUST KEEP GETTIN' HARDER TO FIND" AND "AIN'T BRINGIN' YOU PEAC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LANG NAME FOR THE DRUG KETAM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50Z</dcterms:modified>
  <cp:revision>446</cp:revision>
  <dc:subject/>
  <dc:title>Slide 1</dc:title>
</cp:coreProperties>
</file>