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5C48-FF71-4E5A-9C19-0279F1D6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2F76-B26C-4B37-9CFA-29E094CC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4581-F9BE-4FCA-94CC-B7690EB8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6C03-A88D-4FB0-A725-D7FA8FCC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898B-8311-44BE-87A5-00C3EC1A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8ECA-4D4B-49C8-BDEE-32EE35A10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824E-352D-42B5-8B11-D6B2271E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1119-5657-4B19-9C1F-229970FD2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48E4-CBD4-4EF3-8009-C291E9999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366E-407A-4C40-9CD7-4D9F03E3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BA8C-F108-4725-AA67-E11138DEA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6B7A-D948-4358-A743-94CB96A4C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09C4-A8EA-4996-94AC-F7DC0E450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0E53-D27D-456F-8688-A32396420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5BCE-4AE7-40FF-91E1-BE0AB373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689F-E431-4E06-A42C-2B28D79A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BA9F-E977-47F4-BCAD-3DC475389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D37E-A33B-4D49-A00A-C083F682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F8C7-60E1-400F-AFA3-B0A8CEADA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432F-1379-4649-B98B-F90FEFF5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C04B-0D65-4D16-8FF0-AA78FD16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26C0-9DDB-4BC8-BE97-B0414D8D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50DA-3F4D-4085-BDDE-CD642AD44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1990 ARNOLD SCHWARZENEGGER AND SHARON STONE FILM THAT WAS REMADE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33360" y="762120"/>
            <a:ext cx="847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WORD FOR "GOODBYE" ORIGINATED FROM THE PHRASE "CHAIR HO", USED TO SUMMON PORTERS WITH    A SEDAN C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VERNON LAW QUOTE: "SOME PEOPLE ARE SO BUSY LEARNING THE ____ OF THE TRADE THAT THEY NEVER LEARN THE TRA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85760" y="762120"/>
            <a:ext cx="6972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MAKE WITH MARSHMALLOWS, GRAHAM CRACKERS, AN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NDRA)  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9960" y="78264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GOLDEN GLOBES FOR "GREY'S ANATOMY" AND "KILLING E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ARE MOVES THREATENING TO CAPTURE THE KING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L-PHOTOGRAPHIC AMERICAN NEWS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PAUL REVERE AND THE RAIDERS, WHAT "JUST KEEP GETTIN' HARDER TO FIND" AND "AIN'T BRINGIN' YOU PEA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WORD FOR "GOODBYE" ORIGINATED FROM THE PHRASE "CHAIR HO", USED TO SUMMON PORTERS WITH   A SEDAN C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 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LANG NAME FOR THE DRUG KETA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AL  (RECA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1990 ARNOLD SCHWARZENEGGER AND SHARON STONE FILM THAT WAS REMADE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28760" y="4343400"/>
            <a:ext cx="648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(OR  HOMONYMS) OF  CEREAL  B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VERNON LAW QUOTE: "SOME PEOPLE ARE SO BUSY LEARNING THE ____ OF THE TRADE THAT THEY NEVER LEARN THE TRA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95480" y="762120"/>
            <a:ext cx="6953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MAKE WITH MARSHMALLOWS, GRAHAM CRACKERS, AN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GOLDEN GLOBES FOR "GREY'S ANATOMY" AND "KILLING E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ARE MOVES THREATENING TO CAPTURE THE KING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L-PHOTOGRAPHIC AMERICAN NEWS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PAUL REVERE AND THE RAIDERS, WHAT "JUST KEEP GETTIN' HARDER TO FIND" AND "AIN'T BRINGIN' YOU PEACE OF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LANG NAME FOR THE DRUG KETAM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50Z</dcterms:modified>
  <cp:revision>446</cp:revision>
  <dc:subject/>
  <dc:title>Slide 1</dc:title>
</cp:coreProperties>
</file>