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57F5-FB29-486C-8C79-76CF0104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D58-7201-44DA-BFAB-C3A0E08B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0A4-7AEC-4FDA-A64F-D611C05D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734-83DF-4B0E-A2AE-CD103716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75A-926F-404F-A336-E2FB78C0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D9E-4169-497E-B441-DC34BA5E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22D2-AD7A-4B31-BC6B-273850C0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0005-4F29-414A-959E-F152D39A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17B-6602-4EDB-9A7D-87BDF4BB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76FF-1773-4E8D-A206-0F86923F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411-2D10-4274-86F6-E0CAA973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64D-7A7A-4DCC-8C2E-0B4EB8BA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6D8-B7FD-499E-8374-DFEAA556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CAA-A35A-4A5A-AA6C-AAEBE4A8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31AD-A24B-47DF-9964-F6B214E8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95C-4534-4BCF-9A24-88CF622E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32B-58DF-4692-92A5-F7F1CCE1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9A0-5A0D-478A-83EC-3525F848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72A6-65CB-49D8-A149-A9E13258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740-D753-4F02-BEF1-11117E79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BAF9-2F3E-4F88-A957-F3F07FFF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B28-37FE-49CD-9AD0-E623EDF2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45E-217F-4B12-A4A7-FA19067F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9903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SLEEPS  TO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76280" y="762120"/>
            <a:ext cx="8191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IN  THE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0200" y="762120"/>
            <a:ext cx="77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MA  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0480" y="762120"/>
            <a:ext cx="7223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DOVES 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8160" y="762120"/>
            <a:ext cx="7805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STONE  COW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23800" y="762120"/>
            <a:ext cx="809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2120"/>
            <a:ext cx="7767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02Z</dcterms:modified>
  <cp:revision>445</cp:revision>
  <dc:subject/>
  <dc:title>Slide 1</dc:title>
</cp:coreProperties>
</file>