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DCCE-59CF-425E-8D68-CE18EE1B7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D869-DE51-4CFE-B844-276AB30E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EE51-65F8-424D-A2A2-2A3ABDFB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BFC6-BDBF-4816-84A0-DE783899B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68EB-A2DD-467D-AB14-16CE78C3E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DAE-4286-40F9-AAD9-8BAD3F36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9779-1E34-427E-9F14-80CBD6C4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F9D3-41EB-4F6F-A063-81F4B886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3DFD-686D-44C2-92F4-1C7F6412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185-CB09-44B2-B27D-69F1AC3FE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DF3-543C-4CF6-8CCB-57B09B826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1A6F-12E7-4843-99ED-05CA2D1B2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95DF-43F6-4AE6-9A14-D365D3D4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5835-89E2-45DB-95C8-FC5E53E49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1912-A797-405F-ACDB-C33C9EEE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B0B-32CD-4757-81CD-AB7EF37D0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9B7F-FDCD-41A7-90B2-AC0FB126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62CD-35DA-421A-A63D-79A888BAA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A6EA-7E25-4669-A8CB-1660E1E9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2CD2-2438-449A-B7DC-D58EAB56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6FC8-4473-4115-BFCF-5056FE534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9EC4-CF59-4103-B4EA-87492A0E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F5B2-6380-47CD-A884-00B1A1BF0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480" y="990360"/>
            <a:ext cx="56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BBY CHECKE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, AFTER "THE TWIST", WHICH ALSO INTRODUCED A NEW DANCE STY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SLEEPS  TO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60'S GROUP THE TOKENS, CONTAINING THE CHORUS "A-WEEMA-WE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8116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RSE  WITH  NO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1960" y="762120"/>
            <a:ext cx="80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AMERICA, CRITICIZED FOR BAD LYRICS SUCH AS "THERE WERE PLANTS AND BIRDS AND ROCKS AND TH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76280" y="762120"/>
            <a:ext cx="8191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ELTON JOHN, ABOUT THE MUSIC OF HIS Y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'S  IN  THE  CR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HARRY CHAP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  OF  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0200" y="762120"/>
            <a:ext cx="77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SURVIVOR, WHICH SERVED AS THE THEME SONG FOR "ROCKY I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MA  CHAME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60480" y="762120"/>
            <a:ext cx="7223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CULTURE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DOVES  C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8160" y="762120"/>
            <a:ext cx="7805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PRINCE WAS THE BEST-SELLING SINGLE OF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60'S GROUP THE TOKENS, CONTAINING THE CHORUS "A-WEEMA-WE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NESTONE  COW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#1 SONG BY GLEN CAMPBELL WAS THE FIRST COUNTRY SONG IN 14 YEARS TO TOP THE BILLBOARD 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Y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BBY CHECKE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, AFTER "THE TWIST", WHICH ALSO INTRODUCED A NEW DANCE STY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AMERICA, CRITICIZED FOR BAD LYRICS SUCH AS "THERE WERE PLANTS AND BIRDS AND ROCKS AND TH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23800" y="762120"/>
            <a:ext cx="8096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ELTON JOHN, ABOUT THE MUSIC OF HIS Y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HARRY CHAP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SURVIVOR, WHICH SERVED AS THE THEME SONG FOR "ROCKY I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CULTURE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2120"/>
            <a:ext cx="7767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PRINCE WAS THE BEST-SELLING SINGLE OF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#1 SONG BY GLEN CAMPBELL WAS THE FIRST COUNTRY SONG IN 14 YEARS TO TOP THE BILLBOARD 1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02Z</dcterms:modified>
  <cp:revision>445</cp:revision>
  <dc:subject/>
  <dc:title>Slide 1</dc:title>
</cp:coreProperties>
</file>