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3800-0DA5-4FAE-B08F-DF87E8CF9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CF9EC-F0D7-4107-984A-114449D7B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9869-2419-4D2C-8B02-32777A8A2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278-E778-4BF0-A30D-16E6D7E01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DEF8-DFC3-41FC-BCF1-386109168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D15A-8781-4B88-9E4F-398BC6E8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C2CF-7871-4BB5-A375-D7E008497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8484-900C-4818-8DCB-73F2AA01B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5DE-4EFF-4BC3-809E-315D4D18E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69D6-625A-4A33-A5CC-5D2A0F3B0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E262-46BB-4659-890D-122DEF1D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F234-DC3D-40FE-9B40-0034E1B3F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8134-F9CE-45B0-B2CC-C0A302B9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C170-1043-4584-8D45-D558A1373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3AA4-25B4-486A-9E64-E6909E83F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F894-54C1-47F7-84B6-C2C7593A3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1B4E-2B91-4656-A110-42DF8616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08C3-CF40-4A1B-85FB-ED0A488F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19BA-DCC2-4326-8A71-B45683D06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8D9D-4BF1-4963-8039-40F1FA7A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D049-D125-412C-822E-C4885EBB9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9BEE-2E17-4B92-BF0A-E3BFE8D2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5720-406E-4F4A-B13E-168750716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52480" y="990360"/>
            <a:ext cx="56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#1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BBY CHECKE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, AFTER "THE TWIST", WHICH ALSO INTRODUCED A NEW DANCE STY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ON  SLEEPS  TO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60'S GROUP THE TOKENS, CONTAINING THE CHORUS "A-WEEMA-WE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8116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ORSE  WITH  NO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1960" y="762120"/>
            <a:ext cx="80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AMERICA, CRITICIZED FOR BAD LYRICS SUCH AS "THERE WERE PLANTS AND BIRDS AND ROCKS AND TH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ODIL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76280" y="762120"/>
            <a:ext cx="8191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ELTON JOHN, ABOUT THE MUSIC OF HIS Y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'S  IN  THE  CR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HARRY CHAP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  OF  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0200" y="762120"/>
            <a:ext cx="774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SURVIVOR, WHICH SERVED AS THE THEME SONG FOR "ROCKY I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MA  CHAME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60480" y="762120"/>
            <a:ext cx="7223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CULTURE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DOVES  C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8160" y="762120"/>
            <a:ext cx="7805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PRINCE WAS THE BEST-SELLING SINGLE OF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60'S GROUP THE TOKENS, CONTAINING THE CHORUS "A-WEEMA-WE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INESTONE  COW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#1 SONG BY GLEN CAMPBELL WAS THE FIRST COUNTRY SONG IN 14 YEARS TO TOP THE BILLBOARD 1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Y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BBY CHECKER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, AFTER "THE TWIST", WHICH ALSO INTRODUCED A NEW DANCE STY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040" y="761760"/>
            <a:ext cx="814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AMERICA, CRITICIZED FOR BAD LYRICS SUCH AS "THERE WERE PLANTS AND BIRDS AND ROCKS AND TH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23800" y="762120"/>
            <a:ext cx="8096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ELTON JOHN, ABOUT THE MUSIC OF HIS Y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HARRY CHAP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SURVIVOR, WHICH SERVED AS THE THEME SONG FOR "ROCKY I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CULTURE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6880" y="762120"/>
            <a:ext cx="7767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PRINCE WAS THE BEST-SELLING SINGLE OF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#1 SONG BY GLEN CAMPBELL WAS THE FIRST COUNTRY SONG IN 14 YEARS TO TOP THE BILLBOARD 1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1:02Z</dcterms:modified>
  <cp:revision>445</cp:revision>
  <dc:subject/>
  <dc:title>Slide 1</dc:title>
</cp:coreProperties>
</file>