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DE9F-874A-4D34-9E57-E435CAC8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ECB-537B-4327-9A52-71DAE394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B56-43CE-4C9A-9488-D0400C60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B57-E626-4FE0-971E-B6D0A869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A7C-4C2C-46FE-A4E5-DDDD1587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F20-E18A-40E7-A3C8-BE32FA53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AF0-8E94-4BBA-ACFB-2B26E7AC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7A4-5BA2-4183-BF98-B7D1D2E9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F511-F9AF-4274-8867-13D2131D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815-DA95-412F-99FA-A96476C6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2B4-4219-4CFB-8DBF-6F71C1DD6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C6B-97BC-47E8-B1D1-EAA55676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443-82C6-46DD-BEC7-54958DE8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C12-FCE8-411F-B4C6-27321FD1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314-C56A-423D-BB43-0A2308E2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B35-D6F2-4E33-AA2A-6DC5B4F1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3FF-F960-4BCB-A226-FFC938F2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B1E-F0D3-400D-A674-9BB9B7CD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F5C-9AA7-4709-9CF8-9421AF10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84E-DA78-43AE-8B19-5D84BC79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631-CA4C-4774-8CDF-9F1ABD66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91BD-5210-41BA-BA19-FBCCC5CD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78E8-C42F-422B-9B47-AC08FCA7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D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3800" y="762120"/>
            <a:ext cx="809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LCOLM)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080" y="762120"/>
            <a:ext cx="8086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28720" y="762120"/>
            <a:ext cx="7486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14Z</dcterms:modified>
  <cp:revision>443</cp:revision>
  <dc:subject/>
  <dc:title>Slide 1</dc:title>
</cp:coreProperties>
</file>