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A933-BD03-467C-A5D0-AA90014DC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5FCD-87B1-4699-B284-741E999F0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9A85-BE2B-40C4-AA3D-8C914A54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5738-1834-404C-A630-080901D1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1EF7-3421-4E07-8808-3AC7EC0D9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E159-3032-4F3F-9CFF-0AA0B6E9D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A36D-BDE5-43CE-9D56-AF02D8A4F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CBB3-855C-4463-9E12-FAEB33CD7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A28C-E34F-485D-BC3F-7D10F1850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BA8F-A4A7-413A-BCB3-5D0A5AAC7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CDB-E079-43FD-8F28-69479512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32A9-707E-431B-B8EB-C31A36DD7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23FA-E100-4D0D-B7F8-93D3F0286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DAAB-83CF-48F5-A618-E17782056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CA13-25B9-4ABC-8C6A-030D71CE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7F7B-7DCB-4F81-88C2-5401D3ECC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763-428D-4B2A-B5F8-F05EC4A5B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3ED9-F5D6-4024-A843-3663350F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C1E4-BEBA-4926-AA99-9BA86AD86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B2B9-47BA-4A03-9F50-C209B6A2D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C47D-249A-48A1-813A-C2D4545E0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8DA7-551C-423D-94FD-744DBB56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1971-1294-47FC-83FE-13B749698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1040" y="762120"/>
            <a:ext cx="798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 D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23800" y="762120"/>
            <a:ext cx="8096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LCOLM)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0400" y="762120"/>
            <a:ext cx="796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E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9760" y="762120"/>
            <a:ext cx="81244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080" y="762120"/>
            <a:ext cx="8086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ARD HAWKS DIRECTED     3 WESTERNS WITH JOHN WAYNE PLAYING A SHERRIFF: "RIO BRAVO", "RIO LOBO",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IENT  MAR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FAMOUS POEM OF SAMUEL TAYLOR COLERIDGE IS THE RIME OF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28720" y="762120"/>
            <a:ext cx="7486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LIFORNIA CITY DO BOB DYLAN, CHARLIE SHEEN, PIERCE BROSNAN, TOM HANKS, SEAN PENN AND HALLE BERRY L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NORSE SEA MONSTER MIGHT HAVE ORIGINATED FROM GIANT SQUID SIGH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OLDEST COLLEGE IN THE WORLD, AFTER OX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TFLIX SCI-FI SHOW STARRING ERIC MCCORMACK WAS CANCELLED IN 2019 AFTE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2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CKELBACK'S BEST-SELLING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ALAN HALE JR. PLAY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1:14Z</dcterms:modified>
  <cp:revision>443</cp:revision>
  <dc:subject/>
  <dc:title>Slide 1</dc:title>
</cp:coreProperties>
</file>