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C354-447D-4635-8AD9-95D16C23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7DD0-D48C-4C80-91A1-FB3874ED0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BB82-083A-4684-A632-756C6494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BC8D-A57F-40B5-9D2A-81F44E153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6A58-2751-4A15-9DA9-588EF5F9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B8FC-384F-4321-A60A-75641A9ED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3065-CB70-4A1E-881E-5B552C223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7316-EC0B-4224-AD4B-6939A81F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4EC-9791-4BE3-AD1F-416E167B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A51C-1A67-4F21-A98F-CC6B330D1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0D22-D585-4C90-BE72-D40E2583B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3653-1D09-492D-AB0C-F5FEEA1F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9E82-3FA0-4742-A01D-60DD0D89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2759-9372-4B71-BF7B-62890211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19E9-75F2-4376-9A86-71B57310E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7656-F21E-4478-8F49-00FA5FB4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99D0-6C5A-4F09-85E7-B74C752EC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EF10-9E48-4CB8-A43C-01865C653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1C84-A2D7-493E-A238-E685E8FEF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6528-2933-4952-B517-B4F30F280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ED3-F5FC-4BCE-9254-89F839EA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0F8D-847B-40FF-A444-81774FC9E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E46-9C44-4152-9E44-D004E6CA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FAMOUS POEM OF SAMUEL TAYLOR COLERIDGE IS THE RIME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  D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23800" y="762120"/>
            <a:ext cx="8096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HAWKS DIRECTED     3 WESTERNS WITH JOHN WAYNE PLAYING A SHERRIFF: "RIO BRAVO", "RIO LOBO", AND WHAT OTH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LCOLM)  MCD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90400" y="762120"/>
            <a:ext cx="796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CENTRAL CHARACTER IN "A CLOCKWORK ORAN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LIFORNIA CITY DO BOB DYLAN, CHARLIE SHEEN, PIERCE BROSNAN, TOM HANKS, SEAN PENN AND HALLE BERRY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NORSE SEA MONSTER MIGHT HAVE ORIGINATED FROM GIANT SQUID SIGH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OLDEST COLLEGE IN THE WORLD, AFTER OX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9760" y="762120"/>
            <a:ext cx="8124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CI-FI SHOW STARRING ERIC MCCORMACK WAS CANCELLED IN 2019 AFTER 3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4400" y="762120"/>
            <a:ext cx="73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080" y="762120"/>
            <a:ext cx="8086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HAWKS DIRECTED     3 WESTERNS WITH JOHN WAYNE PLAYING A SHERRIFF: "RIO BRAVO", "RIO LOBO", AND WHAT OTH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ALAN HALE JR. PLAY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CIENT  MAR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FAMOUS POEM OF SAMUEL TAYLOR COLERIDGE IS THE RIME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CENTRAL CHARACTER IN "A CLOCKWORK ORAN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28720" y="762120"/>
            <a:ext cx="7486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LIFORNIA CITY DO BOB DYLAN, CHARLIE SHEEN, PIERCE BROSNAN, TOM HANKS, SEAN PENN AND HALLE BERRY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NORSE SEA MONSTER MIGHT HAVE ORIGINATED FROM GIANT SQUID SIGH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OLDEST COLLEGE IN THE WORLD, AFTER OX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CI-FI SHOW STARRING ERIC MCCORMACK WAS CANCELLED IN 2019 AFTER 3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ALAN HALE JR. PLAY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1:14Z</dcterms:modified>
  <cp:revision>443</cp:revision>
  <dc:subject/>
  <dc:title>Slide 1</dc:title>
</cp:coreProperties>
</file>