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DA2D-26CB-47CE-90E3-DFD3C37C8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8930-B409-4874-9D6A-6F066D31C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FC9D-36DF-49F4-AA2A-F805DDD91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298-5D20-4A08-A49A-CA815DEF9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C4C-0630-49BA-9C75-366ED0D75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E3AC-FFB0-4093-BBFE-70CF2681F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77C4-D18E-4FE2-A8D0-7C2D45DC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3E8B-A3E3-470D-B118-53E40EC22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426D-E520-4B16-97F5-34507C73A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1BF5C-AEFB-44E8-90DB-C9D5510AA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806C-19B7-41F5-AE5B-C4CCD1C94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D022-B6B9-4F81-9581-6E1DC47FF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2AF-A649-4C30-AC6A-CA7376168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101F-7AF8-4CB1-81F9-0C47F83EE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D06C-56F9-49EC-8BB1-5F9553500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190A-2973-4BDE-8723-8B434AFCE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D6D21-3045-41F2-B187-2FB559393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05D1-43ED-48B0-87F3-1F985F548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11BA-5CA5-4FDB-B1C3-1BD2B0B88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57C9-B37F-45C8-A224-7B52604C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D3D4F-1EFB-4146-A787-408DBA4A3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698E-B48D-402F-B625-CF1D5B466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CCA0-AFB3-462D-8F88-E76871A4F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14440" y="1523880"/>
            <a:ext cx="8115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3040" y="761760"/>
            <a:ext cx="873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TALY, IT IS CALLED BOCCE.  WHAT IS IT CALLED IN BRITA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880920" y="762120"/>
            <a:ext cx="7382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1542960" y="4952880"/>
            <a:ext cx="605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K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1190520" y="762120"/>
            <a:ext cx="6762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NESOTA CLAIMS TO HAVE 10,000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INE  INCH)  NAI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ACKWARDS "N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505240" y="2743200"/>
            <a:ext cx="413352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28600" y="762120"/>
            <a:ext cx="68868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CKUMENTARY "THIS IS SPINAL TAP", THEIR AMPLIFIERS GO UP TO WHAT NU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PP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95280" y="762120"/>
            <a:ext cx="83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DAVID BOWIE AND JENNIFER CONNELLY, MOST OF THE CHARACTERS IN THE FILM "LABYRINTH" ARE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066680" y="762120"/>
            <a:ext cx="7010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P ON A PC OR COMMAND-P ON A MAC A SHORTCUT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90440" y="49528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OD  (AND  DRUG  ADMINISTRA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311120" y="762120"/>
            <a:ext cx="652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IN "FDA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45640" y="762120"/>
            <a:ext cx="7450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MICROSOFT'S RASTER GRAPHICS EDI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914400" y="4952880"/>
            <a:ext cx="7315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P  (O'NEIL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55760" y="762120"/>
            <a:ext cx="823248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NICK)NAME OF THE SPEAKER OF THE HOUSE OF REPRESENTATIVES 1977-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49120" y="762120"/>
            <a:ext cx="8643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ITALY, IT IS CALLED BOCCE.  WHAT IS IT CALLED IN BRITA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85680" y="4952880"/>
            <a:ext cx="8972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FINGER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457200" y="762120"/>
            <a:ext cx="8229600" cy="31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60640" y="761760"/>
            <a:ext cx="6821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INNESOTA CLAIMS TO HAVE 10,000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484200" y="762120"/>
            <a:ext cx="8174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ACKWARDS "N" STAND FOR IN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5240" y="2743200"/>
            <a:ext cx="413352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90080" y="762120"/>
            <a:ext cx="6961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OCKUMENTARY "THIS IS SPINAL TAP", THEIR AMPLIFIERS GO UP TO WHAT NU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SIDE FROM DAVID BOWIE AND JENNIFER CONNELLY, MOST OF THE CHARACTERS IN THE FILM "LABYRINTH" ARE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112400" y="761760"/>
            <a:ext cx="6916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CONTROL-P ON A PC OR COMMAND-P ON A MAC A SHORTCUT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91760" y="761760"/>
            <a:ext cx="6357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F" IN "FDA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1120" y="762120"/>
            <a:ext cx="8321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(NICK)NAME OF THE SPEAKER OF THE HOUSE OF REPRESENTATIVES 1977-198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0-12-16T13:41:26Z</dcterms:modified>
  <cp:revision>505</cp:revision>
  <dc:subject/>
  <dc:title>Slide 1</dc:title>
</cp:coreProperties>
</file>