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C77-213B-40DA-BE8E-8990885E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D98-936F-4779-A04E-77CFBC53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F414-236B-40B5-8CED-EB091D29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868-55E1-4A0E-8695-B5902F7D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E5F-6058-4E76-97F6-FB52947A0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1BDE-C8D8-4E39-A9A7-72083FC46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9DA6-8327-43F6-8C83-B6CA388F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5E0-F9CB-42E3-AD6B-58DB27CC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637-C1A8-48C6-A63B-40C9F1FD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8DD7-00D3-4D5A-9061-9E2431F2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BE0-3299-4135-9369-DEBAF0D0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B4A-78AC-4464-A61E-4AD8A705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2089-6FE2-4FA1-8A1E-E6354F65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FD4-E529-499E-9F5F-2E15941C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9FAA-FD56-4118-961C-B3AF6FCA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0134-52E0-49D6-9AC4-7A8FEA14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816-E7EE-4D50-94CA-22FC19B7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B168-8064-4B85-9503-0200D490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17F-B9FE-4391-A633-9AE508EB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49E-EE14-458B-A442-D6106365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1589-5C09-4FCB-9330-784FD9CC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2E8-A26E-4E83-81B3-146C3B2E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007A-CF48-4417-9BF2-E93DCBA3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3040" y="761760"/>
            <a:ext cx="873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90520" y="762120"/>
            <a:ext cx="676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INE  INCH)  N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28600" y="762120"/>
            <a:ext cx="68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P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  (AND  DRUG  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1120" y="762120"/>
            <a:ext cx="652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  (O'NEI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5760" y="762120"/>
            <a:ext cx="823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9120" y="762120"/>
            <a:ext cx="8643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0640" y="761760"/>
            <a:ext cx="68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4200" y="762120"/>
            <a:ext cx="817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90080" y="76212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12400" y="761760"/>
            <a:ext cx="691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91760" y="761760"/>
            <a:ext cx="635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3:41:26Z</dcterms:modified>
  <cp:revision>505</cp:revision>
  <dc:subject/>
  <dc:title>Slide 1</dc:title>
</cp:coreProperties>
</file>