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F08-0263-46BB-B364-FEADC224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3AD-029B-4615-858D-D4FB0002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ECD9-289C-4884-9D75-5B64ECB6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3B89-F43E-4B7D-A13D-3DF36CD8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55A-6648-44D2-B9F0-A5DFE6BD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1A5C-F3E0-4154-AB2C-1F253B99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4B0-8AE8-45FA-B4BE-596E27F5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574A-E3DF-49F3-93A5-3BDB829E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5159-06CC-4D10-B5ED-D6422878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A479-A0A4-4EE9-B94A-0FF102BC8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8B7-EF98-4487-9B10-95F89DEE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87F5-C65C-420C-B475-E72E16AD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A29-33FB-4C98-88D2-67D6873F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90FF-B7EE-4CE6-B207-E87ACECE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048B-5CD6-4171-9BE7-31469EFA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D9E-8C2B-4CC2-8826-E10A8B93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788-EF22-4B8C-8187-2F1C13D9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C038-601D-40B1-8931-A030A594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E3D-8137-4CC0-96CA-4BA11879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5D9-7034-4389-B4E5-0A992816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3E1C-02FE-4968-86AE-D4520D92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3419-4328-46BD-926E-0D2598050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A2A-DB0E-4A9F-9803-6683E5EA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3040" y="761760"/>
            <a:ext cx="873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90520" y="762120"/>
            <a:ext cx="676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INE  INCH)  N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28600" y="762120"/>
            <a:ext cx="68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P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  (AND  DRUG  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1120" y="762120"/>
            <a:ext cx="652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  (O'NEI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5760" y="762120"/>
            <a:ext cx="823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9120" y="762120"/>
            <a:ext cx="8643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0640" y="761760"/>
            <a:ext cx="68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4200" y="762120"/>
            <a:ext cx="817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90080" y="76212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12400" y="761760"/>
            <a:ext cx="691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91760" y="761760"/>
            <a:ext cx="635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3:41:26Z</dcterms:modified>
  <cp:revision>505</cp:revision>
  <dc:subject/>
  <dc:title>Slide 1</dc:title>
</cp:coreProperties>
</file>