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5884-FA17-43BC-9A7C-CEDD8AA54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52C0-74A3-4F3C-84E6-318D43B1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0FAC-FDE7-4CBB-8660-DA609A3C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245-6A57-4E3B-9657-0D9A89D2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58A1-86A0-4D3A-B5E5-96F4350C7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CC5B-723B-4275-A87F-EBD67DD03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4A5-3F58-4A1A-8E05-475BA52BE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E9D8-3029-4243-B94E-17B49AAC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A0A-CED0-442A-A2AF-A4FA7BA2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CF9C-5B09-42C9-8CB3-3AE884CB7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3851-32E1-4762-834A-41D9508D1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3B70-E3B2-45B2-AA41-92AFF99D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AB5-587C-4D61-900F-4D745027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054-456C-4A54-A59C-01D0F0C0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61F4-12D9-4593-917C-76296941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258E-D594-4E00-BBAD-F46C90B0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BD39-ACA5-4C8B-9D58-FB6289C2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98BE-6709-4AFA-97CF-09677260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716-C540-4AE7-976F-071ED4C6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693-7669-450D-99DB-F6E43EB8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2073-E3C3-41C3-9F78-760778F4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8AC5-579A-4DDD-BF7F-C8CD1816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4661-1220-4CC7-8068-8438FA59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ACRONYM IS USED AS AN UMBRELLA TERM FOR HOMOSEXU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2520" y="762120"/>
            <a:ext cx="82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NE IS ASSOCIATED WITH LEO IN THE ZODIAC, AND USED TO BE CONSIDERED THE JULY BIRTHSTONE BEFORE RU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SHOT AT THE END OF THE THIRD SEASON OF "DALLAS", HELPING TO POPULARIZE CLIFFHANGER SEASON FIN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MUSICAL SCALE CONTAINS EXACTLY ONE FL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C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8264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THE ROMANS WRITE THE NUMBER 6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4320" y="762120"/>
            <a:ext cx="751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PRECIOUS", FOR WHICH MO'NIQUE WON BEST ACTRESS, WAS BASED ON WHAT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WORD IN THE SLOGAN THAT "MAGA" STAND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W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200" y="762120"/>
            <a:ext cx="893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75 PLAY THAT WON A TONY FOR BEST MUSICAL, OR A 1978 FILM STARRING DIANA ROSS AND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NE IS ASSOCIATED WITH LEO IN THE ZODIAC, AND USED TO BE CONSIDERED THE JULY BIRTHSTONE BEFORE RU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JOHN CLEESE PLAY IN THE JAMES BOND FILM "DIE ANOTHER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G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ACRONYM IS USED AS AN UMBRELLA TERM FOR HOMOSEXU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28720" y="4229280"/>
            <a:ext cx="7486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SWERS  USE  EVERY  LETTER  A–Z  EXACTLY  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SHOT AT THE END OF THE THIRD SEASON OF "DALLAS", HELPING TO POPULARIZE CLIFFHANGER SEASON FIN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MUSICAL SCALE CONTAINS EXACTLY ONE FL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THE ROMANS WRITE THE NUMBER 6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PRECIOUS", FOR WHICH MO'NIQUE WON BEST ACTRESS, WAS BASED ON WHAT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WORD IN THE SLOGAN THAT "MAGA" STAND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40" y="762120"/>
            <a:ext cx="905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75 PLAY THAT WON A TONY FOR BEST MUSICAL, OR A 1978 FILM STARRING DIANA ROSS AND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JOHN CLEESE PLAY IN THE JAMES BOND FILM "DIE ANOTHER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39Z</dcterms:modified>
  <cp:revision>440</cp:revision>
  <dc:subject/>
  <dc:title>Slide 1</dc:title>
</cp:coreProperties>
</file>