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E037-F562-4BBD-B90E-B5DBCFA67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D7CA-2FAE-4B9F-9F9D-665AF709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7954-6BCC-49E2-9983-B9A4DE568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1C85-079C-4D49-9CB8-6B8758FA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56B1-A303-4792-833E-06DB1B2C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3B43-0E33-4844-8AAF-48971CE31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C9AF-3DB5-428C-AB89-72E1956F5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BDF6-05E3-42BE-B0CB-2B115E48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138E-1491-4EF4-B538-C8F556C34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8AE5-E627-4843-B05C-192ADE68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841-2665-4D6F-B231-EDD344923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5C2A-0D90-4F5A-B504-F8584DDBE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25B9-E82D-435B-BC15-18A24DD47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E2BA-E9F8-46DC-BF5F-6E9ADA31B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E929-A396-4C39-B0B7-BE648A60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55E0-8912-474A-B26C-9FB88DC88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D9F9-60A4-4959-871B-40E01191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9256-92CB-4227-8306-B7FC56271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85A5-D4D0-45F9-84D7-F750DE871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94D9-2D85-4A70-87DA-709AEE44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FC67-5B98-4C44-8EBC-EF5EACBCD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429A-F44A-4633-B13D-F5E2FD3E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FC0E-3D11-434D-976C-23A0FBC5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2520" y="762120"/>
            <a:ext cx="82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8264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4320" y="762120"/>
            <a:ext cx="751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W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200" y="762120"/>
            <a:ext cx="893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ONE IS ASSOCIATED WITH LEO IN THE ZODIAC, AND USED TO BE CONSIDERED THE JULY BIRTHSTONE BEFORE RU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G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ACRONYM IS USED AS AN UMBRELLA TERM FOR HOMOSEXU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28720" y="4229280"/>
            <a:ext cx="7486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SWERS  USE  EVERY  LETTER  A–Z  EXACTLY  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SHOT AT THE END OF THE THIRD SEASON OF "DALLAS", HELPING TO POPULARIZE CLIFFHANGER SEASON FIN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MUSICAL SCALE CONTAINS EXACTLY ONE FL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THE ROMANS WRITE THE NUMBER 6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PRECIOUS", FOR WHICH MO'NIQUE WON BEST ACTRESS, WAS BASED ON WHAT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WORD IN THE SLOGAN THAT "MAGA" STAND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40" y="762120"/>
            <a:ext cx="905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1975 PLAY THAT WON A TONY FOR BEST MUSICAL, OR A 1978 FILM STARRING DIANA ROSS AND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JOHN CLEESE PLAY IN THE JAMES BOND FILM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39Z</dcterms:modified>
  <cp:revision>440</cp:revision>
  <dc:subject/>
  <dc:title>Slide 1</dc:title>
</cp:coreProperties>
</file>