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5DF1-088B-4E24-A0B2-23D01B3D3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72EB-5F18-4AD5-A4A7-F22054A1E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36E6-5B38-434F-82AF-4815FBD14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2134-68A7-4BBE-A444-DB12ADCA7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58BA-38CA-4F55-AFF5-5D0CB91B5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E2DD-B566-45DC-80D7-9D7D55677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31B8-6116-44AC-85B0-D94327BC3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0205-9201-4FC4-B126-70F9F1252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98DF-D297-4F34-A9D2-0529D52A1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9A72-F446-4AA6-BCED-3ED0B46E9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2C05-8E4B-40E7-B05D-CC6B03234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4217-4ACB-4BD5-B54D-0450DEB6D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64E6-C64B-4931-9CC9-0BC719ABF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1881-98F0-4BAD-BD0A-D45AC9C7E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9792-939C-4684-AC3C-E08A8A61E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3407-A33E-4503-A7EA-60127EEA1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3643-FAD6-4F45-BDDC-1DB6789D7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42E3-FECA-4756-BD2C-63CF8473E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1FBE-60A7-4246-B8AC-21CE3CC17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F35C-84F5-4BDC-AB43-5F191865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3FB0-1C39-4151-8102-2546E4EF9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6609-8E71-448D-A86C-BA73EDA87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E6A6-6AFB-4BD5-9807-62A07F234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ACRONYM IS USED AS AN UMBRELLA TERM FOR HOMOSEXU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Y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2520" y="762120"/>
            <a:ext cx="8238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ONE IS ASSOCIATED WITH LEO IN THE ZODIAC, AND USED TO BE CONSIDERED THE JULY BIRTHSTONE BEFORE RU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.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WAS SHOT AT THE END OF THE THIRD SEASON OF "DALLAS", HELPING TO POPULARIZE CLIFFHANGER SEASON FIN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JOR MUSICAL SCALE CONTAINS EXACTLY ONE FL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C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71640" y="78264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THE ROMANS WRITE THE NUMBER 6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14320" y="762120"/>
            <a:ext cx="751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PRECIOUS", FOR WHICH MO'NIQUE WON BEST ACTRESS, WAS BASED ON WHAT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19000" y="762120"/>
            <a:ext cx="7506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ORTEST WORD IN THE SLOGAN THAT "MAGA" STAND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)  W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6200" y="762120"/>
            <a:ext cx="893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1975 PLAY THAT WON A TONY FOR BEST MUSICAL, OR A 1978 FILM STARRING DIANA ROSS AND MICHAEL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66640" y="762120"/>
            <a:ext cx="801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ONE IS ASSOCIATED WITH LEO IN THE ZODIAC, AND USED TO BE CONSIDERED THE JULY BIRTHSTONE BEFORE RUB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JOHN CLEESE PLAY IN THE JAMES BOND FILM "DIE ANOTHER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G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ACRONYM IS USED AS AN UMBRELLA TERM FOR HOMOSEXU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28720" y="4229280"/>
            <a:ext cx="7486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NSWERS  USE  EVERY  LETTER  A–Z  EXACTLY  O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WAS SHOT AT THE END OF THE THIRD SEASON OF "DALLAS", HELPING TO POPULARIZE CLIFFHANGER SEASON FIN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JOR MUSICAL SCALE CONTAINS EXACTLY ONE FL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THE ROMANS WRITE THE NUMBER 6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PRECIOUS", FOR WHICH MO'NIQUE WON BEST ACTRESS, WAS BASED ON WHAT 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ORTEST WORD IN THE SLOGAN THAT "MAGA" STANDS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40" y="762120"/>
            <a:ext cx="905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1975 PLAY THAT WON A TONY FOR BEST MUSICAL, OR A 1978 FILM STARRING DIANA ROSS AND MICHAEL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JOHN CLEESE PLAY IN THE JAMES BOND FILM "DIE ANOTHER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1:39Z</dcterms:modified>
  <cp:revision>440</cp:revision>
  <dc:subject/>
  <dc:title>Slide 1</dc:title>
</cp:coreProperties>
</file>