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AF7-4C13-4F2F-82B6-9272BC09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513-C508-4465-8642-B4C0CE8A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6B87-BB95-46A2-BAD6-64170ACD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12B-63B1-477A-8604-06E54040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833-B384-4877-8435-2A04B94B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006-862D-4678-953F-43C488A1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82EF-1B6C-415A-B5F6-DA6D5FD5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AA9-5B23-4779-A861-641C762B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4106-2E9E-44F6-9FFB-A790C5BC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123-89CE-42D0-947D-C6995FAF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E66-883A-4597-96FE-A4AD1F0F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30D-0168-47C2-9A3E-89547B2C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A03D-C9A5-4193-8A66-099E0411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88B-06DE-407E-9694-6BBB80BC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6117-9E9C-437A-8F9B-7107EF90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5683-7A12-4BB1-A1F3-364988EA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994B-8CDD-46EE-A19C-BA5094DC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451-729C-4BBB-B7C3-6D9D8FB4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46BA-8F2B-4EFC-BE05-EF8B6A02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933-F731-49AF-B39A-6CBE23A02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615-C2C6-4246-811F-9C2D795F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EA8-D743-4603-81D8-D96F4FB0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4D38-E0DA-4D35-8D6C-3460087B2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D9C2-57A6-4107-9989-539F5172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838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ELTON JOHN'S 2017 "ULTIMATE GREATEST HITS" ALBUM, AND SOMETHING HE WEARS TO CONCERTS OF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1080" y="762120"/>
            <a:ext cx="698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A CARD THAT WILL TURN A LOSING HAND INTO A WINNING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E CREAM SHOP USED TO BE AT 115 E. RICH AVE. BUT IS NOW AT 1200 N. WOODLAND BLVD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84360" y="762120"/>
            <a:ext cx="777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GAL TERM FOR UNLAWFUL OFFENSIVE PHYSICAL CONT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3880" y="762120"/>
            <a:ext cx="78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GAME OF BOWLING, WHAT CAN YOU NOT GET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85960" y="773280"/>
            <a:ext cx="737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FATHER OF BART, LISA, AND MAG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GOO GOO DOLLS' SECOND #1 SONG, AFTER "I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GENERALLY BELOW PRINCE OR MARQUIS BUT ABOVE KNIGHT OR BA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38360" y="762120"/>
            <a:ext cx="76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DENNY'S CALL AN ORDER OF 2 PANCAKES, 2 EGGS, 2 BACON STRIPS, AND 2 SAUSAGE L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ELTON JOHN'S 2017 "ULTIMATE GREATEST HITS" ALBUM, AND SOMETHING HE WEARS TO CONCERTS OF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84320" y="762120"/>
            <a:ext cx="697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A CARD THAT WILL TURN A LOSING HAND INTO A WINNING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E CREAM SHOP USED TO BE AT 115 E. RICH AVE. BUT IS NOW AT 1200 N. WOODLAND BLVD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GAL TERM FOR UNLAWFUL OFFENSIVE PHYSICAL CONT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GAME OF BOWLING, WHAT CAN YOU NOT GET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FATHER OF BART, LISA, AND MAGG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GOO GOO DOLLS' SECOND #1 SONG, AFTER "IR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GENERALLY BELOW PRINCE OR MARQUIS BUT ABOVE KNIGHT OR BA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3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DENNY'S CALL AN ORDER OF 2 PANCAKES, 2 EGGS, 2 BACON STRIPS, AND 2 SAUSAGE L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5:31Z</dcterms:modified>
  <cp:revision>456</cp:revision>
  <dc:subject/>
  <dc:title>Slide 1</dc:title>
</cp:coreProperties>
</file>