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07DF-9CDD-4F7B-9F77-2933ADB1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7ED-86A9-4321-9535-15CE23898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B92-2022-4B49-8794-92D5DBAF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0C25-D3F1-4B76-A5BA-2DA18298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B645-CA2D-4F78-82C7-36F3C6177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F87-0648-45FB-BA56-FC21075C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EEEB-052D-43BB-8813-A8C0F5A6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F1F0-D8B8-4E9F-95AA-495CF6B2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4E75-6172-47FD-A3B9-5BD9286AA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5DAE-9703-4026-986A-15904AED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D72D-B6C2-4A24-8EFB-FD653010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D236-20D3-4177-8FA1-F6D8B8957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498ED-D138-452F-AFED-35FBA7C77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7A9-F21B-4CF4-A805-3448F81C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10C4-6BF5-40F5-A7F8-1011A6CA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0A8B-222A-4EEF-86EA-9BAD4A658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FCC6-503E-4497-8230-0408EEC7A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19FF-2550-40A2-9584-A2AAD0C31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A2B4-9B8F-4B7D-A715-12DA2427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5D5E-0E80-4CB9-B6D6-B44212E2D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CA94-90D4-4D19-95CB-352238E4B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1499-AFB5-4732-89D5-82413421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C21A-0DF2-4E90-8027-09D4FC595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3721-4415-4D96-8ACC-2B3B26CD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838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81080" y="762120"/>
            <a:ext cx="698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84360" y="762120"/>
            <a:ext cx="777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3880" y="762120"/>
            <a:ext cx="78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85960" y="773280"/>
            <a:ext cx="737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38360" y="762120"/>
            <a:ext cx="76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ELTON JOHN'S 2017 "ULTIMATE GREATEST HITS" ALBUM, AND SOMETHING HE WEARS TO CONCERTS OF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84320" y="762120"/>
            <a:ext cx="697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E CREAM SHOP USED TO BE AT 115 E. RICH AVE. BUT IS NOW AT 1200 N. WOODLAND BLVD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GAL TERM FOR UNLAWFUL OFFENSIVE PHYSICAL CONT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GAME OF BOWLING, WHAT CAN YOU NOT GET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FATHER OF BART, LISA, AND MAGG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GOO GOO DOLLS' SECOND #1 SONG, AFTER "IR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GENERALLY BELOW PRINCE OR MARQUIS BUT ABOVE KNIGHT OR BA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3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DENNY'S CALL AN ORDER OF 2 PANCAKES, 2 EGGS, 2 BACON STRIPS, AND 2 SAUSAGE L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5:31Z</dcterms:modified>
  <cp:revision>456</cp:revision>
  <dc:subject/>
  <dc:title>Slide 1</dc:title>
</cp:coreProperties>
</file>