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7383-C3DA-44E8-89BC-8D854BE0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2A4-F9EE-4E3B-A798-FB9DE52FA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2A92-18D8-468A-9287-14A7669A5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B7BE-29BB-46A2-AC78-0FEA664F4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D3D7-4AE1-46A5-86E6-0309E5D3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024B-8AA2-41E1-9133-72DE36D02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97E-EEFF-4CF5-BB3A-427E7EF79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59CE-2CAA-434F-B482-B87BA8F2F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7A0B-7C18-4DD6-B8B1-0E1D1BED3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5FE8-967F-4285-A097-80DA11D6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8693-AFA1-40FD-B40F-745EDDE6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25AF-DCEE-49BC-BA3A-9A4876CB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3547-1B99-4A68-8469-C2DFBCE4C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26D5-4C93-499A-91C7-3D394D981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4D36-2FAB-40A2-9B41-4FB01620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D659-B3A9-49B5-B335-7AFBF125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C2BD-EAE5-40DB-A32F-39B26AE5E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F803-C9D2-4E66-BF3B-3FE743BA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42E8-111E-4565-A0B2-606128C92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BD49-ECF8-42BC-8AB0-B8A6A829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5D1B-1404-4E79-AF10-0153BE2EB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A71A-F3AE-4F75-98A6-89ECBCF3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A836-D4E5-4ACD-A0EF-A96B94EE3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B8A7-A3E2-4FB1-A2C2-BF03825C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838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ELTON JOHN'S 2017 "ULTIMATE GREATEST HITS" ALBUM, AND SOMETHING HE WEARS TO CONCERTS OF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1080" y="762120"/>
            <a:ext cx="698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A CARD THAT WILL TURN A LOSING HAND INTO A WINNING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S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E CREAM SHOP USED TO BE AT 115 E. RICH AVE. BUT IS NOW AT 1200 N. WOODLAND BLVD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84360" y="762120"/>
            <a:ext cx="777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GAL TERM FOR UNLAWFUL OFFENSIVE PHYSICAL CONT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23880" y="762120"/>
            <a:ext cx="7896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GAME OF BOWLING, WHAT CAN YOU NOT GET MORE THAN 12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85960" y="773280"/>
            <a:ext cx="737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FATHER OF BART, LISA, AND MAG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GOO GOO DOLLS' SECOND #1 SONG, AFTER "I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GENERALLY BELOW PRINCE OR MARQUIS BUT ABOVE KNIGHT OR BA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38360" y="762120"/>
            <a:ext cx="76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DENNY'S CALL AN ORDER OF 2 PANCAKES, 2 EGGS, 2 BACON STRIPS, AND 2 SAUSAGE LI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ELTON JOHN'S 2017 "ULTIMATE GREATEST HITS" ALBUM, AND SOMETHING HE WEARS TO CONCERTS OF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84320" y="762120"/>
            <a:ext cx="697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A CARD THAT WILL TURN A LOSING HAND INTO A WINNING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E CREAM SHOP USED TO BE AT 115 E. RICH AVE. BUT IS NOW AT 1200 N. WOODLAND BLVD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GAL TERM FOR UNLAWFUL OFFENSIVE PHYSICAL CONT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GAME OF BOWLING, WHAT CAN YOU NOT GET MORE THAN 12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FATHER OF BART, LISA, AND MAGG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GOO GOO DOLLS' SECOND #1 SONG, AFTER "IR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GENERALLY BELOW PRINCE OR MARQUIS BUT ABOVE KNIGHT OR BA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39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DENNY'S CALL AN ORDER OF 2 PANCAKES, 2 EGGS, 2 BACON STRIPS, AND 2 SAUSAGE LI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5:31Z</dcterms:modified>
  <cp:revision>456</cp:revision>
  <dc:subject/>
  <dc:title>Slide 1</dc:title>
</cp:coreProperties>
</file>