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90EC-F205-45F2-9EB1-B4CD3FC47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303F-25FF-4BC8-B663-0027CBB38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C109-9D0C-48B9-ACD4-2BD364AEF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D2CB-60F7-458E-8F07-3D4BDE705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37AE-7D10-48C1-877E-F1C13A33F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F965-ED56-4196-B744-4015C2433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B4AF-0646-469C-95CB-E33961ACF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6F49-6834-4B6B-B31D-340B1AF88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662D-3C7C-4D17-A8B8-31D72376C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5479-ACBB-40E6-8CBF-71E7E548A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E3AA-E99B-4947-8D2A-D91A4A39B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DCBB-B871-4CE5-9CE5-559D7E5FD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9912-4FED-4C11-A13D-337ADCFB7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AF3A-22F6-456B-82E8-F7CB9E00C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7005-32E6-4CC0-A348-9346A8E0B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7CA4-6D30-4BF3-9BF6-8DF67517E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9014-B5C1-4990-8043-1694F902B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10ED-A41F-4C6B-A080-2A3691749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8263-22EF-478F-8605-567C6DD19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FDB9-D555-4A53-8942-82ADA19D2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E6BC-237C-4DFE-A295-7985E7F0A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984C-ABDA-4652-B40F-FDA1793FC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23DD-76CA-4F4C-8305-D5AE53169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7240" y="990720"/>
            <a:ext cx="3903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HAD THIS MOVIE PO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029200" y="380880"/>
            <a:ext cx="377676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28720" y="762120"/>
            <a:ext cx="7486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CHNICALLY, IS A PUMPKIN A FRUIT OR A VEGET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4842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N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968400" y="762120"/>
            <a:ext cx="7205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NGUAGE WAS "ONE HUNDRED YEARS OF SOLITUDE" ORIGINALLY WRITTEN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700200" y="762120"/>
            <a:ext cx="7743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GENERIC TERM FOR "SOFT DRINK" IN THE MIDWEST AND NORTHWEST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343160" y="782640"/>
            <a:ext cx="64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THER'S DAY IS IN WHAT MON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89120" y="762120"/>
            <a:ext cx="7565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ABOUT DRUG TRAFFICKING STARRED JOHNNY DEPP AND PENÉLOPE CRU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246320" y="762120"/>
            <a:ext cx="6651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HINESE ZODIAC, 2014 WAS THE YEAR   OF WHAT ANI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333440" y="4876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17440" y="762120"/>
            <a:ext cx="8709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BEOWULF", THE TITLE CHARACTER DEFEATS GRENDEL, GRENDEL'S MOTHER, AND WHAT OTHER CRE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4360" y="762120"/>
            <a:ext cx="7773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CHNICALLY, IS A PUMPKIN A FRUIT OR A VEGETA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04640" y="762120"/>
            <a:ext cx="8334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I HENDRIX SONG BEGINS "YOU DON'T CARE FOR ME, I DON'T A CARE ABOUT THAT, YOU GOT A NEW FOOL, HA! I LIKE TO LAUGH 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57200" y="990720"/>
            <a:ext cx="381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5029200" y="380880"/>
            <a:ext cx="377676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671480" y="4343400"/>
            <a:ext cx="5801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FL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53640" y="761760"/>
            <a:ext cx="7234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NGUAGE WAS "ONE HUNDRED YEARS OF SOLITUDE" ORIGINALLY WRITTEN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GENERIC TERM FOR "SOFT DRINK" IN THE MIDWEST AND NORTHWEST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00240" y="762120"/>
            <a:ext cx="6743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THER'S DAY IS IN WHAT MON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ABOUT DRUG TRAFFICKING STARRED JOHNNY DEPP AND PENÉLOPE CRU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66840" y="761760"/>
            <a:ext cx="6610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HINESE ZODIAC, 2014 WAS THE YEAR   OF WHAT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33280" y="762120"/>
            <a:ext cx="8677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BEOWULF", THE TITLE CHARACTER DEFEATS GRENDEL, GRENDEL'S MOTHER, AND WHAT OTHER CREA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10760" y="762120"/>
            <a:ext cx="8319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I HENDRIX SONG BEGINS "YOU DON'T CARE FOR ME, I DON'T A CARE ABOUT THAT, YOU GOT A NEW FOOL, HA! I LIKE TO LAUGH 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3:45:46Z</dcterms:modified>
  <cp:revision>449</cp:revision>
  <dc:subject/>
  <dc:title>Slide 1</dc:title>
</cp:coreProperties>
</file>