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4D29-521E-4307-A6A5-E6089B9E9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5B59-1D97-4D25-AD18-E7050160F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5BD7-9104-4F80-BC95-274CBE17E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8CF1-08CC-4621-B2B5-C566AAE88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7809-CE9E-4FED-9CF4-6D6ABDE47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914F-8687-4D19-88BC-A7957551F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6639-EF9A-4F0B-AE96-515A8A997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3307-AE9D-428A-8C37-8A91609B1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EA1D-D039-4B65-ABE1-ADB8B2F96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DC94-0338-47C2-9723-55C37BA1E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4D35-64AE-4907-B135-C842695B2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2579-C791-43F8-94A5-F8989D06E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6BE1-DF7C-4565-A591-08E974A1F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2CD3-6272-423E-B00A-C41600BD2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9683-4DBA-426D-9BC1-AB34FEB7E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92D7-576B-44DE-B36D-3C867F6F4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2C6E-D242-43FD-986A-CDB97B3C9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8680-04DF-4FF4-BBF2-A43798C1D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9468-C4DF-4AD8-9DF8-4DB28F8CE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0644-6617-412B-BFB4-CCFCC0ACD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F80D-EA6A-4F70-8DE7-593CF4AF2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C600-D33B-46EF-95D3-84F2F15EF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3340-5FCD-486A-B661-B2FB72E63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7240" y="990720"/>
            <a:ext cx="3903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77676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28720" y="762120"/>
            <a:ext cx="7486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ICALLY, IS A PUMPKIN A FRUIT OR A VEGE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4842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N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68400" y="762120"/>
            <a:ext cx="7205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NGUAGE WAS "ONE HUNDRED YEARS OF SOLITUDE" ORIGINALLY WRITTEN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00200" y="762120"/>
            <a:ext cx="7743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GENERIC TERM FOR "SOFT DRINK" IN THE MIDWEST AND NORTHWEST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343160" y="782640"/>
            <a:ext cx="64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'S DAY IS IN WHAT MON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89120" y="762120"/>
            <a:ext cx="7565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DRUG TRAFFICKING STARRED JOHNNY DEPP AND PENÉLOPE CRU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246320" y="762120"/>
            <a:ext cx="6651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NESE ZODIAC, 2014 WAS THE YEAR   OF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17440" y="762120"/>
            <a:ext cx="8709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BEOWULF", THE TITLE CHARACTER DEFEATS GRENDEL, GRENDEL'S MOTHER, AND WHAT OTHER CRE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762120"/>
            <a:ext cx="777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ICALLY, IS A PUMPKIN A FRUIT OR A VEGET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04640" y="762120"/>
            <a:ext cx="8334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BEGINS "YOU DON'T CARE FOR ME, I DON'T A CARE ABOUT THAT, YOU GOT A NEW FOOL, HA! I LIKE TO LAUGH 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57200" y="990720"/>
            <a:ext cx="381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77676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671480" y="4343400"/>
            <a:ext cx="5801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FL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3640" y="761760"/>
            <a:ext cx="7234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NGUAGE WAS "ONE HUNDRED YEARS OF SOLITUDE" ORIGINALLY WRITTEN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GENERIC TERM FOR "SOFT DRINK" IN THE MIDWEST AND NORTHWEST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'S DAY IS IN WHAT MON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DRUG TRAFFICKING STARRED JOHNNY DEPP AND PENÉLOPE CRU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66840" y="761760"/>
            <a:ext cx="6610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NESE ZODIAC, 2014 WAS THE YEAR   OF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33280" y="762120"/>
            <a:ext cx="8677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BEOWULF", THE TITLE CHARACTER DEFEATS GRENDEL, GRENDEL'S MOTHER, AND WHAT OTHER CRE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0760" y="762120"/>
            <a:ext cx="8319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BEGINS "YOU DON'T CARE FOR ME, I DON'T A CARE ABOUT THAT, YOU GOT A NEW FOOL, HA! I LIKE TO LAUGH 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5:46Z</dcterms:modified>
  <cp:revision>449</cp:revision>
  <dc:subject/>
  <dc:title>Slide 1</dc:title>
</cp:coreProperties>
</file>