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77DB-D1B6-4C89-A187-8962C9FF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05BF-BC9F-46CC-9EF4-D7291819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95C-6FB1-49E4-927E-BE141406C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BC07-A69A-49AE-80EF-1355176E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BAD-CFED-43CF-97A0-CE00AA1B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5FE-19A6-4C91-B76D-03C8B975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B25-9F94-4252-BC65-9B636224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6F5-7420-4495-9BCF-46F80F8B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4DFB-D847-444D-918E-B58584B3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1108-4AEF-40FB-8E58-B539EE35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0AE1-B121-426C-903B-FAD13C6E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B575-D5A7-4739-B981-E2A1F210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832F-F69E-48FE-8229-D295806A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4BD-2471-4368-AA59-E4B73759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4DBF-BD42-4038-B9B4-DD71586A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3137-EC10-4314-B545-AB725E54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F23C-7E7E-4D75-B487-3E998440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24A7-3C24-41EB-8E9C-499B82FA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4A8A-2851-4539-8F1C-E4124E12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0F7-BA01-4C6D-839F-9CA01B17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F99A-8F22-4681-9B2E-46CC75D5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BA8A-9048-4BB2-B814-4EB08807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65C-2BF6-4DC0-A885-AB2C062E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7240" y="990720"/>
            <a:ext cx="3903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8720" y="762120"/>
            <a:ext cx="748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42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68400" y="762120"/>
            <a:ext cx="72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00200" y="762120"/>
            <a:ext cx="77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43160" y="78264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46320" y="762120"/>
            <a:ext cx="6651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7440" y="762120"/>
            <a:ext cx="8709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04640" y="762120"/>
            <a:ext cx="833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990720"/>
            <a:ext cx="381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71480" y="4343400"/>
            <a:ext cx="5801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1760"/>
            <a:ext cx="7234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0760" y="762120"/>
            <a:ext cx="8319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46Z</dcterms:modified>
  <cp:revision>449</cp:revision>
  <dc:subject/>
  <dc:title>Slide 1</dc:title>
</cp:coreProperties>
</file>