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119A-F17C-497C-989D-B5AD6A01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E3F6-C779-4A8F-8B63-ECCBAB217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3107-D628-4397-A126-00CE8BBE1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0B19-3896-4702-8EBB-6373121AE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B2A1-3B9E-45A9-8AFA-E0B22DEB5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A925-F887-41F9-9069-061C5E4F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1FC2-3058-4BBF-B288-C1E3D3876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6D9D-3B97-4A7F-BF68-F46EA523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F3CC-3415-4FB7-923A-F34B8685E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FE6C-AB08-415D-9436-7E7EC6C59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E505-0F93-4587-B031-888767767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EA4A-DA07-4A66-9D5C-9C7123F9A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472A-FE55-43A9-8685-AC6195666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422A-64A1-4734-AEBA-702DC4A16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62B9-67D5-48E7-A223-354A9B6F6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2C78-46C5-457E-A3BA-1D39638A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3F65-2531-4BA3-B9B8-86EEF7B3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0FF2-0D02-452A-B14E-404660D1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ABC7-FEEB-467F-8F86-E1CCEE929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EC15-6C89-496E-96A7-31E66322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6378-4514-4011-AB96-4798ABE53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664D-4F7B-44D1-A2FD-D613C51F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48D9-87CA-4E1C-8EF5-CB11CB88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77800" y="762120"/>
            <a:ext cx="618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TURKISH FLAG BESIDES A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33520" y="990720"/>
            <a:ext cx="390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JUGGLING PATTER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12408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STARRED ROBIN WILLIAMS AS PETER PAN AND JULIA ROBERTS AS TINKER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IG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2860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DID A PRINTER MAKE AN IMPULSIVE DECISION TO PRINT ON PENNANTS FOR THE UNIVERSITY OF FLORIDA FOOTBALL TEAM IN 19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28560" y="76356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USUALLY DENOTED 𝝉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CARRY WITH GREAT EFFORT" OR "AN UNCOUTH AGGRESSIVE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RING IN ABOUT 3%   OF DENTAL EXTRACTIONS, ALVEOLAR OSTEITIS IS ALSO KNOWN AS DRY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55600" y="762120"/>
            <a:ext cx="8632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76ERS GUARD IVERSON WHO WAS AN 11-TIME ALL-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381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JUGGLING PATTER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12408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09800" y="762120"/>
            <a:ext cx="7124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GEORGE MICHAEL WAS THE NAME OF AN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S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81040" y="762120"/>
            <a:ext cx="6181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TURKISH FLAG BESIDES A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W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STARRED ROBIN WILLIAMS AS PETER PAN AND JULIA ROBERTS AS TINKER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DID A PRINTER MAKE AN IMPULSIVE DECISION TO PRINT ON PENNANTS FOR THE UNIVERSITY OF FLORIDA FOOTBALL TEAM IN 19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USUALLY DENOTED 𝝉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CARRY WITH GREAT EFFORT" OR "AN UNCOUTH AGGRESSIVE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RING IN ABOUT 3%   OF DENTAL EXTRACTIONS, ALVEOLAR OSTEITIS IS ALSO KNOWN AS DRY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3280" y="762120"/>
            <a:ext cx="867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76ERS GUARD IVERSON WHO WAS AN 11-TIME ALL-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82800" y="762120"/>
            <a:ext cx="71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GEORGE MICHAEL WAS THE NAME OF AN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6:07Z</dcterms:modified>
  <cp:revision>451</cp:revision>
  <dc:subject/>
  <dc:title>Slide 1</dc:title>
</cp:coreProperties>
</file>