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4E6-5CD8-4309-B67F-BA28A6F4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067-54CA-4A45-9DFA-95D14D7C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8601-6B3D-42C1-99AA-C6E6CFCB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864-3D8D-4622-89D7-089C14E9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4BC-F7C7-4C37-B232-D1589D98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997-4D27-4FEE-A22B-CD7D37DA5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5C6D-5F2D-4A4E-894C-98B273FB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32C1-85E7-4727-B036-E6BF3615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68D-1AAC-4B5F-9738-2345118B6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4F26-6F88-4ADD-9EEF-D0531B31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61F3-37DA-4AE4-AA7F-B1FA84E1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CB5A-1AAC-40B3-BF2A-465C3E16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860-D677-4D66-BF22-21C8E19A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3F4-066B-42FC-8C7E-D4D96997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4898-D56D-400C-9D68-83DD44B0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BDF2-E49B-4167-A5F4-FE8F1B22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D78F-1707-45DB-A1B6-30AA9AF4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011-820D-4F2C-B90F-C086D7968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1B55-1772-4471-BBB7-8F713E2C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9FBA-4FE7-4EB7-B84A-0AE3A394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519A-CB97-485E-BE64-8448FDF3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5B6-C180-4794-B516-C52A011F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3F4B-F9A6-4380-AF94-A9B34EC3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7800" y="762120"/>
            <a:ext cx="618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990720"/>
            <a:ext cx="390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G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8560" y="76356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55600" y="762120"/>
            <a:ext cx="863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381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1040" y="762120"/>
            <a:ext cx="61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W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1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6:07Z</dcterms:modified>
  <cp:revision>451</cp:revision>
  <dc:subject/>
  <dc:title>Slide 1</dc:title>
</cp:coreProperties>
</file>