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2D96-F607-4BF8-A63E-4430893D1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3B21-7B0D-4366-AEBC-69AA7A2FF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87CB-F8E4-49ED-BCC8-3667C063F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4B78-18E7-43AC-B439-710516A78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D7E5-4319-49D0-A7DA-465F0CC1B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A268-C8BE-49CE-9294-915952923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4E55-7251-479C-9ADC-1F4DA7CB1D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7908-BC46-49EE-B481-EFDA87ED8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DF81-43D9-4F7E-80F6-ABB89D5F0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669B-1935-4951-AE5D-BBF0BD320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89F3-B583-4583-BF8A-24BE99908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2027-86A1-4E5F-B1FB-901925E42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4A92-5F17-4E12-B310-9885EF655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D3C0-64A5-4FE7-8569-FFA1ABDD8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D2DB-4F5E-4EE8-ADFC-AAEBD1ABD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15C3-9DA7-4397-B5DE-02F3C9402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4719-6EED-41DA-A1CF-EA580E2D43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129A5-944D-466B-B9F9-DC7C12D03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FA46-B9E4-4B54-B11C-1A64DAFCC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4E6C1-6265-4A12-B6EA-B2F21D45E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2BBD-8761-444D-A0CD-432911CE7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A115-FB94-48AA-B2C0-09CF5104E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FD81-C2E6-4FD9-9571-7AB70D6BD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523880" y="1523880"/>
            <a:ext cx="6096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477800" y="762120"/>
            <a:ext cx="6188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ON THE TURKISH FLAG BESIDES A 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33520" y="990720"/>
            <a:ext cx="39052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JUGGLING PATTERN CALL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5257800" y="838080"/>
            <a:ext cx="312408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486080" y="4876920"/>
            <a:ext cx="6172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3400" y="762120"/>
            <a:ext cx="7477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ILM STARRED ROBIN WILLIAMS AS PETER PAN AND JULIA ROBERTS AS TINKER BEL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80880" y="4876920"/>
            <a:ext cx="8382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IGA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28600" y="762120"/>
            <a:ext cx="8686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DID A PRINTER MAKE AN IMPULSIVE DECISION TO PRINT ON PENNANTS FOR THE UNIVERSITY OF FLORIDA FOOTBALL TEAM IN 19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343080" y="489744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ORQ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628560" y="763560"/>
            <a:ext cx="788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USUALLY DENOTED 𝝉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3000" y="4876920"/>
            <a:ext cx="6858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69720" y="762120"/>
            <a:ext cx="84045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"CARRY WITH GREAT EFFORT" OR "AN UNCOUTH AGGRESSIVE MA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662040" y="762120"/>
            <a:ext cx="7819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CCURRING IN ABOUT 3%   OF DENTAL EXTRACTIONS, ALVEOLAR OSTEITIS IS ALSO KNOWN AS DRY WHA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333440" y="4876920"/>
            <a:ext cx="6477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255600" y="762120"/>
            <a:ext cx="86328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76ERS GUARD IVERSON WHO WAS AN 11-TIME ALL-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609480" y="990720"/>
            <a:ext cx="3811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IS JUGGLING PATTERN CALL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5257800" y="838080"/>
            <a:ext cx="3124080" cy="364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K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09800" y="762120"/>
            <a:ext cx="71244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GEORGE MICHAEL WAS THE NAME OF AN ANIM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RESC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1481040" y="762120"/>
            <a:ext cx="61819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PPEARS ON THE TURKISH FLAG BESIDES A 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752400" y="4876920"/>
            <a:ext cx="763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S  OF  WREN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66800" y="761760"/>
            <a:ext cx="7610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1 FILM STARRED ROBIN WILLIAMS AS PETER PAN AND JULIA ROBERTS AS TINKER BEL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228600" y="762120"/>
            <a:ext cx="8686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NIMAL DID A PRINTER MAKE AN IMPULSIVE DECISION TO PRINT ON PENNANTS FOR THE UNIVERSITY OF FLORIDA FOOTBALL TEAM IN 19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QUANTITY IN PHYSICS IS USUALLY DENOTED 𝝉 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4000" y="762120"/>
            <a:ext cx="84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ORD CAN MEAN "CARRY WITH GREAT EFFORT" OR "AN UNCOUTH AGGRESSIVE MA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57360" y="761760"/>
            <a:ext cx="7829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CCURRING IN ABOUT 3%   OF DENTAL EXTRACTIONS, ALVEOLAR OSTEITIS IS ALSO KNOWN AS DRY WHA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33280" y="762120"/>
            <a:ext cx="8677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FIRST NAME OF THE 76ERS GUARD IVERSON WHO WAS AN 11-TIME ALL-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82800" y="762120"/>
            <a:ext cx="71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#1 SONG BY GEORGE MICHAEL WAS THE NAME OF AN ANIM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13:38:10Z</dcterms:created>
  <dc:creator>Jennifer Budzinski</dc:creator>
  <dc:description/>
  <dc:language>en-US</dc:language>
  <cp:lastModifiedBy>Erich Friedman</cp:lastModifiedBy>
  <dcterms:modified xsi:type="dcterms:W3CDTF">2020-12-16T13:46:07Z</dcterms:modified>
  <cp:revision>451</cp:revision>
  <dc:subject/>
  <dc:title>Slide 1</dc:title>
</cp:coreProperties>
</file>