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B49-EA24-4EB5-AB8C-16F22393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011-F59A-4D9E-A959-3E54C252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DD9-1DCB-48EE-AC2F-EEF2407C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6E94-CDBB-4B8F-9518-0AA549B6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28C-642A-4D21-8A88-9B3B5785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7AB-7216-4C97-8807-75565531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64D7-ED97-4EA4-AED2-768D4257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7B2-4405-44BB-B8BC-715F7B91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1FD-2338-4978-860B-2287A137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572-C9B1-4262-962A-BAC1AD99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78A-C1F1-4F13-9D9D-9B405D2D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70F-EECD-4D00-BD8B-E06F2D79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1702-340B-4BFE-9F78-94F471F7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717F-7D45-4241-BCBB-0B890965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2A0-3B3D-4F74-B0DC-42CB776A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159-AD7A-47DA-B864-76B0698F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319C-D38A-464A-9489-840E8CF7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26A7-CC8D-4AF2-8A9E-E93B7FAC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C91-1EBA-498A-90B2-966D58E71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54C9-9BAA-438A-8D72-B90F787E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3F36-A792-41C9-A599-995511DE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ADF-EF8C-4E99-BEC3-94D49448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418-CCDB-4586-B943-93A07DBD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  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RUSH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EGRIN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A  STATE 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3:07:57Z</dcterms:created>
  <dc:creator>Jennifer Budzinski</dc:creator>
  <dc:description/>
  <dc:language>en-US</dc:language>
  <cp:lastModifiedBy>Erich Friedman</cp:lastModifiedBy>
  <dcterms:modified xsi:type="dcterms:W3CDTF">2020-08-24T17:55:10Z</dcterms:modified>
  <cp:revision>364</cp:revision>
  <dc:subject/>
  <dc:title>Slide 1</dc:title>
</cp:coreProperties>
</file>