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0476-5DED-4A94-8561-5A5A7874D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1136-E9CA-4942-8B0C-E3D99D99F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D8F1-467E-459B-8EFB-F5230319E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37A9-91C7-4E64-99A2-0CD65B590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7F15-3665-4A92-A3B0-B39B362BD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6CFF-1972-41B0-AFC5-FC555683F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33FE-010D-4712-8822-07AD88F2F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DCB3-E01D-4E05-B929-50552B6ED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E17A-824D-4676-B1A2-B4C2BCFBA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1FF5-0455-45AF-9A02-87F085E50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C590-6D2D-49AA-AEE9-8CFBF84CA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AFDE-7ACB-4D7E-9549-6CB471941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D63F-C8CA-497E-A020-67DC7DFDC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1CE5-5921-4FC2-A71E-804245A26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8DED-07D5-4272-BAB7-4ADA8B0B7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14D9-0C77-4658-841A-E18549EF7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2773-EDDD-4EEF-AEC9-A6B8109F6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1D9E-6639-4C20-9B2B-E45B73F60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89D3-46E1-4BB4-BD00-A30B9A804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2D8E-4361-4359-AFB6-D7135E40D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BD7A-6871-4136-9802-8D6C95C82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5E30-E74A-4AE6-A8F8-511E2C323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FE95-790B-48D8-ABF5-BC0CAC652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STEST MEMBER OF THE ANIMAL KINGDOM, CLOCKED AT 242 MILES PER HOU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43000" y="762120"/>
            <a:ext cx="6858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UIT COMMONLY AVAILABLE IN THE U.S. IS NATIVE TO CHINA, AND IS STILL PREDOMINANTLY (58%) GROWN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838080" y="4876920"/>
            <a:ext cx="7467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TUE  OF  LIB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MONUMENT WAS BUILT BY GUSTAVE EIFF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BRAHAM  LINCOL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A CONSENSUS OF PRESIDENTIAL SCHOLARS, WHO WAS THE BEST U.S. PRESIDENT 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876920"/>
            <a:ext cx="5639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LEN  KEL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BLIND &amp; DEAF PERSON TO EARN A BACHELOR OF ARTS DEGR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.  LOUIS  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FAMOUS BUILDING IN THE SHAPE OF A CATENAR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ACE  SHUT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LY 6 OF THIS VEHICLE WERE MADE, AND THE 4 REMAINING ONES ARE IN CALIFORNIA, NEW YORK, VIRGINIA, AND FLORIDA.  WHAT ARE THE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981080" y="4876920"/>
            <a:ext cx="5181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MU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URALIST AND ENVIRONMENTAL PHILOSOPHER IS KNOWN AS "THE FATHER OF THE NATIONAL PARK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UIT COMMONLY AVAILABLE IN THE U.S. IS NATIVE TO CHINA, AND IS STILL PREDOMINANTLY (58%) GROWN T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UNT  RUSHM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7640" y="7621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ONAL MEMORIAL APPEARS IN HITCHCOCK'S "NORTH BY NORTHWE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REGRINE  FALC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66680" y="762120"/>
            <a:ext cx="70106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STEST MEMBER OF THE ANIMAL KINGDOM, CLOCKED AT 242 MILES PER HOU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266760" y="4876920"/>
            <a:ext cx="8610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PEAR  ON  A  STATE  QUA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MONUMENT WAS BUILT BY GUSTAVE EIFF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A CONSENSUS OF PRESIDENTIAL SCHOLARS, WHO WAS THE BEST U.S. PRESIDENT 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BLIND &amp; DEAF PERSON TO EARN A BACHELOR OF ARTS DEGRE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FAMOUS BUILDING IN THE SHAPE OF A CATENARY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LY 6 OF THIS VEHICLE WERE MADE, AND THE 4 REMAINING ONES ARE IN CALIFORNIA, NEW YORK, VIRGINIA, AND FLORIDA.  WHAT ARE THEY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URALIST AND ENVIRONMENTAL PHILOSOPHER IS KNOWN AS "THE FATHER OF THE NATIONAL PARK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ONAL MEMORIAL APPEARS IN HITCHCOCK'S "NORTH BY NORTHWE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5T23:07:57Z</dcterms:created>
  <dc:creator>Jennifer Budzinski</dc:creator>
  <dc:description/>
  <dc:language>en-US</dc:language>
  <cp:lastModifiedBy>Erich Friedman</cp:lastModifiedBy>
  <dcterms:modified xsi:type="dcterms:W3CDTF">2020-08-24T17:55:10Z</dcterms:modified>
  <cp:revision>364</cp:revision>
  <dc:subject/>
  <dc:title>Slide 1</dc:title>
</cp:coreProperties>
</file>