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3E7-8557-4DBF-8F79-A3497279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5D2-E843-403A-8640-D2AD2F8B0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177D-3CA9-4A84-BADE-EBA1733E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4EEB-50F2-4CCB-BD27-7DD0E6DE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73B-29FB-423D-9CB6-5801AE40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D8FA-6891-4241-8BC6-83C639E1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DB1-0E1C-4B3C-81A3-D3871FB2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0B6F-357D-4CA6-8418-1FD07BDB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501-174E-4CB8-939C-A3AC51B4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5AA-C99A-4482-A740-50E7C9E6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E9D-54D4-4C58-B140-24012BB8C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9A7F-8ADD-4A6E-8C10-AA6D8678F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5899-BFD6-4FA2-8772-A8769238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B2C-28DA-4A79-ABC5-7CB1568E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5192-3B95-4E25-BE83-6D460CFE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75F-C799-405D-887E-42BBD205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1E5B-999F-47E7-8C37-F39552FF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A49-8F04-4661-93CB-8725E52F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5241-B2D4-43A2-B37D-2C73CE02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EAC-A1D3-4458-92F7-21DEFBB5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646A-6333-4364-9CDF-3E41F10DD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6F2-DFCB-40BB-986E-68959BE1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5A0-E277-466B-9CFD-F70E56F9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  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RUSH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EGRIN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A  STATE 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3:07:57Z</dcterms:created>
  <dc:creator>Jennifer Budzinski</dc:creator>
  <dc:description/>
  <dc:language>en-US</dc:language>
  <cp:lastModifiedBy>Erich Friedman</cp:lastModifiedBy>
  <dcterms:modified xsi:type="dcterms:W3CDTF">2020-08-24T17:55:10Z</dcterms:modified>
  <cp:revision>364</cp:revision>
  <dc:subject/>
  <dc:title>Slide 1</dc:title>
</cp:coreProperties>
</file>