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54F7-C78F-4495-B7E4-1BC43AE8C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616E-9632-48AB-BBEA-3EA1BA172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6E8E-49BD-4050-8B68-B9E9BB001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5D60-2191-463C-9A2E-CF9B813D7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6A88-FE59-4CE7-9570-633602F92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9EB9-674A-4D43-996A-8D829D4FC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4203-C5F2-481B-95E8-6B652AB7E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B456-D881-49B6-8F78-223411638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37EF-E857-48C0-9FCF-94BE5A90F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8688-DAD7-4B4E-96C4-D55CDA161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827B-B6D7-40FD-82B0-A0E3E86B6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F6D4-AF94-473C-873B-BD881A2AD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A9AE-5F67-45E7-ABE0-0621E5FF4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51F0-AD00-4C2B-AE07-B5DB953DC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7216-775C-4ECE-8B4F-027E6EB77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6048-6FAA-44F3-AD4F-482C9B889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3EEB-A015-4CB8-9EB6-78BDA19CF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CDD3-FF05-45FE-A99D-B3A033A1B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45E5-ABD1-4983-878A-62D4FCF3A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C55E-6CE2-4A20-9CBD-20FA9D4AF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8F57-E9CA-4BDA-BCE4-5CD6ABD18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B6C5-8B2F-41BF-B438-11A1829C0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B2C5-B473-41D1-86A5-0F1DD28F8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47800" y="762120"/>
            <a:ext cx="744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HIS THEME SONG, "WON'T YOU BE MY NEIGHBOR?", ON EVERY EPISODE OF HIS TV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STATE, AFTER ALASKA, TEXAS, AND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IS LOCATED IN PROVIDENCE, RHODE IS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E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43000" y="762120"/>
            <a:ext cx="6858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RESTIGIOUS COLLEGE IN HOUSTON,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SS SECRETARY OF RONALD REAGAN BECAME PERMANENTLY DISABLED IN A 1981 ASSASSINATION ATTEMP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NIE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RMONT SENATOR ALMOST WON THE DEMOCRATIC PRESIDENTIAL NOMINATION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YLOR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POP ARTIST MADE MORE MONEY IN 2016 THAN ANY OTHER CELEB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OOGLE LOGO, WHAT COLOR IS THE "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STATE, AFTER ALASKA, TEXAS, AND CALIFOR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TH KOREA'S FLAG IS MOSTLY WHAT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HIS THEME SONG, "WON'T YOU BE MY NEIGHBOR?", ON EVERY EPISODE OF HIS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523880" y="4343400"/>
            <a:ext cx="6019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64520" indent="-164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FOOTBALL  GRE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IS LOCATED IN PROVIDENCE, RHODE IS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RESTIGIOUS COLLEGE IN HOUSTON,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SS SECRETARY OF RONALD REAGAN BECAME PERMANENTLY DISABLED IN A 1981 ASSASSINATION ATTEMP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RMONT SENATOR ALMOST WON THE DEMOCRATIC PRESIDENTIAL NOMINATION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POP ARTIST MADE MORE MONEY IN 2016 THAN ANY OTHER CELEBR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OOGLE LOGO, WHAT COLOR IS THE "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TH KOREA'S FLAG IS MOSTLY WHAT CO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12-16T13:50:05Z</dcterms:modified>
  <cp:revision>420</cp:revision>
  <dc:subject/>
  <dc:title>Slide 1</dc:title>
</cp:coreProperties>
</file>