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4FF8-250B-490F-99C7-799158E59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4D9E-F5AF-45AC-93DA-04AE28068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2325-4EB0-411A-BE5A-86C240FB8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5665-08BB-427F-BE72-4096E7A9B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2F27-BA3A-4037-B68D-009E51673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56D2-F4E6-46D1-9D7C-8DCEF824B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5855-AD64-4E6D-93E0-EEF72E1B1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5D66-37AD-4D89-B09F-7E23F63B5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1D61-C9DC-4B7B-8E42-6DE455CD2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D4C5-5CC3-4202-BC7E-37F20A23D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3F14-66AF-48DA-89C5-80CB7ACFA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5CD4-1B30-4C78-973B-9AC3FABF2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44D7-D2E7-4085-8F98-3714A5A12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ECCC-FB9F-438F-B9AE-9D0E1CD88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BD67-F902-45B4-BCFA-6F8A92DD0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5846-402E-4785-9EA5-7755B6981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C113-EF99-40E7-8CAF-7C90A79CF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44CF-02B5-46A7-A3A6-8B0DD47E6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CAEC-D7A2-4637-8DF9-4B817DC5D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E893-423F-409F-8609-C1B104115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4FDC-82E9-429B-830B-35E72E73D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841C-9406-4DF8-911C-F3F90180D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34E2-AFF8-4C12-B6F1-627695A87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47800" y="762120"/>
            <a:ext cx="7448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HIS THEME SONG, "WON'T YOU BE MY NEIGHBOR?", ON EVERY EPISODE OF HIS TV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T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STATE, AFTER ALASKA, TEXAS, AND CALIFOR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WN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VY LEAGUE SCHOOL IS LOCATED IN PROVIDENCE, RHODE IS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E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43000" y="762120"/>
            <a:ext cx="6858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RESTIGIOUS COLLEGE IN HOUSTON, TEX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BR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ESS SECRETARY OF RONALD REAGAN BECAME PERMANENTLY DISABLED IN A 1981 ASSASSINATION ATTEMP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NIE  SAN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RMONT SENATOR ALMOST WON THE DEMOCRATIC PRESIDENTIAL NOMINATION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YLOR  SW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POP ARTIST MADE MORE MONEY IN 2016 THAN ANY OTHER CELEBR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OOGLE LOGO, WHAT COLOR IS THE "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STATE, AFTER ALASKA, TEXAS, AND CALIFORN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UTH KOREA'S FLAG IS MOSTLY WHAT CO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D  RO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HIS THEME SONG, "WON'T YOU BE MY NEIGHBOR?", ON EVERY EPISODE OF HIS TV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523880" y="4343400"/>
            <a:ext cx="6019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164520" indent="-164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FOOTBALL  GRE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VY LEAGUE SCHOOL IS LOCATED IN PROVIDENCE, RHODE IS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RESTIGIOUS COLLEGE IN HOUSTON, TEX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ESS SECRETARY OF RONALD REAGAN BECAME PERMANENTLY DISABLED IN A 1981 ASSASSINATION ATTEMP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RMONT SENATOR ALMOST WON THE DEMOCRATIC PRESIDENTIAL NOMINATION IN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POP ARTIST MADE MORE MONEY IN 2016 THAN ANY OTHER CELEBR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OOGLE LOGO, WHAT COLOR IS THE "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UTH KOREA'S FLAG IS MOSTLY WHAT COL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0-12-16T13:50:05Z</dcterms:modified>
  <cp:revision>420</cp:revision>
  <dc:subject/>
  <dc:title>Slide 1</dc:title>
</cp:coreProperties>
</file>