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380F-F852-4FCE-9A5C-98B8C94AF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17B7-F5A2-4D25-8A25-E028AD9B2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A7CC-B359-4C11-AA9E-D2E34FE3B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3538-C88F-4127-8A2D-54270D580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42CA-8A9A-41E8-8155-B8AA9765B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6F19-F740-4B60-A3EE-6AC4EC465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C8C7-9A8B-47C7-B873-F2E305162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2D84-432E-475B-A2E1-59A8B6C89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2B7E-4437-4750-A655-683988E3F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914B-4007-469E-AFAE-A3B55D8E5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A5D8-4687-4F34-95E5-ADB2F38D9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987B-7B93-4EE8-A7AA-ACE2E22BC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9440-FA1C-4E5F-9D13-8C0B75DAB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B820-658D-4874-B7F6-8E305BFC8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D1DF-AAEB-4FC4-8BD3-8FEB97FF7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52C0-D5FA-421E-9518-32EF0F023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F88A-13CC-4782-A069-29FC77FB3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0063-6BDD-41BE-BC69-14C058594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221E-3D97-4443-A9CB-68C6018C5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13C3-A11E-4CBF-B459-E70D123FB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69E5-3D32-49F3-9F5A-D8DFF6869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61B4-A301-4962-AAC9-E67F0340A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99DB-8713-4E1F-BE91-3D982BB09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47800" y="762120"/>
            <a:ext cx="7448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HIS THEME SONG, "WON'T YOU BE MY NEIGHBOR?", ON EVERY EPISODE OF HIS TV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T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STATE, AFTER ALASKA, TEXAS, AND CALIFOR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WN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VY LEAGUE SCHOOL IS LOCATED IN PROVIDENCE, RHODE IS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E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143000" y="762120"/>
            <a:ext cx="6858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RESTIGIOUS COLLEGE IN HOUSTON, TEX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BR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ESS SECRETARY OF RONALD REAGAN BECAME PERMANENTLY DISABLED IN A 1981 ASSASSINATION ATTEMP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RNIE  SAN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ERMONT SENATOR ALMOST WON THE DEMOCRATIC PRESIDENTIAL NOMINATION IN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YLOR  SW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POP ARTIST MADE MORE MONEY IN 2016 THAN ANY OTHER CELEBR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0484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76240" y="762120"/>
            <a:ext cx="739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GOOGLE LOGO, WHAT COLOR IS THE "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STATE, AFTER ALASKA, TEXAS, AND CALIFORN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UTH KOREA'S FLAG IS MOSTLY WHAT COL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D  RO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HIS THEME SONG, "WON'T YOU BE MY NEIGHBOR?", ON EVERY EPISODE OF HIS TV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523880" y="4343400"/>
            <a:ext cx="6019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marL="164520" indent="-164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LAST  NAMES  OF  FOOTBALL  GRE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VY LEAGUE SCHOOL IS LOCATED IN PROVIDENCE, RHODE IS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RESTIGIOUS COLLEGE IN HOUSTON, TEX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ESS SECRETARY OF RONALD REAGAN BECAME PERMANENTLY DISABLED IN A 1981 ASSASSINATION ATTEMP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ERMONT SENATOR ALMOST WON THE DEMOCRATIC PRESIDENTIAL NOMINATION IN 20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POP ARTIST MADE MORE MONEY IN 2016 THAN ANY OTHER CELEBR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GOOGLE LOGO, WHAT COLOR IS THE "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UTH KOREA'S FLAG IS MOSTLY WHAT COL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8:45:38Z</dcterms:created>
  <dc:creator>Jennifer Budzinski</dc:creator>
  <dc:description/>
  <dc:language>en-US</dc:language>
  <cp:lastModifiedBy>Erich Friedman</cp:lastModifiedBy>
  <dcterms:modified xsi:type="dcterms:W3CDTF">2020-12-16T13:50:05Z</dcterms:modified>
  <cp:revision>420</cp:revision>
  <dc:subject/>
  <dc:title>Slide 1</dc:title>
</cp:coreProperties>
</file>