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C06-8B79-4520-A173-455A5890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AED-2540-40F4-97CB-8C39F8DC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6E9-90B2-44A1-A39F-315A06013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8DDB-882D-4FD2-AB1F-B8A9738B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181A-4000-41C5-BD6B-7F0B08B5E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921-33D2-49A3-8ACA-A5568DA2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693-C20C-4CF9-B0BA-0A65BF77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58CC-B526-4A6D-8BD8-40831C7C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9383-0AD3-4267-A138-092D64F1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2A3F-FE8C-4321-A13C-5FA19E6A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CB2-3C40-48BF-902A-D0EA94B2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4A74-A01E-4600-BF7B-9BFF59FF7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3C3-FD72-4856-9771-E083A8E1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BB0-79B6-4762-8CB8-83B702E5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ADA-CFD5-4FBB-856F-46558646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9ED-85D0-4319-BF82-6B31CF89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8B81-C764-47FB-860D-FE714C4A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6DA-0868-42C5-9218-7F730AF1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355-DC2A-40B4-B5D8-3009F3AD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B18-1E81-487B-BB4B-C8D85540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B73-785A-43BA-9B31-EED7808B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7F74-09B7-456F-B8EA-B3E1F778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6CB7-2E3A-4186-86BD-D8F4C5C3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 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ZONE 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0440" y="7621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TH CENTURY NOW DOES ALMOST $1 BILLION ANNUAL SAL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P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1040" y="762120"/>
            <a:ext cx="7981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920" y="762120"/>
            <a:ext cx="9020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NOW DOES ALMOST $1 BILLION ANNUAL SAL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32Z</dcterms:modified>
  <cp:revision>421</cp:revision>
  <dc:subject/>
  <dc:title>Slide 1</dc:title>
</cp:coreProperties>
</file>