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CA82-B5B5-43BD-A9BF-D4AD648C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9F500-3A97-431D-9D24-075371990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3D63-3478-4EE8-914F-D4CC70DD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A45DA-BBB4-49FF-82FA-49E3DB0CE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02B66-040A-4989-AD7F-A4F9C0349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39AC-9EB8-45ED-B219-04F5769B9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EF58-E464-48EA-9703-0BF245755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F1701-F284-4871-A85F-0565D870F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96FD-BD7A-49F3-A81D-74B8EA28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1152-BEA7-42DF-ACA2-BC322D107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1FFA-7D2F-4BBC-96A9-D0E733E24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949B-A6CA-428E-B029-1DE1D6530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4FB8-688B-4D96-921F-A6D87A4B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451E-49DA-4E61-A854-83B893BDE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318D-1E50-4626-95AD-C419C667E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EB468-390F-499B-8432-E1F43A7BC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0CFF-7D4C-4E63-AC8B-21520B117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5286-26F5-45E2-B3DC-3E22FAA98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4058-477E-4228-AF8E-26787733B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78A7-FEBC-4DE5-AF01-31C14E6B8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029A-D474-416A-892B-5064B3947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F7EC-6A3C-4B98-A6AD-C9AFFD25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936A-070C-45A2-9D81-E92AB0A03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EARLIEST EXTANT MUSICAL INSTRUMENTS, DATING BACK OVER 35,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DDISH FOAM FOOTWEAR OF 2006 DOES POST MALONE SAY HE WEARS "EVERYWHERE, FROM THE BAR TO THE STA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F  COU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PROPERTY IS TURNBERRY IN SCOTLAND, WHICH HAS LOST MILLIONS OF DOLLARS SINCE DONALD TRUMP BOUGHT IT IN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ZONE  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90440" y="762120"/>
            <a:ext cx="87631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EARTH'S STRATOSPHERE ABSORBS ABOUT 98 PERCENT OF THE SUN'S ULTRAVIOLET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WISS  CHE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 MAKES A REUBEN SANDWICH WHEN IT'S ADDED TO CORNED BEEF, SAUERKRAUT, AND RUSSIAN DRESSING ON RY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TRACED BACK TO ASHKENAZI JEWS IN THE 17TH CENTURY NOW DOES ALMOST $1 BILLION ANNUAL SAL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P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9960" y="762120"/>
            <a:ext cx="83440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USICAL FORMAT WAS DOMINANT FOR LONGER?  LP'S (BEFORE CD'S), OR CD'S (BEFORE DIGITAL MUSIC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SA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81040" y="762120"/>
            <a:ext cx="79819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STILL AVAILABLE TODAY WAS INTRODUCED THE SAME YEAR THE TITANIC SUN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04720" y="762120"/>
            <a:ext cx="8134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DDISH FOAM FOOTWEAR OF 2006 DOES POST MALONE SAY HE WEARS "EVERYWHERE, FROM THE BAR TO THE STA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  B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1480" y="762120"/>
            <a:ext cx="7601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BALLS MUST BE BETWEEN 8.5 AND 8.6 INCHES IN DIAME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U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EARLIEST EXTANT MUSICAL INSTRUMENTS, DATING BACK OVER 35,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WITH  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PROPERTY IS TURNBERRY IN SCOTLAND, WHICH HAS LOST MILLIONS OF DOLLARS SINCE DONALD TRUMP BOUGHT IT IN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920" y="762120"/>
            <a:ext cx="9020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T OF EARTH'S STRATOSPHERE ABSORBS ABOUT 98 PERCENT OF THE SUN'S ULTRAVIOLET RADI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GREDIENT MAKES A REUBEN SANDWICH WHEN IT'S ADDED TO CORNED BEEF, SAUERKRAUT, AND RUSSIAN DRESSING ON RY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TRACED BACK TO ASHKENAZI JEWS IN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NOW DOES ALMOST $1 BILLION ANNUAL SAL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USICAL FORMAT WAS DOMINANT FOR LONGER?  LP'S (BEFORE CD'S), OR CD'S (BEFORE DIGITAL MUSIC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RD CANDY STILL AVAILABLE TODAY WAS INTRODUCED THE SAME YEAR THE TITANIC SUN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57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S BALLS MUST BE BETWEEN 8.5 AND 8.6 INCHES IN DIAME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12-16T13:50:32Z</dcterms:modified>
  <cp:revision>421</cp:revision>
  <dc:subject/>
  <dc:title>Slide 1</dc:title>
</cp:coreProperties>
</file>