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70FE-40BF-4360-8E4E-6A88B5BD8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A858-6C2A-4450-8CA8-187B38AA8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CF35-B4A1-4E93-A907-02481CA9B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A8F6-A918-4E54-95FE-403EB4CB4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49C6-C980-4111-907F-7BBE6B158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63A8-2410-4732-BB6A-A642B8C15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A060-2841-40A2-A5D5-EE82FA83F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0C8E-1362-4BA5-AD6F-0F4319019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FDE6-A204-475C-83EF-5575A1A83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BAA8-B730-4F7D-B56C-4863435D5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A52E-7175-4A0B-A952-CFD6F3DF7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57A0-DFDC-4CE7-8EAF-CBDF10D82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A852-D988-49DD-948B-96477D1D5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BDAA-4297-4EB8-A8FA-EC8D3D44D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BE13-4BEF-4B96-B925-C8FB412C1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62B2-C6A2-4FF5-848B-97984792A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F2EB-8F59-4019-8019-1245C1619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89CB-0E60-4700-B3C2-0FE64FC5C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E785-5AAB-4CE3-AC71-4B1568333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9704-3FB8-4014-B792-172868FA0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5413-3C83-49D8-BCDB-67545314D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1DDE-C8B8-4C71-9834-7D36FE002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C747-2DBF-4098-AFD0-CF554FA6D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04960" y="762120"/>
            <a:ext cx="7534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EARLIEST EXTANT MUSICAL INSTRUMENTS, DATING BACK OVER 35,00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95360" y="762120"/>
            <a:ext cx="8115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DDISH FOAM FOOTWEAR OF 2006 DOES POST MALONE SAY HE WEARS "EVERYWHERE, FROM THE BAR TO THE STAG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F  COU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PROPERTY IS TURNBERRY IN SCOTLAND, WHICH HAS LOST MILLIONS OF DOLLARS SINCE DONALD TRUMP BOUGHT IT IN 20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ZONE  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90440" y="762120"/>
            <a:ext cx="87631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 OF EARTH'S STRATOSPHERE ABSORBS ABOUT 98 PERCENT OF THE SUN'S ULTRAVIOLET RADI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SS  CHE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GREDIENT MAKES A REUBEN SANDWICH WHEN IT'S ADDED TO CORNED BEEF, SAUERKRAUT, AND RUSSIAN DRESSING ON RY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G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TRACED BACK TO ASHKENAZI JEWS IN THE 17TH CENTURY NOW DOES ALMOST $1 BILLION ANNUAL SALES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P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99960" y="762120"/>
            <a:ext cx="834408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USICAL FORMAT WAS DOMINANT FOR LONGER?  LP'S (BEFORE CD'S), OR CD'S (BEFORE DIGITAL MUSIC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ESA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81040" y="762120"/>
            <a:ext cx="7981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D CANDY STILL AVAILABLE TODAY WAS INTRODUCED THE SAME YEAR THE TITANIC SUN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04720" y="762120"/>
            <a:ext cx="8134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DDISH FOAM FOOTWEAR OF 2006 DOES POST MALONE SAY HE WEARS "EVERYWHERE, FROM THE BAR TO THE STAG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WLING  B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71480" y="762120"/>
            <a:ext cx="7601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S BALLS MUST BE BETWEEN 8.5 AND 8.6 INCHES IN DIAME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EARLIEST EXTANT MUSICAL INSTRUMENTS, DATING BACK OVER 35,00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WITH  H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PROPERTY IS TURNBERRY IN SCOTLAND, WHICH HAS LOST MILLIONS OF DOLLARS SINCE DONALD TRUMP BOUGHT IT IN 20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1920" y="762120"/>
            <a:ext cx="9020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 OF EARTH'S STRATOSPHERE ABSORBS ABOUT 98 PERCENT OF THE SUN'S ULTRAVIOLET RADI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23800" y="762120"/>
            <a:ext cx="8096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GREDIENT MAKES A REUBEN SANDWICH WHEN IT'S ADDED TO CORNED BEEF, SAUERKRAUT, AND RUSSIAN DRESSING ON RY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71480" y="762120"/>
            <a:ext cx="7601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TRACED BACK TO ASHKENAZI JEWS IN THE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NOW DOES ALMOST $1 BILLION ANNUAL SALES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44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USICAL FORMAT WAS DOMINANT FOR LONGER?  LP'S (BEFORE CD'S), OR CD'S (BEFORE DIGITAL MUSIC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D CANDY STILL AVAILABLE TODAY WAS INTRODUCED THE SAME YEAR THE TITANIC SUN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57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S BALLS MUST BE BETWEEN 8.5 AND 8.6 INCHES IN DIAME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12-16T13:50:32Z</dcterms:modified>
  <cp:revision>421</cp:revision>
  <dc:subject/>
  <dc:title>Slide 1</dc:title>
</cp:coreProperties>
</file>