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64F7-9A17-412E-9335-503D2C22E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02BB-4FED-480A-9C4A-7293668BE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F0A1-A6DA-464E-9B51-3A346D966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B5E7-9384-496A-9504-59B91D787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2DD4-2A9A-4ACB-8A82-1F614BA0C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2149-1758-4643-8E10-60FB53CEE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41BD-6D53-4F00-9978-D3114764E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F515-1FDE-4E7C-93E7-ABD1E4D71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B9F6-43CE-4192-8B65-B25110008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D49B-4B2B-4815-ACC8-7F09E0567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11FF-1300-49EB-802D-B12AFA70D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737B-DB2A-41AE-80AA-0FDD70C49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4517-DECD-414A-930B-3ED89F9CC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4A7C-8DED-49D4-8E0A-858A6D81C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5B8E-30B1-4E97-A45D-E129CE2F0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955E-442D-4768-9651-605DF897D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419F-03D7-40A6-BE89-EBCD97528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69E5-3337-45D9-B34B-EA0646645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7C29-FC90-4A08-B5D3-888340EEF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48A4-FE1D-463E-A169-423A8E210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E24D-86FB-4513-8D88-2D71D7A72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D63B-7729-4D32-8D40-8DFC05890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5BB6-A8B0-4587-AAEC-07778B70F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00080" y="762120"/>
            <a:ext cx="7143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RBEL, BLENNY, BETTA, AND BREAM ARE ALL TYPES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ANKSGIVING STAPLE IS THE LAST WORD OF "THE JEFFERSONS" THEM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GH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99960" y="762120"/>
            <a:ext cx="8344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MOVIE SET, A GAFFER       IS THE CREW MEMBER IN CHARGE OF DESIGNING WHAT ELEMENT OF PRODU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80880" y="762120"/>
            <a:ext cx="8382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DITIONAL DOG'S NAME IS USED IN FOOTBALL FOR A HYBRID LINEBACKER WHO CAN ALSO PLAY STRONG SAFETY AGAINST THE P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52280" y="762120"/>
            <a:ext cx="8839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TFLIX SHOW FOLLOWS LIBERTY BELLE, WELFARE QUEEN, AND THE OTHER MEMBERS OF THE TITLE 1980'S WOMEN'S WRESTLING LEAGU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UNIT IS EQUAL TO 14 POU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09640" y="762120"/>
            <a:ext cx="752472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UTICAL TERM FOR THE LARGEST WIDTH OF A VESS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TS  &amp;  WAL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33320" y="762120"/>
            <a:ext cx="7677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S ARE MISSING FROM THE TITLE OF NANCY SINATRA'S ONLY SOLO #1 SONG: "THESE ____ ARE MADE FOR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ANKSGIVING STAPLE IS THE LAST WORD OF "THE JEFFERSONS" THEM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61880" y="762120"/>
            <a:ext cx="8220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1996 FILM ABOUT THE PIANIST DAVID HELFGOTT DID GEOFFREY RUSH WIN AN ACADEMY AWARD FOR BEST A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RBEL, BLENNY, BETTA, AND BREAM ARE ALL TYPE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MOO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MOVIE SET, A GAFFER     IS THE CREW MEMBER IN CHARGE OF DESIGNING WHAT ELEMENT OF PRODU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99960" y="762120"/>
            <a:ext cx="8344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DITIONAL DOG'S NAME IS USED IN FOOTBALL FOR A HYBRID LINEBACKER WHO CAN ALSO PLAY STRONG SAFETY AGAINST THE P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7040" y="762120"/>
            <a:ext cx="8629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TFLIX SHOW FOLLOWS LIBERTY BELLE, WELFARE QUEEN, AND THE OTHER MEMBERS OF THE TITLE 1980'S WOMEN'S WRESTLING LEAG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UNIT IS EQUAL TO 14 POU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UTICAL TERM FOR THE LARGEST WIDTH OF A VESS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S ARE MISSING FROM THE TITLE OF NANCY SINATRA'S ONLY SOLO #1 SONG: "THESE ____ ARE MADE FOR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1996 FILM ABOUT THE PIANIST DAVID HELFGOTT DID GEOFFREY RUSH WIN AN ACADEMY AWARD FOR BEST AC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12-16T13:51:01Z</dcterms:modified>
  <cp:revision>423</cp:revision>
  <dc:subject/>
  <dc:title>Slide 1</dc:title>
</cp:coreProperties>
</file>