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462F-D69E-4668-99CC-6FB4BF0F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4561-78CD-4243-B815-DA1A5D6DF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597D-C01F-4366-8EBD-6B8AAEAD5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8C9B-EF21-4F1A-90C6-F233AC33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A112C-29D0-460C-938F-8E17855C4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C4EC-B0FB-442E-B06A-77649824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25BC-0F87-46A5-91C9-7A8FBFC53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CCAD-5AE1-4F0A-A80C-8354C7A23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F139-DCAF-4BAC-91CF-BCD429308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A074-AEBF-4E9D-8FE8-5EB61580B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B690-804C-448D-B786-D4DF1D5FD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7CB3-4164-4B2B-9966-2631E2951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A6F-D566-458C-91A1-47F4DBE02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6040-1967-4D43-81BE-592A151A0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DFAB-5AA2-48B3-A9C0-E7FCBB3C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EBFD-2930-4E29-B01E-2289696F1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122B-F4BD-4B1B-B71D-0AAEB69C8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46E4-322C-4111-A60C-C3530C9B0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E0BB-67B4-4884-92D1-66FCB3CC2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3695-E531-45DF-A136-473E7695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B69F-D4CB-4383-AC1C-E25B5F878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EABC-992B-4DA4-99B8-819D5CB35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5421-0CD6-4D26-B0FF-53A16DDC5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RBEL, BLENNY, BETTA, AND BREAM ARE ALL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ANKSGIVING STAPLE IS THE LAST WORD OF "THE JEFFERSONS" THEM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OVIE SET, A GAFFER       IS THE CREW MEMBER IN CHARGE OF DESIGNING WHAT ELEMENT OF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DOG'S NAME IS USED IN FOOTBALL FOR A HYBRID LINEBACKER WHO CAN ALSO PLAY STRONG SAFETY AGAINST THE P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FOLLOWS LIBERTY BELLE, WELFARE QUEEN, AND THE OTHER MEMBERS OF THE TITLE 1980'S WOMEN'S WRESTLING LEAGU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UNIT IS EQUAL TO 14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9640" y="762120"/>
            <a:ext cx="75247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UTICAL TERM FOR THE LARGEST WIDTH OF A VESS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S  &amp;  WAL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33320" y="762120"/>
            <a:ext cx="767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E TITLE OF NANCY SINATRA'S ONLY SOLO #1 SONG: "THESE ____ ARE MADE FOR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ANKSGIVING STAPLE IS THE LAST WORD OF "THE JEFFERSONS" THEM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1880" y="762120"/>
            <a:ext cx="822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THE PIANIST DAVID HELFGOTT DID GEOFFREY RUSH WIN AN ACADEMY AWARD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RBEL, BLENNY, BETTA, AND BREAM ARE ALL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MO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MOVIE SET, A GAFFER     IS THE CREW MEMBER IN CHARGE OF DESIGNING WHAT ELEMENT OF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99960" y="762120"/>
            <a:ext cx="834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DOG'S NAME IS USED IN FOOTBALL FOR A HYBRID LINEBACKER WHO CAN ALSO PLAY STRONG SAFETY AGAINST THE P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HOW FOLLOWS LIBERTY BELLE, WELFARE QUEEN, AND THE OTHER MEMBERS OF THE TITLE 1980'S WOMEN'S WRESTLING LEA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UNIT IS EQUAL TO 14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UTICAL TERM FOR THE LARGEST WIDTH OF A VESS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E TITLE OF NANCY SINATRA'S ONLY SOLO #1 SONG: "THESE ____ ARE MADE FOR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THE PIANIST DAVID HELFGOTT DID GEOFFREY RUSH WIN AN ACADEMY AWARD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1:01Z</dcterms:modified>
  <cp:revision>423</cp:revision>
  <dc:subject/>
  <dc:title>Slide 1</dc:title>
</cp:coreProperties>
</file>