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8D86-6887-4BC6-B977-AB49E5902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BD22-4D70-4DE7-B626-DCC3D09EB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B009-EB17-4AE3-83EB-EB9590DA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BF0F-9F2C-4A72-9F50-34F1C9B18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E1E8-7327-416D-968D-FDBC18A0F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8159-F67E-4D59-BE5C-F86E2851E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287E-AE5E-4BCB-9460-4C0281508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0630-E42D-49E5-AFAA-6FE7E638C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400C-DAD6-49AB-AE07-EFE67B958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B3F2-A47C-4C9A-9335-E67A09157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6AA8-A47F-4EF0-8621-292513B85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CD56-F94A-4CC3-BAE8-D6B83DBCF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6071-B4E2-40C2-ABBF-FADE833E6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4950-6CBD-4837-A560-53951F740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5328-676A-48C1-8513-AC232954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CEE2-3489-40D1-B0DA-0C0EE1D30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135A-8FF3-4878-9A8F-5711853F8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2EDF-E16A-4EBC-8EBE-D163764FA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406B-B624-4FF2-9B5D-98349A9BB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AB97-C1EA-4A01-8E5D-ACE0C9BDB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4610-A803-4D71-9BA1-9CE07A283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2042-3F5B-4936-BC77-857341B11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54D9-E421-4BFA-AE5D-72D37C81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RBEL, BLENNY, BETTA, AND BREAM ARE ALL TYP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ANKSGIVING STAPLE IS THE LAST WORD OF "THE JEFFERSONS" THEM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99960" y="762120"/>
            <a:ext cx="834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OVIE SET, A GAFFER       IS THE CREW MEMBER IN CHARGE OF DESIGNING WHAT ELEMENT OF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DOG'S NAME IS USED IN FOOTBALL FOR A HYBRID LINEBACKER WHO CAN ALSO PLAY STRONG SAFETY AGAINST THE P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FOLLOWS LIBERTY BELLE, WELFARE QUEEN, AND THE OTHER MEMBERS OF THE TITLE 1980'S WOMEN'S WRESTLING LEAG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UNIT IS EQUAL TO 14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9640" y="762120"/>
            <a:ext cx="752472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UTICAL TERM FOR THE LARGEST WIDTH OF A VESS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S  &amp;  W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33320" y="762120"/>
            <a:ext cx="767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E TITLE OF NANCY SINATRA'S ONLY SOLO #1 SONG: "THESE ____ ARE MADE FOR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ANKSGIVING STAPLE IS THE LAST WORD OF "THE JEFFERSONS" THEM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1880" y="762120"/>
            <a:ext cx="822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THE PIANIST DAVID HELFGOTT DID GEOFFREY RUSH WIN AN ACADEMY AWARD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RBEL, BLENNY, BETTA, AND BREAM ARE ALL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MOO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OVIE SET, A GAFFER     IS THE CREW MEMBER IN CHARGE OF DESIGNING WHAT ELEMENT OF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34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DOG'S NAME IS USED IN FOOTBALL FOR A HYBRID LINEBACKER WHO CAN ALSO PLAY STRONG SAFETY AGAINST THE P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FOLLOWS LIBERTY BELLE, WELFARE QUEEN, AND THE OTHER MEMBERS OF THE TITLE 1980'S WOMEN'S WRESTLING LEAG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UNIT IS EQUAL TO 14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UTICAL TERM FOR THE LARGEST WIDTH OF A VESS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E TITLE OF NANCY SINATRA'S ONLY SOLO #1 SONG: "THESE ____ ARE MADE FOR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THE PIANIST DAVID HELFGOTT DID GEOFFREY RUSH WIN AN ACADEMY AWARD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1:01Z</dcterms:modified>
  <cp:revision>423</cp:revision>
  <dc:subject/>
  <dc:title>Slide 1</dc:title>
</cp:coreProperties>
</file>