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E062-D062-4C27-859B-8DA180A56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C1D4-06F4-46AA-9F74-B2841BB40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468A-DE6A-4FE4-9F53-AF5B1B443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A998-5377-4375-BB47-74C6F93AD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51DC-F467-48AB-AC1A-76EB5FD39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1087-472A-4803-B0FA-8BC7B305D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6EAC-9D17-4AA5-9BC8-899ECAC15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A464-A228-478C-9BEB-8D1F78DDC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0B21-A5A9-4CE5-8808-BC5079843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2F29-F8CC-49F0-B158-365099B09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0FAA-1FFC-42A0-A4E8-0AD1357B7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5F31-7643-4D6A-987C-3CE9B78ED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2CCA4-42A7-4E89-8E56-BD766786F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8758-9AC3-4262-B7BA-5EB553D80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27C1-16F0-4BDA-88C2-2179F2AE8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9E235-CF17-45CD-A1A4-FD6A84043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B62B-DD1B-4E96-813A-876F56505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E2F2-2128-4EF7-9448-12B4220F5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0A6F-FE28-41A5-8072-0D11FDAF4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FF6C-9CAF-48B9-8BE4-8283111A7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FAF7-794F-414F-BEC7-9FF71A19C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8AF5-E5A0-435B-BD6B-CEFC58AF6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3112-7B2C-48B9-9707-E86930A6C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000080" y="762120"/>
            <a:ext cx="7143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ILDREN'S STRING GAME HELPED INSPIRE THE BEST-KNOWN SONG OF HARRY CHAP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BE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RIAL KILLER GILLES DE RAIS IS PROBABLY THE HISTORICAL BASIS FOR WHAT FAIRY TALE CHARACTER, WHO MURDERS HIS FIRST 6 WIV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APST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YLE OF COMEDY TAKES ITS NAME FROM THE NOISY DEVICE USED BY OLD-TIMEY CLOWNS TO WHACK EACH 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CUS  P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380880" y="762120"/>
            <a:ext cx="83822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, BETTE MIDLER'S CAREER FAVORITE, DOES SHE APPEAR WITH SARAH JESSICA PARKER AND KATHY NAJIMY AS A TRIO OF NUTTY WITCH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YER  PI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295280" y="762120"/>
            <a:ext cx="655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PIANOLA BETTER KNOWN A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THER  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ROMANTIC WAR FILM STARRED NICK NOLTE, JOHN GOODMAN, AND ALAN ARK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LÁPAG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399960" y="762120"/>
            <a:ext cx="8344080" cy="37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SERVATION OF WHAT ISLANDS BY CHARLES DARWIN IN THE 1830'S CONTRIBUTED TO HIS THEORY OF NATURAL SELE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N,  MOON,  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247680" y="762120"/>
            <a:ext cx="8648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STRONOMICAL OBJECTS ARE THESE SYMBOLS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1198440" y="2711520"/>
            <a:ext cx="2019600" cy="2012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3565440" y="2711520"/>
            <a:ext cx="2013120" cy="2012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3"/>
          <a:stretch/>
        </p:blipFill>
        <p:spPr>
          <a:xfrm>
            <a:off x="5943600" y="2711520"/>
            <a:ext cx="2001960" cy="201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9960" y="762120"/>
            <a:ext cx="8344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RIAL KILLER GILLES DE RAIS IS PROBABLY THE HISTORICAL BASIS FOR WHAT FAIRY TALE CHARACTER, WHO MURDERS HIS FIRST 6 WIV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EAKFAST  OF  CHAMP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771480" y="762120"/>
            <a:ext cx="7601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ATIES CEREAL ADOPTED WHAT LONGTIME SLOGAN IN 193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'S  CRA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ILDREN'S STRING GAME HELPED INSPIRE THE BEST-KNOWN SONG OF HARRY CHAP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1371600" y="48769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URT  VONNEGUT  NOV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YLE OF COMEDY TAKES ITS NAME FROM THE NOISY DEVICE USED BY OLD-TIMEY CLOWNS TO WHACK EACH O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99960" y="762120"/>
            <a:ext cx="8344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, BETTE MIDLER'S CAREER FAVORITE, DOES SHE APPEAR WITH SARAH JESSICA PARKER AND KATHY NAJIMY AS A TRIO OF NUTTY WITCH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71640" y="762120"/>
            <a:ext cx="7200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PIANOLA BETTER KNOWN 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85760" y="762120"/>
            <a:ext cx="6972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ROMANTIC WAR FILM STARRED NICK NOLTE, JOHN GOODMAN, AND ALAN ARK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44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SERVATION OF WHAT ISLANDS BY CHARLES DARWIN IN THE 1830'S CONTRIBUTED TO HIS THEORY OF NATURAL SELE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STRONOMICAL OBJECTS ARE THESE SYMBOLS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1198440" y="2711520"/>
            <a:ext cx="2019600" cy="2012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3565440" y="2711520"/>
            <a:ext cx="2013120" cy="2012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3"/>
          <a:stretch/>
        </p:blipFill>
        <p:spPr>
          <a:xfrm>
            <a:off x="5943600" y="2711520"/>
            <a:ext cx="2001960" cy="201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ATIES CEREAL ADOPTED WHAT LONGTIME SLOGAN IN 193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18:45:38Z</dcterms:created>
  <dc:creator>Jennifer Budzinski</dc:creator>
  <dc:description/>
  <dc:language>en-US</dc:language>
  <cp:lastModifiedBy>Erich Friedman</cp:lastModifiedBy>
  <dcterms:modified xsi:type="dcterms:W3CDTF">2020-12-16T13:51:32Z</dcterms:modified>
  <cp:revision>419</cp:revision>
  <dc:subject/>
  <dc:title>Slide 1</dc:title>
</cp:coreProperties>
</file>