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C9A6-6498-469F-AC26-76DB59ABD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F9BC-2C6B-4EEA-B236-7E1C47C5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DB82-1483-4151-A4A8-96E3B1B0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0939-C152-4A99-99ED-719765B0F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91FB-81D9-4703-ADFD-1490827E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7806-DE0D-4610-A6D9-774B7621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C8D-8655-4004-92B7-8D775D61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A562-7BCA-4C16-A0A6-3C3216E6A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4CB-1C70-427D-A7FF-68E4CA34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5250-F725-4098-9A2C-B71FC5B1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F30-FF9C-493E-8DF4-52053BF3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2BB5-4798-4E5C-B993-8B77D483C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E6D5-0C4A-40BD-BF38-18A938F3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A47-30B3-4DAA-B5DB-41FA5053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73C5-35A3-4EFA-AB2F-F2B00279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02B-F4E3-4CCB-B1D8-8F8872896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0626-FBCE-4B8D-B771-8D03A645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044-23F2-4547-87AB-3711013B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272F-C9A0-4AA2-9802-1B72B23C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0467-95EC-44F0-81C1-BBF5FFFA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372D-B5F3-469F-B1E3-521CF796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29B-891A-4848-9E85-1677E1C39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C681-09C2-48BA-978F-04864383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STRING GAME HELPED INSPIRE THE BEST-KNOWN SONG OF HARRY CHA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IAL KILLER GILLES DE RAIS IS PROBABLY THE HISTORICAL BASIS FOR WHAT FAIRY TALE CHARACTER, WHO MURDERS HIS FIRST 6 W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P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COMEDY TAKES ITS NAME FROM THE NOISY DEVICE USED BY OLD-TIMEY CLOWNS TO WHACK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US  P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, BETTE MIDLER'S CAREER FAVORITE, DOES SHE APPEAR WITH SARAH JESSICA PARKER AND KATHY NAJIMY AS A TRIO OF NUTTY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ER  P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IANOLA BETTER KNOWN 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TIC WAR FILM STARRED NICK NOLTE, JOHN GOODMAN, AND ALAN ARK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ÁPA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99960" y="762120"/>
            <a:ext cx="83440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OF WHAT ISLANDS BY CHARLES DARWIN IN THE 1830'S CONTRIBUTED TO HIS THEORY OF NATURAL S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,  MOON,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47680" y="762120"/>
            <a:ext cx="864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ICAL OBJECTS ARE THESE SYMBOL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198440" y="2711520"/>
            <a:ext cx="2019600" cy="2012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565440" y="2711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943600" y="2711520"/>
            <a:ext cx="200196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IAL KILLER GILLES DE RAIS IS PROBABLY THE HISTORICAL BASIS FOR WHAT FAIRY TALE CHARACTER, WHO MURDERS HIS FIRST 6 W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OF  CHAMP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71480" y="762120"/>
            <a:ext cx="760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ATIES CEREAL ADOPTED WHAT LONGTIME SLOGAN IN 19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'S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STRING GAME HELPED INSPIRE THE BEST-KNOWN SONG OF HARRY CHA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VONNEGUT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COMEDY TAKES ITS NAME FROM THE NOISY DEVICE USED BY OLD-TIMEY CLOWNS TO WHACK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, BETTE MIDLER'S CAREER FAVORITE, DOES SHE APPEAR WITH SARAH JESSICA PARKER AND KATHY NAJIMY AS A TRIO OF NUTTY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IANOLA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TIC WAR FILM STARRED NICK NOLTE, JOHN GOODMAN, AND ALAN ARK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OF WHAT ISLANDS BY CHARLES DARWIN IN THE 1830'S CONTRIBUTED TO HIS THEORY OF NATURAL S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ICAL OBJECTS ARE THESE SYMBOL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98440" y="2711520"/>
            <a:ext cx="2019600" cy="20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3565440" y="2711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5943600" y="2711520"/>
            <a:ext cx="2001960" cy="20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ATIES CEREAL ADOPTED WHAT LONGTIME SLOGAN IN 19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1:32Z</dcterms:modified>
  <cp:revision>419</cp:revision>
  <dc:subject/>
  <dc:title>Slide 1</dc:title>
</cp:coreProperties>
</file>