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B223-6FCB-4EDA-8EDC-F35143F3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218-F12A-43D9-9BE4-89A9D13B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FC92-BF13-42DA-B711-06CD3CB9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943C-D05B-4FFE-91E5-07EC65B9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D1E5-77FE-4666-A042-877C5614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D8B-815A-42F4-96BA-E361FD3C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FFAA-A428-4ECA-836F-6F75F7F5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E71C-970B-43BF-80D9-56B80DEE0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9713-EDB1-4016-B8DA-4A357D6D4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C0E-BB03-4530-AB82-7B0564D4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095-1444-47FA-9F70-0D84B1B6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BC6-D144-4A99-8D19-69A842C7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801-CFE6-477B-97D6-B55B253AE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EA4-12D3-4E1F-8FA8-39D77891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F899-12AC-42DB-B990-E855A585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41C9-17AF-493F-BF42-D328C6EF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D756-0A32-4326-B2C5-CBD11D9F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50D0-341E-47DF-8BA4-07471860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4657-DE31-4773-9D90-825F93234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5B25-D9C6-4A3D-8029-7C354638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49A-AAF0-4AF5-BF19-340005122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E36-22F8-4174-8A0D-C49DEB19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6BCC-B4A6-42BA-BB8D-6783B0147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STRING GAME HELPED INSPIRE THE BEST-KNOWN SONG OF HARRY CHA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IAL KILLER GILLES DE RAIS IS PROBABLY THE HISTORICAL BASIS FOR WHAT FAIRY TALE CHARACTER, WHO MURDERS HIS FIRST 6 W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P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COMEDY TAKES ITS NAME FROM THE NOISY DEVICE USED BY OLD-TIMEY CLOWNS TO WHACK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US  P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, BETTE MIDLER'S CAREER FAVORITE, DOES SHE APPEAR WITH SARAH JESSICA PARKER AND KATHY NAJIMY AS A TRIO OF NUTTY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ER  P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IANOLA BETTER KNOWN 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TIC WAR FILM STARRED NICK NOLTE, JOHN GOODMAN, AND ALAN ARK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ÁPA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99960" y="762120"/>
            <a:ext cx="83440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OF WHAT ISLANDS BY CHARLES DARWIN IN THE 1830'S CONTRIBUTED TO HIS THEORY OF NATURAL S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,  MOON,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47680" y="762120"/>
            <a:ext cx="864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ICAL OBJECTS ARE THESE SYMBOL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198440" y="2711520"/>
            <a:ext cx="2019600" cy="2012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565440" y="2711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943600" y="2711520"/>
            <a:ext cx="200196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IAL KILLER GILLES DE RAIS IS PROBABLY THE HISTORICAL BASIS FOR WHAT FAIRY TALE CHARACTER, WHO MURDERS HIS FIRST 6 W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OF  CHAMP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71480" y="762120"/>
            <a:ext cx="760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ATIES CEREAL ADOPTED WHAT LONGTIME SLOGAN IN 19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'S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STRING GAME HELPED INSPIRE THE BEST-KNOWN SONG OF HARRY CHA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VONNEGUT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COMEDY TAKES ITS NAME FROM THE NOISY DEVICE USED BY OLD-TIMEY CLOWNS TO WHACK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, BETTE MIDLER'S CAREER FAVORITE, DOES SHE APPEAR WITH SARAH JESSICA PARKER AND KATHY NAJIMY AS A TRIO OF NUTTY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IANOLA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TIC WAR FILM STARRED NICK NOLTE, JOHN GOODMAN, AND ALAN ARK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OF WHAT ISLANDS BY CHARLES DARWIN IN THE 1830'S CONTRIBUTED TO HIS THEORY OF NATURAL S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ICAL OBJECTS ARE THESE SYMBOL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98440" y="2711520"/>
            <a:ext cx="2019600" cy="20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3565440" y="2711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5943600" y="2711520"/>
            <a:ext cx="2001960" cy="20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ATIES CEREAL ADOPTED WHAT LONGTIME SLOGAN IN 19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1:32Z</dcterms:modified>
  <cp:revision>419</cp:revision>
  <dc:subject/>
  <dc:title>Slide 1</dc:title>
</cp:coreProperties>
</file>