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4405-B283-4E03-A474-CB2DFF0E1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356B-7F52-4A2D-AC98-E1A6CE17E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1558-4EE1-4F5D-A25A-E8C27B7BB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51A8-2CD7-4A53-8F00-BDFE31993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5DA6-3CA5-4A10-8A21-371F45698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9920-E4FF-4419-87E7-1F276B1A1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907E-4BFD-4AD0-82CA-59B6E067A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63D3-CCC3-4D60-9B40-548541A0A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6EA4-29D6-4EE3-9BFD-2948825B2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F6B5-A24D-4F09-B239-7200E3F1E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EF2A-769C-4F3E-9215-1DA120394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CCCC-BB6A-43E8-A598-BA4527B1A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005C-7447-46EC-9405-93BB4A7C1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AFF0-DA7C-4147-ADFE-90107AC6E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3333-FA72-4DEF-BA6C-AF383E413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D6B5-3407-4176-9B77-EB653F6F3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D65F-6A76-4133-9D4E-032FBF5D4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EF00-539C-439A-A64B-4B1060AE1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1B4A-56E7-47A7-B6D3-DED6C7B01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B500-4BF6-4FB5-9AF6-D1FB07236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F27C-19F1-4A02-9C0E-9DDCB6A59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C67C-36DB-4C40-98E3-809F88732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3203-4875-42F1-A837-C1780D698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435D-CFBA-4D20-8151-6F66ED77B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AMPIONSHIP TROPHY OF THE CANADIAN FOOTBALL LEAGUE IS NAMED FOR THE FOURTH MAN TO HOLD WHAT HEREDITARY NOBL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47760" y="762120"/>
            <a:ext cx="844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A THING YOU CAN WEAR IF YOU ADD AN "N" AT THE END, AND BECOMES A THING YOU CAN SIT ON IF YOU ADD AN "R" AT THE 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WITH THE MOST COMMON FORM OF COLOR-BLINDNESS CONFUSE RED WITH WHAT OTHER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S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04720" y="762120"/>
            <a:ext cx="8134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DISNEY PRINCESS HAS A PET TIGER NAMED RAJA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Y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71640" y="762120"/>
            <a:ext cx="7200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 NATION CHANGED ITS NAME TO SRI LANKA IN 197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CHARACTER THAT BETTY WHITE PORTRAYED ON "THE GOLDEN GIR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GRADE OF COIN, RESERVED FOR COINS THAT WERE NEVER IN CIRC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19120" y="762120"/>
            <a:ext cx="810576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RYLAND STATE FLAG CONTAINS A CHECKERBOARD PATTERN OF YELLOW AND WHAT OTHER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ISH  BREAK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824040" y="762120"/>
            <a:ext cx="749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MEAL   IS A FRY-UP THAT COMES WITH BACON, SAUSAGES, EGGS, TOMATOES, MUSHROOMS, AND TO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RL  G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14440" y="762120"/>
            <a:ext cx="8219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AMPIONSHIP TROPHY OF THE CANADIAN FOOTBALL LEAGUE IS NAMED FOR THE FOURTH MAN TO HOLD WHAT HEREDITARY NOBL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25440" y="762120"/>
            <a:ext cx="849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A THING YOU CAN WEAR IF YOU ADD AN "N" AT THE END, AND BECOMES A THING YOU CAN SIT ON IF YOU ADD AN "R" AT THE 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T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WITH THE MOST COMMON FORM OF COLOR-BLINDNESS CONFUSE RED WITH WHAT OTHER CO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DISNEY PRINCESS HAS A PET TIGER NAMED RAJA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281240" y="762120"/>
            <a:ext cx="6581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 NATION CHANGED ITS NAME TO SRI LANKA IN 197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38360" y="762120"/>
            <a:ext cx="766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CHARACTER THAT BETTY WHITE PORTRAYED ON "THE GOLDEN GIR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GRADE OF COIN, RESERVED FOR COINS THAT WERE NEVER IN CIRC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RYLAND STATE FLAG CONTAINS A CHECKERBOARD PATTERN OF YELLOW AND WHAT OTHER CO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76160" y="762120"/>
            <a:ext cx="7591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MEAL   IS A FRY-UP THAT COMES WITH BACON, SAUSAGES, EGGS, TOMATOES, MUSHROOMS, AND TO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12-16T13:59:49Z</dcterms:modified>
  <cp:revision>425</cp:revision>
  <dc:subject/>
  <dc:title>Slide 1</dc:title>
</cp:coreProperties>
</file>