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9DC-4601-42BB-8DE1-2240329B3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D5B8-4418-4206-BA31-3DADCEE06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C179-5437-4C43-86EC-83ABB0C09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4762-5F86-48E0-AF75-5DFB62CFB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F192-9970-4E1C-80F8-2FD37E138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160-5ACD-4C28-B8C8-D0D78AB2F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1266-0D77-449E-9F00-709CC83AE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420B-0956-4925-91FC-FDE917652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A564-65EA-4EA7-8938-54E675F4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A93F-D5B9-444D-9360-854D1798F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5C413-67AB-49A7-AF04-AF049B653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885D-BEB5-4495-A5E6-730BB750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76FE-8A54-4BD1-985A-ED243DDC0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E60A-5DE4-4D53-9ED2-9453881CE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834C-DACF-4EE5-8EB3-EEA93650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BD54-B784-460B-9C92-535F76212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D80E-8360-436B-ACF9-0FE98B899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2141-6854-447E-A9A6-E83965432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188-87B5-44E9-896F-F051B0C8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FE6E4-8FFD-4393-9E49-DB5A8FC7B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0737-0134-4489-9166-F9F871CFB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BCDE-0ACC-45B5-9C1D-C5C43E22B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B2AD-178E-4246-AE8A-A18B9BFD9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8B17-1AFD-45BC-B4DD-C8D4F3195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MPIONSHIP TROPHY OF THE CANADIAN FOOTBALL LEAGUE IS NAMED FOR THE FOURTH MAN TO HOLD WHAT HEREDITARY NOBLE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THING YOU CAN WEAR IF YOU ADD AN "N" AT THE END, AND BECOMES A THING YOU CAN SIT ON IF YOU ADD AN "R" AT THE E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WITH THE MOST COMMON FORM OF COLOR-BLINDNESS CONFUSE RED WITH WHAT OTHER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SM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504720" y="762120"/>
            <a:ext cx="813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SNEY PRINCESS HAS A PET TIGER NAMED RAJ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Y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CHANGED ITS NAME TO SRI LANKA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HARACTER THAT BETTY WHITE PORTRAYED ON "THE GOLDEN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ADE OF COIN, RESERVED FOR COINS THAT WERE NEVER IN CIRC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19120" y="762120"/>
            <a:ext cx="810576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RYLAND STATE FLAG CONTAINS A CHECKERBOARD PATTERN OF YELLOW AND WHAT OTHER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ISH  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824040" y="762120"/>
            <a:ext cx="749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MEAL   IS A FRY-UP THAT COMES WITH BACON, SAUSAGES, EGGS, TOMATOES, MUSHROOMS, AND TO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L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14440" y="762120"/>
            <a:ext cx="8219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AMPIONSHIP TROPHY OF THE CANADIAN FOOTBALL LEAGUE IS NAMED FOR THE FOURTH MAN TO HOLD WHAT HEREDITARY NOBLE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BECOMES A THING YOU CAN WEAR IF YOU ADD AN "N" AT THE END, AND BECOMES A THING YOU CAN SIT ON IF YOU ADD AN "R" AT THE E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T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WITH THE MOST COMMON FORM OF COLOR-BLINDNESS CONFUSE RED WITH WHAT OTHER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DISNEY PRINCESS HAS A PET TIGER NAMED RAJ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81240" y="762120"/>
            <a:ext cx="6581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 NATION CHANGED ITS NAME TO SRI LANKA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38360" y="762120"/>
            <a:ext cx="766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CHARACTER THAT BETTY WHITE PORTRAYED ON "THE GOLDEN GIR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GRADE OF COIN, RESERVED FOR COINS THAT WERE NEVER IN CIRC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RYLAND STATE FLAG CONTAINS A CHECKERBOARD PATTERN OF YELLOW AND WHAT OTHER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6160" y="762120"/>
            <a:ext cx="759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DITIONAL MEAL   IS A FRY-UP THAT COMES WITH BACON, SAUSAGES, EGGS, TOMATOES, MUSHROOMS, AND TO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9:49Z</dcterms:modified>
  <cp:revision>425</cp:revision>
  <dc:subject/>
  <dc:title>Slide 1</dc:title>
</cp:coreProperties>
</file>