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C2B8-CB2B-4884-BFFC-6C895EA1B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C01C-B179-4EB1-AF56-E51199F62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C482-8952-4586-A127-B00DDE615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9275-70A2-4166-8E55-C81F74B22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E034-0DCF-4D68-B68A-A62231C6A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0244-C23F-42C3-9CB5-E6959D46E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0B59-5FF4-4F95-BAC9-C605E1FF7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A747-72CB-4CDF-B3F1-354892D9D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A3C6-EB47-407C-9B93-4219F233F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7A70-DEE2-4366-A493-83A0A9F54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FE8A-4F83-4CB6-92F3-3F3CE576D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4EED-D51F-48CB-A3F0-98EE5C094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6DCC-882D-4C5B-AB49-916A82A4A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F83D-6527-468B-A9E8-09A100042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0901-CEFB-43E0-A444-386BF81ED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0447-4485-4F11-BA02-7752BF3D0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48A2-F57A-440D-A161-17E2962D5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9B63-9382-4888-9A3D-5A8D1A08C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D25A-7F31-4C6A-991B-CB019E8B2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A019-63E2-43E2-907D-58154A994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46DA-60C7-4B2A-A28E-6E9713225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D1B7-5BF1-4285-B8AD-D1BDFEC21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81EC-510F-4330-9E6A-C31F75347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5C54-C08D-4E1E-A6DA-D5B9AFFFA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9960" y="762120"/>
            <a:ext cx="8344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HAMPIONSHIP TROPHY OF THE CANADIAN FOOTBALL LEAGUE IS NAMED FOR THE FOURTH MAN TO HOLD WHAT HEREDITARY NOBL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47760" y="762120"/>
            <a:ext cx="8448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COMES A THING YOU CAN WEAR IF YOU ADD AN "N" AT THE END, AND BECOMES A THING YOU CAN SIT ON IF YOU ADD AN "R" AT THE E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OPLE WITH THE MOST COMMON FORM OF COLOR-BLINDNESS CONFUSE RED WITH WHAT OTHER COL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SM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504720" y="762120"/>
            <a:ext cx="8134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DISNEY PRINCESS HAS A PET TIGER NAMED RAJA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Y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971640" y="762120"/>
            <a:ext cx="7200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LAND NATION CHANGED ITS NAME TO SRI LANKA IN 197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838080" y="762120"/>
            <a:ext cx="746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CHARACTER THAT BETTY WHITE PORTRAYED ON "THE GOLDEN GIRL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IGHEST GRADE OF COIN, RESERVED FOR COINS THAT WERE NEVER IN CIRCUL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519120" y="762120"/>
            <a:ext cx="8105760" cy="37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ARYLAND STATE FLAG CONTAINS A CHECKERBOARD PATTERN OF YELLOW AND WHAT OTHER COL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GLISH  BREAKF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824040" y="762120"/>
            <a:ext cx="749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ADITIONAL MEAL   IS A FRY-UP THAT COMES WITH BACON, SAUSAGES, EGGS, TOMATOES, MUSHROOMS, AND TO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RL  G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14440" y="762120"/>
            <a:ext cx="8219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HAMPIONSHIP TROPHY OF THE CANADIAN FOOTBALL LEAGUE IS NAMED FOR THE FOURTH MAN TO HOLD WHAT HEREDITARY NOBL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325440" y="762120"/>
            <a:ext cx="8493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COMES A THING YOU CAN WEAR IF YOU ADD AN "N" AT THE END, AND BECOMES A THING YOU CAN SIT ON IF YOU ADD AN "R" AT THE E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T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9960" y="762120"/>
            <a:ext cx="8344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OPLE WITH THE MOST COMMON FORM OF COLOR-BLINDNESS CONFUSE RED WITH WHAT OTHER COL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DISNEY PRINCESS HAS A PET TIGER NAMED RAJA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281240" y="762120"/>
            <a:ext cx="6581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LAND NATION CHANGED ITS NAME TO SRI LANKA IN 197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38360" y="762120"/>
            <a:ext cx="7667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CHARACTER THAT BETTY WHITE PORTRAYED ON "THE GOLDEN GIRL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95160" y="762120"/>
            <a:ext cx="7753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IGHEST GRADE OF COIN, RESERVED FOR COINS THAT WERE NEVER IN CIRCUL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04720" y="761760"/>
            <a:ext cx="8134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ARYLAND STATE FLAG CONTAINS A CHECKERBOARD PATTERN OF YELLOW AND WHAT OTHER COL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76160" y="762120"/>
            <a:ext cx="7591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ADITIONAL MEAL   IS A FRY-UP THAT COMES WITH BACON, SAUSAGES, EGGS, TOMATOES, MUSHROOMS, AND TOA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18:45:38Z</dcterms:created>
  <dc:creator>Jennifer Budzinski</dc:creator>
  <dc:description/>
  <dc:language>en-US</dc:language>
  <cp:lastModifiedBy>Erich Friedman</cp:lastModifiedBy>
  <dcterms:modified xsi:type="dcterms:W3CDTF">2020-12-16T13:59:49Z</dcterms:modified>
  <cp:revision>425</cp:revision>
  <dc:subject/>
  <dc:title>Slide 1</dc:title>
</cp:coreProperties>
</file>