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05DF-FC5C-4C28-89F1-75321AA0C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AC49-3437-4A50-906F-D20CCD6E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1B27-36EA-41D0-B53A-FEDDBBC9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E9F-0874-4163-A317-0552911D7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9199-54CC-429A-9E36-3E0B75D52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16F8-F05D-4176-80B3-43CFA520E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D743-3E74-4674-AE63-493FE97D7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069D-2849-4AA8-A898-D657F658D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DA3-0F73-4C39-94B5-DA167491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6D7C-33B3-42F8-9995-A2C72DD7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8492-8F0C-4A79-A37A-75850C2DC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174C-D795-4C34-997C-2FBDA4AE5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FD1E-0483-4DA5-910A-71352A4F9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E356-7EE3-4CA1-A84E-822447FA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437D-5F8D-4B89-B194-FAFB2BB8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C69F-A072-4B1C-9F8B-C2A6CE2E8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C0E2-9FC3-4142-A700-D3489E4EA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13A7-AB26-4E5B-8C42-C86F5036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8052-C25A-4A60-BDD1-24368943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581F-2291-493B-A4FC-6C3DC1D2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B5FB-5BB5-42F4-8BEE-E38973003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DF17-2930-460E-BE83-602E19283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050D-07D8-492D-9239-832ECE3F4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95560" y="761760"/>
            <a:ext cx="675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C" STAND FOR IN "AC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EQUAL TO 5 CARATS OR ABOUT 1/2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U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R BUSINESS DEGREE, AFTER ACCOU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WINE COMES IN TAWNY AND RUBY VAR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 OF WRITTEN FICTION TYPICALLY CONTAINS BETWEEN 20,000 AND 40,000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B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9680" y="762120"/>
            <a:ext cx="83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75 ANIMATED FILM, WHAT WAS THE NAME OF THE TUBA VOICED BY DICK VAN DYKE WHO SETS OFF ON A QUEST TO FIND A SONG OF HIS 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47560" y="762120"/>
            <a:ext cx="804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LOBAL DOMAIN EXTENSION, MORE THAN 6 TIMES AS POPULAR AS .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H. W. BUSH ADMITTED HE LACKED GRAND PLANS FOR BEING PRESIDENT, WHAT HE CALLED "THE ____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EQUAL TO 5 CARATS OR ABOUT 1/2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U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SC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ACHER WHO WAS CHARGED IN 1925 WITH TEACHING EVOLUTION IN   A TENNESSEE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TLANTIC  COAST) 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C" STAND FOR IN "AC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3040" y="4952880"/>
            <a:ext cx="639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TELE–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R BUSINESS DEGREE, AFTER ACCOU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WINE COMES IN TAWNY AND RUBY VAR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 OF WRITTEN FICTION TYPICALLY CONTAINS BETWEEN 20,000 AND 40,000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75 ANIMATED FILM, WHAT WAS THE NAME OF THE TUBA VOICED BY DICK VAN DYKE WHO SETS OFF ON A QUEST TO FIND A SONG OF HIS 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LOBAL DOMAIN EXTENSION, MORE THAN 6 TIMES AS POPULAR AS .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H. W. BUSH ADMITTED HE LACKED GRAND PLANS FOR BEING PRESIDENT, WHAT HE CALLED "THE ____ 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ACHER WHO WAS CHARGED IN 1925 WITH TEACHING EVOLUTION IN   A TENNESSEE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16T14:00:20Z</dcterms:modified>
  <cp:revision>436</cp:revision>
  <dc:subject/>
  <dc:title>Slide 1</dc:title>
</cp:coreProperties>
</file>