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D00B-B4B1-4609-B54F-CD1507ED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7210-2E77-4845-A265-3F583D81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45A-025C-4EA1-B47E-F4B9BF1C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C0D6-DFC2-47E5-9AFD-06E255E0F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72CC-B5A6-459D-9155-39036974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0E4-E6E9-4F38-8326-D7253FF6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9021-0D94-4732-B4AC-03CDEECD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4252-DC04-45F2-9DD8-AC5D59551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BE4-CC81-4977-9201-C9140098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B1A9-4547-4D7A-8775-80D6692F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C25A-33A6-41A1-8B40-A09DA5D2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B6AD-12BF-4E4E-BD93-E1A825C0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E987-AE3C-4599-BBC9-25DC005F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A1EE-A2C2-451C-ADC5-90AEC56BF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E2E7-999F-414C-8291-E5A2BBDD9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A0CF-025B-49CB-8B11-D861D45A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30AB-F563-4038-97E4-6067D1FE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324-04E8-4AEC-89AB-6776741C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9A80-941C-4731-AE1A-DBE9786C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21C3-3F29-489D-A77C-DA23AB18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A2A7-F206-41F8-8671-0A579F8D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9462-A3C3-4031-922D-B2F6F9D49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5D6C-3E41-4AEE-98A8-BB0C4019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95560" y="761760"/>
            <a:ext cx="67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C" STAND FOR IN "AC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5 CARATS OR ABOUT 1/2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BUSINESS DEGREE, AFTER ACCOU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WINE COMES IN TAWNY AND RUBY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 OF WRITTEN FICTION TYPICALLY CONTAINS BETWEEN 20,000 AND 40,000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9680" y="762120"/>
            <a:ext cx="83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75 ANIMATED FILM, WHAT WAS THE NAME OF THE TUBA VOICED BY DICK VAN DYKE WHO SETS OFF ON A QUEST TO FIND A SONG OF HIS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LOBAL DOMAIN EXTENSION, MORE THAN 6 TIMES AS POPULAR AS .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ADMITTED HE LACKED GRAND PLANS FOR BEING PRESIDENT, WHAT HE CALLED "THE ____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5 CARATS OR ABOUT 1/2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SC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TLANTIC  COAST) 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C" STAND FOR IN "AC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3040" y="4952880"/>
            <a:ext cx="639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TELE–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BUSINESS DEGREE, AFTER ACCOU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WINE COMES IN TAWNY AND RUBY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 OF WRITTEN FICTION TYPICALLY CONTAINS BETWEEN 20,000 AND 40,000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75 ANIMATED FILM, WHAT WAS THE NAME OF THE TUBA VOICED BY DICK VAN DYKE WHO SETS OFF ON A QUEST TO FIND A SONG OF HIS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LOBAL DOMAIN EXTENSION, MORE THAN 6 TIMES AS POPULAR AS .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ADMITTED HE LACKED GRAND PLANS FOR BEING PRESIDENT, WHAT HE CALLED "THE ____ 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4:00:20Z</dcterms:modified>
  <cp:revision>436</cp:revision>
  <dc:subject/>
  <dc:title>Slide 1</dc:title>
</cp:coreProperties>
</file>