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703-F8E9-41A3-BA73-63D1F104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B780-CA56-4CF8-92FC-28B84898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6646-CDF6-4B48-B124-FFD3FC1BD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38BC-3DB5-40A2-8E82-620B94B0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1E4A-3F17-40EB-A553-99E50909B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2F62-40D0-4CF9-BA0F-725854B10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02A2-FB62-4AB1-B09E-7D6DEA8C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1FEE-289B-4343-9D09-EA0F2BDB7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1CE7-0CAF-44DA-993C-7222AB135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5F87-6906-44D4-A33D-4C5F1ACD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22E-6C9B-4A98-B04D-4FC371E6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1A1A-2B14-4F5B-86E2-FC043475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3A3-A3C6-4A99-B274-B423AAB5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08F-979D-4FFB-9F9B-82E2AA1A8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ED87-C254-4C0D-8D5C-2C689C807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3B1C-4E3E-41B6-BBDC-9AEA9525B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71F5-9B1F-483C-8BAF-090676734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DFFD-BEC2-4473-8A50-90B915F9C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F313-F5B1-46FC-B6C2-9551BD15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820-654B-4FA9-B19E-0336CE77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18E0-8592-4B1C-AFBE-620B3EB8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BA78-4EC2-4D3F-A974-549D37EE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6793-5AB5-48C6-A2D7-5BD2C08E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B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7560" y="762120"/>
            <a:ext cx="804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5 CARATS OR ABOUT 1/2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SC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  COAST)  CON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C" STAND FOR IN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3040" y="4952880"/>
            <a:ext cx="6396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TELE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R BUSINESS DEGREE, AFTER ACCOU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WINE COMES IN TAWNY AND RUBY VARIE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 OF WRITTEN FICTION TYPICALLY CONTAINS BETWEEN 20,000 AND 40,000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75 ANIMATED FILM, WHAT WAS THE NAME OF THE TUBA VOICED BY DICK VAN DYKE WHO SETS OFF ON A QUEST TO FIND A SONG OF HIS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GLOBAL DOMAIN EXTENSION, MORE THAN 6 TIMES AS POPULAR AS .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ADMITTED HE LACKED GRAND PLANS FOR BEING PRESIDENT, WHAT HE CALLED "THE ____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ACHER WHO WAS CHARGED IN 1925 WITH TEACHING EVOLUTION IN   A TENNESSEE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0:20Z</dcterms:modified>
  <cp:revision>436</cp:revision>
  <dc:subject/>
  <dc:title>Slide 1</dc:title>
</cp:coreProperties>
</file>