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233C-F6EB-420F-8CCE-1805584CD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674BC-66EE-4873-AAD5-525C1E414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83CC-3455-4CAB-B70D-F559B9957D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4D8-9AED-4904-B16E-C3AF99AB8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0AC8-AFD1-4012-86E3-CD466F30F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2DB7-8561-474D-A9B2-4B7723513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8101-B16F-4BE4-A55A-3C74405204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96D1-DD42-4E8B-B901-7A244608F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35384-B393-4E7B-BDCD-D8B75FD0F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2ED5-1A0A-4C1E-8F82-EE641A2B45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28AB-FDFB-4F6B-A06F-85DBE99C40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5975-7DBB-432E-935A-24ED3FDFDE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CC34-936A-498C-8C5B-19238DF2F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D400-46BE-49FC-91AB-8BDD101A2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3A74-ACA4-4787-ADC7-F8B88867FE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0D92-2585-4276-9AED-9C5A06B56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DE666-9449-4A2B-B3AD-1672C5DB3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4F95-1808-441B-8D9D-57835C40F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D50B-C47B-41B0-AEAD-7E786FB73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BCEE-3C0B-4138-8A2F-4683ED832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355C-5A2E-43A7-9E56-66E95D7B1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91D3-C837-426F-B72E-E328E1862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A3A3-F63B-432C-B160-3BBF32E27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143000" y="152388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60240" y="761760"/>
            <a:ext cx="7823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V'S "XENA: WARRIOR PRINCES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495360" y="762120"/>
            <a:ext cx="81532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685800" y="4876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E  HARD  WITH  A  VENGE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895320" y="762120"/>
            <a:ext cx="73533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THIRD "DIE HARD" MOVIE, STARRING BRUCE WILLIS, JEREMY IRONS, AND SAMUEL L. JACK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XQUISITE  COR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GRUESOME NAME OF THE COLLABORATIVE ART FORM IN WHICH EACH PERSON CONTRIBUTES ONLY SEEING THE LAST PART PRODUC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ODY  OF  EVID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636480" y="762120"/>
            <a:ext cx="7871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MADONNA BEING DEFENDED BY WILLEM DAFOE FOR KILLING HER L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2362320" y="4876920"/>
            <a:ext cx="4419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L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343080" y="762120"/>
            <a:ext cx="8458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ALEC BALDWIN, NICOLE KIDMAN, AND BILL PULLM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STER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988920" y="762120"/>
            <a:ext cx="71643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 THE MOST COVERED SONG IN MUSIC HISTO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FUGI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76120" y="762120"/>
            <a:ext cx="8591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HARRISON FORD BEING PURSUED BY TOMMY LEE JONES FOR A CRIME HE DIDN'T COMM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 SOUND  OF  SIL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63400" y="762120"/>
            <a:ext cx="80154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FF SIMON &amp; GARFUNKEL'S FIRST ALBUM WAS SO POPULAR, THEY NAMED THEIR SECOND ALBUM AFTER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819000" y="762120"/>
            <a:ext cx="7506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ULL NAME OF THE THIRD "DIE HARD" MOVIE, STARRING BRUCE WILLIS, JEREMY IRONS, AND SAMUEL L. JACKS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ES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915840" y="762120"/>
            <a:ext cx="7310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THRILLER FILM STARRED NICHOLAS CAGE AND NICOLE KIDMAN AS    A KIDNAPPED COUP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UCY  LAW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00200" y="762120"/>
            <a:ext cx="7743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TITLE CHARACTER ON TV'S "XENA: WARRIOR PRINCES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604800" y="3809880"/>
            <a:ext cx="79344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END  IN  WORDS  IN   TITLES  OF  SUE  GRAFTON'S  "ALPHABET  MYSTERY"  NOVEL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47560" y="761760"/>
            <a:ext cx="804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GRUESOME NAME OF THE COLLABORATIVE ART FORM IN WHICH EACH PERSON CONTRIBUTES ONLY SEEING THE LAST PART PRODUC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58800" y="762120"/>
            <a:ext cx="782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2 FILM STARRED MADONNA BEING DEFENDED BY WILLEM DAFOE FOR KILLING HER LOV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ALEC BALDWIN, NICOLE KIDMAN, AND BILL PULLM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95400" y="723960"/>
            <a:ext cx="71517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BEATLES SONG IS THE MOST COVERED SONG IN MUSIC HISTO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23880" y="761760"/>
            <a:ext cx="789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1993 THRILLER FILM STARRED HARRISON FORD BEING PURSUED BY TOMMY LEE JONES FOR A CRIME   HE DIDN'T COMM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54040" y="761760"/>
            <a:ext cx="80344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NG OFF SIMON &amp; GARFUNKEL'S FIRST ALBUM WAS SO POPULAR, THEY NAMED THEIR SECOND ALBUM AFTER I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11 THRILLER FILM STARRED NICHOLAS CAGE AND NICOLE KIDMAN AS     A KIDNAPPED COUP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3T21:16:21Z</dcterms:created>
  <dc:creator>Jennifer Budzinski</dc:creator>
  <dc:description/>
  <dc:language>en-US</dc:language>
  <cp:lastModifiedBy>Erich Friedman</cp:lastModifiedBy>
  <dcterms:modified xsi:type="dcterms:W3CDTF">2020-11-05T19:42:57Z</dcterms:modified>
  <cp:revision>369</cp:revision>
  <dc:subject/>
  <dc:title>Slide 1</dc:title>
</cp:coreProperties>
</file>