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843C-7508-4F8D-9EEA-DBD510A3F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CA7B-8548-4579-870E-08BFF0E1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7556-6D2A-47FD-AB83-90D757F1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91F1-9DAC-4675-A2F3-0243068A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C221-7125-4C98-B65E-B639AACB4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1A93-EEC9-4349-894D-A1FE0143A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A74B-0C7F-43FE-BCD7-55E61F99C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33CD-2262-46D6-9A9E-86D164C8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CF36-B4F4-498C-9C69-F62964A07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E752-FFD3-4188-A5B8-AE33D241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0BF7-DA42-4170-AE1D-CE9D35D2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29A3-9190-4048-85BB-9EACC8EB2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19CE-5AF8-4FC9-AD3C-D3F2124A5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4E40-70B7-408C-9660-0BA00542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7A26-3C21-4E14-B6B8-DFC7E428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18A6-D82E-4F02-9830-8C9D0336D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DC2-7EBD-4930-A366-159D34DB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2684-DAB8-42FA-859C-BE95D21C3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F73B-5776-4AF8-B394-653D9F2BC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E82C-427C-482F-96D8-2296FBEA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A969-0A70-4381-BC5E-7E911DA9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99A1-B1D6-406C-94F2-CB33A58F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A147-6D31-46AD-8740-FBDAF26E0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0240" y="761760"/>
            <a:ext cx="7823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V'S "XENA: WARRIOR PRINC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5800" y="4876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  HARD  WITH  A  VENGE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5320" y="762120"/>
            <a:ext cx="735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THIRD "DIE HARD" MOVIE, STARRING BRUCE WILLIS, JEREMY IRONS, AND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QUISITE  COR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GRUESOME NAME OF THE COLLABORATIVE ART FORM IN WHICH EACH PERSON CONTRIBUTES ONLY SEEING THE LAST PART PRODUC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DY  OF 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36480" y="762120"/>
            <a:ext cx="787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MADONNA BEING DEFENDED BY WILLEM DAFOE FOR KILLING HER 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362320" y="4876920"/>
            <a:ext cx="4419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ALEC BALDWIN, NICOLE KIDMAN, AND BILL PULL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88920" y="762120"/>
            <a:ext cx="7164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 THE MOST COVERED SONG IN MUSIC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G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76120" y="762120"/>
            <a:ext cx="859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HARRISON FORD BEING PURSUED BY TOMMY LEE JONES FOR A CRIME HE DIDN'T COMM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 SOUND  OF  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63400" y="762120"/>
            <a:ext cx="80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SIMON &amp; GARFUNKEL'S FIRST ALBUM WAS SO POPULAR, THEY NAMED THEIR SECOND ALBUM AFTE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THIRD "DIE HARD" MOVIE, STARRING BRUCE WILLIS, JEREMY IRONS, AND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S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5840" y="762120"/>
            <a:ext cx="7310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THRILLER FILM STARRED NICHOLAS CAGE AND NICOLE KIDMAN AS    A KIDNAPPED COU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LAW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0200" y="762120"/>
            <a:ext cx="7743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V'S "XENA: WARRIOR PRINC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04800" y="3809880"/>
            <a:ext cx="7934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END  IN  WORDS  IN   TITLES  OF  SUE  GRAFTON'S  "ALPHABET  MYSTERY"  NOVE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GRUESOME NAME OF THE COLLABORATIVE ART FORM IN WHICH EACH PERSON CONTRIBUTES ONLY SEEING THE LAST PART PRODUC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58800" y="762120"/>
            <a:ext cx="782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MADONNA BEING DEFENDED BY WILLEM DAFOE FOR KILLING HER 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ALEC BALDWIN, NICOLE KIDMAN, AND BILL PULL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5400" y="723960"/>
            <a:ext cx="7151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THE MOST COVERED SONG IN MUSIC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HARRISON FORD BEING PURSUED BY TOMMY LEE JONES FOR A CRIME   HE DIDN'T COMM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SIMON &amp; GARFUNKEL'S FIRST ALBUM WAS SO POPULAR, THEY NAMED THEIR SECOND ALBUM AFTER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THRILLER FILM STARRED NICHOLAS CAGE AND NICOLE KIDMAN AS     A KIDNAPPED COU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0-11-05T19:42:57Z</dcterms:modified>
  <cp:revision>369</cp:revision>
  <dc:subject/>
  <dc:title>Slide 1</dc:title>
</cp:coreProperties>
</file>