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B47D-AB01-4FF5-8DF7-C1E28A4B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9278-6D21-4A25-B96B-987EEDA86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8644-D130-425A-898A-D56BCA44B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E67C-A460-48A8-B6A8-A1891CB1F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5B6C-6E2B-4E2A-85FD-4682E814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0E3B-8EE3-4368-AA49-BE2C1C0F8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46B0-0757-40A2-9B8C-8099A247A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CF25-E2DA-493B-A3BA-546F48FEB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F8DC-D9B2-4AB8-BF1E-1B0C8506A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356-AF2B-4CEF-8EC7-5A24324EB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615B-2AA2-42A5-928D-7EA315D87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B8FF-9BB3-4EDF-BBC3-DF80F8CC9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A7B9-3338-4D7E-9DA5-F0219BC81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3CEF-AB3B-4DF5-9CC9-0FAFFB834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62B5-0EF1-451E-8AE2-FA9F919EB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872B-031E-4AE5-B555-E71B5B760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09F7-D36D-4787-86FB-82493D588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D2A8-CBBC-4ECA-81A0-CB69958FA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2734-00F3-4EAA-8393-6EF43B56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6636-50DE-41D6-A17A-55CB6399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DC9A-3AA5-4D19-ABF0-10C92E780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2B4-4402-4240-97B3-BDE2CA7FD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D3F1-30C6-4C35-9668-F63F7660E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0240" y="761760"/>
            <a:ext cx="7823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V'S "XENA: WARRIOR PRINC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5800" y="4876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  HARD  WITH  A  VENGE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5320" y="762120"/>
            <a:ext cx="735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THIRD "DIE HARD" MOVIE, STARRING BRUCE WILLIS, JEREMY IRONS, AND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QUISITE  COR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GRUESOME NAME OF THE COLLABORATIVE ART FORM IN WHICH EACH PERSON CONTRIBUTES ONLY SEEING THE LAST PART PRODUC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DY  OF 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36480" y="762120"/>
            <a:ext cx="787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MADONNA BEING DEFENDED BY WILLEM DAFOE FOR KILLING HER 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362320" y="4876920"/>
            <a:ext cx="4419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ALEC BALDWIN, NICOLE KIDMAN, AND BILL PULL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88920" y="762120"/>
            <a:ext cx="7164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 THE MOST COVERED SONG IN MUSIC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G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76120" y="762120"/>
            <a:ext cx="859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HARRISON FORD BEING PURSUED BY TOMMY LEE JONES FOR A CRIME HE DIDN'T COMM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 SOUND  OF  SI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63400" y="762120"/>
            <a:ext cx="8015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FF SIMON &amp; GARFUNKEL'S FIRST ALBUM WAS SO POPULAR, THEY NAMED THEIR SECOND ALBUM AFTE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THIRD "DIE HARD" MOVIE, STARRING BRUCE WILLIS, JEREMY IRONS, AND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S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5840" y="762120"/>
            <a:ext cx="7310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THRILLER FILM STARRED NICHOLAS CAGE AND NICOLE KIDMAN AS    A KIDNAPPED COU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LAW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0200" y="762120"/>
            <a:ext cx="7743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V'S "XENA: WARRIOR PRINC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04800" y="3809880"/>
            <a:ext cx="7934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END  IN  WORDS  IN   TITLES  OF  SUE  GRAFTON'S  "ALPHABET  MYSTERY"  NOVE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GRUESOME NAME OF THE COLLABORATIVE ART FORM IN WHICH EACH PERSON CONTRIBUTES ONLY SEEING THE LAST PART PRODUC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58800" y="762120"/>
            <a:ext cx="782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MADONNA BEING DEFENDED BY WILLEM DAFOE FOR KILLING HER 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ALEC BALDWIN, NICOLE KIDMAN, AND BILL PULL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5400" y="723960"/>
            <a:ext cx="7151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THE MOST COVERED SONG IN MUSIC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HARRISON FORD BEING PURSUED BY TOMMY LEE JONES FOR A CRIME   HE DIDN'T COMM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4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FF SIMON &amp; GARFUNKEL'S FIRST ALBUM WAS SO POPULAR, THEY NAMED THEIR SECOND ALBUM AFTER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THRILLER FILM STARRED NICHOLAS CAGE AND NICOLE KIDMAN AS     A KIDNAPPED COU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0-11-05T19:42:57Z</dcterms:modified>
  <cp:revision>369</cp:revision>
  <dc:subject/>
  <dc:title>Slide 1</dc:title>
</cp:coreProperties>
</file>