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62B93-FBB7-4AD6-9714-7C68EEBC44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6E4F7-C8E9-4C25-BB9D-776FBE93B8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BF036-5C8F-46DB-8E10-1B34154EB1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16006-DF21-478B-94EF-2A69461139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26E02-5028-401C-9314-425DA7DA27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4D23C-263D-40AA-BFEF-AFC3780C9E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E4483-CB0E-420E-A675-856E6BF13D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75A69-ED06-4CC4-B916-DBF29008E8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13ACB-28B7-485E-93AE-419AFF958D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249C4-D41E-4F82-91BE-253A6B3C96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03010-63B0-4681-AB67-4CB928D5A8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BD34A-38AD-4768-8AFA-CE32A362AE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31B1A-97B6-47C2-B1F7-4952265502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48064-FC35-41D3-85D0-3C5FC97EB6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D7C41-BAAE-4C45-AEA3-83852975FE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81B7C-6692-43AB-8A1F-E8BF68E443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9E026-0B71-486E-A673-58BF75FF48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3CE25-E217-4C1B-8768-E14C0A3AE3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FBDBF-4445-433D-9BA7-22A1E31377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53970-C701-489E-B3D9-39BB1CF54B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2C616-EFE9-45CC-90C5-5F067A4B95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4379E-B509-4C77-B6EA-3207300B7C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D8216-0079-425A-B4A1-4CCECFFC82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19040" y="762120"/>
            <a:ext cx="8305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"THE LORD OF THE RINGS" BOOKS, WHAT IMAGE IS MOST ASSOCIATED WITH SAURON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533520" y="4876920"/>
            <a:ext cx="80769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380880" y="762120"/>
            <a:ext cx="83822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R THE SUN'S LIGHT TO GET TO URANUS, IT TAKES 4 WHAT?  MINUTES, HOURS, OR DAY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762120" y="762120"/>
            <a:ext cx="7619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IS BIGGEST?  THE PRODUCT, QUOTIENT, SUM, OR DIFFERENCE OF THE TWO NUMBERS 1.5 AND 2.5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419040" y="4876920"/>
            <a:ext cx="8305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W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876240" y="762120"/>
            <a:ext cx="73915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OOL IS TH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3" descr="614h9rvgVEL._SX425_.jpg"/>
          <p:cNvPicPr/>
          <p:nvPr/>
        </p:nvPicPr>
        <p:blipFill>
          <a:blip r:embed="rId1"/>
          <a:stretch/>
        </p:blipFill>
        <p:spPr>
          <a:xfrm>
            <a:off x="2819520" y="1917720"/>
            <a:ext cx="3504960" cy="2903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YO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723960" y="730080"/>
            <a:ext cx="769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INISH THIS ALEXANDER POPE RHYME: "SATAN NOW IS WISER THAN OF ____, AND TEMPTS BY MAKING RICH, NOT MAKING POO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914400" y="4876920"/>
            <a:ext cx="7315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U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743040" y="762120"/>
            <a:ext cx="76579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3-LETTER NAME OF YOPLAIT'S "FRENCH STYLE YOGURT" BRA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333440" y="4876920"/>
            <a:ext cx="6477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YM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552600" y="762120"/>
            <a:ext cx="80388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4-LETTER WORD COMES FROM THE GREEK MEANING "SONG OF PRAIS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1638360" y="4876920"/>
            <a:ext cx="5867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W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1333440" y="762120"/>
            <a:ext cx="64771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TERM FOR A FEMALE SHEEP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04920" y="761760"/>
            <a:ext cx="85341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R THE SUN'S LIGHT TO GET TO URANUS, IT TAKES 4 WHAT?  MINUTES, HOURS, OR DAY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106668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AT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914400" y="762120"/>
            <a:ext cx="7315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ETRIC UNIT OF POWER, EQUAL TO ONE JOULE PER SECO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Y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419040" y="762120"/>
            <a:ext cx="83059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"THE LORD OF THE RINGS" BOOKS, WHAT IMAGE IS MOST ASSOCIATED WITH SAUR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3"/>
          <p:cNvSpPr/>
          <p:nvPr/>
        </p:nvSpPr>
        <p:spPr>
          <a:xfrm>
            <a:off x="1066680" y="4876920"/>
            <a:ext cx="7010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MONYMS  OF  PRONOU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6197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IS BIGGEST?  THE PRODUCT, QUOTIENT, SUM, OR DIFFERENCE OF THE TWO NUMBERS 1.5 AND 2.5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838080" y="762120"/>
            <a:ext cx="7467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OOL IS TH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614h9rvgVEL._SX425_.jpg"/>
          <p:cNvPicPr/>
          <p:nvPr/>
        </p:nvPicPr>
        <p:blipFill>
          <a:blip r:embed="rId1"/>
          <a:stretch/>
        </p:blipFill>
        <p:spPr>
          <a:xfrm>
            <a:off x="2671920" y="1981080"/>
            <a:ext cx="3800160" cy="314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INISH THIS ALEXANDER POPE RHYME: "SATAN NOW IS WISER THAN OF ____, AND TEMPTS BY MAKING RICH, NOT MAKING POO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3-LETTER NAME OF YOPLAIT'S "FRENCH STYLE YOGURT" BRAN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4-LETTER WORD COMES FROM THE GREEK MEANING "SONG OF PRAIS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257120" y="761760"/>
            <a:ext cx="6629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TERM FOR A FEMALE SHEEP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ETRIC UNIT OF POWER, EQUAL TO ONE JOULE PER SECON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5T17:42:26Z</dcterms:created>
  <dc:creator>Jennifer Budzinski</dc:creator>
  <dc:description/>
  <dc:language>en-US</dc:language>
  <cp:lastModifiedBy>Erich Friedman</cp:lastModifiedBy>
  <dcterms:modified xsi:type="dcterms:W3CDTF">2020-12-16T14:01:06Z</dcterms:modified>
  <cp:revision>462</cp:revision>
  <dc:subject/>
  <dc:title>Slide 1</dc:title>
</cp:coreProperties>
</file>