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D00A-C6B9-4253-B4A6-3141F978A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41B4-8635-425D-B067-ED927401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6B8C-6AC6-4C80-BAF2-0011CFC0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78D-D3A0-42AC-B5AB-10F88F001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CEA3-B1C6-4E67-80D8-BE6DCBA5F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372-5683-469B-B287-6F48D66AD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38C-8405-4139-89C8-9C10EC15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2905-7249-4337-9541-18223EA71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157B-F0E3-43DD-916D-37988FDD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CA60-D7E5-4E70-9749-995B6E7D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6D9C-1F78-480C-8034-872C8E06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7790-70A8-4A8B-9245-95C82401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0A80-4476-4ADC-8EB8-18DA0469D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9C84-3BBF-418F-BFF1-A333E8103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F180-8EA3-4EB9-AF8D-42F10A86E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12E-BC6F-4102-9956-C935079DE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2EC1-1B45-4DDC-8873-291FF508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411B-0A94-4F3F-AA92-20BC56A8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6294-CDAE-4216-B0F7-B64036D9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8E5B-A144-4EBA-BB6F-DAE6E9299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EA41-5E28-4FDE-8AA1-DB7536588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B55C-952A-43A6-953C-E966056A4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387-176F-4415-9083-A46FCF3B5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BOOKS, WHAT IMAGE IS MOST ASSOCIATED WITH SAUR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SUN'S LIGHT TO GET TO URANUS, IT TAKES 4 WHAT?  MINUTES, HOURS, OR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ST?  THE PRODUCT, QUOTIENT, SUM, OR DIFFERENCE OF THE TWO NUMBERS 1.5 AND 2.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O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614h9rvgVEL._SX425_.jpg"/>
          <p:cNvPicPr/>
          <p:nvPr/>
        </p:nvPicPr>
        <p:blipFill>
          <a:blip r:embed="rId1"/>
          <a:stretch/>
        </p:blipFill>
        <p:spPr>
          <a:xfrm>
            <a:off x="2819520" y="1917720"/>
            <a:ext cx="3504960" cy="29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300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ALEXANDER POPE RHYME: "SATAN NOW IS WISER THAN OF ____, AND TEMPTS BY MAKING RICH, NOT MAKING P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NAME OF YOPLAIT'S "FRENCH STYLE YOGURT"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COMES FROM THE GREEK MEANING "SONG OF PRA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FEMALE SH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THE SUN'S LIGHT TO GET TO URANUS, IT TAKES 4 WHAT?  MINUTES, HOURS, OR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POWER, EQUAL TO ONE JOULE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BOOKS, WHAT IMAGE IS MOST ASSOCIATED WITH SAUR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PRO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ST?  THE PRODUCT, QUOTIENT, SUM, OR DIFFERENCE OF THE TWO NUMBERS 1.5 AND 2.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O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614h9rvgVEL._SX425_.jpg"/>
          <p:cNvPicPr/>
          <p:nvPr/>
        </p:nvPicPr>
        <p:blipFill>
          <a:blip r:embed="rId1"/>
          <a:stretch/>
        </p:blipFill>
        <p:spPr>
          <a:xfrm>
            <a:off x="2671920" y="1981080"/>
            <a:ext cx="3800160" cy="31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ALEXANDER POPE RHYME: "SATAN NOW IS WISER THAN OF ____, AND TEMPTS BY MAKING RICH, NOT MAKING P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NAME OF YOPLAIT'S "FRENCH STYLE YOGURT"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COMES FROM THE GREEK MEANING "SONG OF PRA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FEMALE SH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POWER, EQUAL TO ONE JOULE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7:42:26Z</dcterms:created>
  <dc:creator>Jennifer Budzinski</dc:creator>
  <dc:description/>
  <dc:language>en-US</dc:language>
  <cp:lastModifiedBy>Erich Friedman</cp:lastModifiedBy>
  <dcterms:modified xsi:type="dcterms:W3CDTF">2020-12-16T14:01:06Z</dcterms:modified>
  <cp:revision>462</cp:revision>
  <dc:subject/>
  <dc:title>Slide 1</dc:title>
</cp:coreProperties>
</file>