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54266-2C54-42E8-A585-1DE70B0593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9A046-B69C-4F45-9047-46F9AC28CA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47274-40BE-4863-A60E-D8E9CD5B7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8A6E3-7D13-46E6-989C-46CAD07F37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EAF6C-576A-4F9B-ACD4-5A63AFE3B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C61BC-4CB1-4C6E-B7D4-937DD25750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BE45C-F88D-4CEC-9EFD-F4DBCECD27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1FE58-F4F7-49C2-A49D-ADBD4CCA90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AFF94-CA03-4775-812A-B8580EBA69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D70E5-1271-42E1-8239-9EB8667157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180B5-DF97-45AC-86CB-74C398538D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4FAEB-0E9A-4B06-8A47-B1AC87BFB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97BAC-1856-4FCE-B6AA-BC79549829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54C04-01F1-4FCA-95F3-B5B5B3BEF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2458C-B7AF-499A-9DB1-5337D25DCF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0BF71-AD17-4CB4-A83E-257B6220D0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5C8DF-8E3B-4A5B-A273-11A5E6F1AB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CB57F-BB30-4184-9D91-73629011BC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E1C16-1C78-41CD-8FB2-D2DC5C1A08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02EDF-D4AF-4790-A1F0-52565026FE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677F7-5163-40C7-8ECC-D3B253F05F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3E733-B68A-483F-854E-43AC869E5E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6AB3F-B038-4B86-88AD-E7BC12B787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THE LORD OF THE RINGS" BOOKS, WHAT IMAGE IS MOST ASSOCIATED WITH SAURON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533520" y="487692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380880" y="762120"/>
            <a:ext cx="8382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 THE SUN'S LIGHT TO GET TO URANUS, IT TAKES 4 WHAT?  MINUTES, HOURS, OR DAY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IS BIGGEST?  THE PRODUCT, QUOTIENT, SUM, OR DIFFERENCE OF THE TWO NUMBERS 1.5 AND 2.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419040" y="48769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W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876240" y="762120"/>
            <a:ext cx="73915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OOL IS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614h9rvgVEL._SX425_.jpg"/>
          <p:cNvPicPr/>
          <p:nvPr/>
        </p:nvPicPr>
        <p:blipFill>
          <a:blip r:embed="rId1"/>
          <a:stretch/>
        </p:blipFill>
        <p:spPr>
          <a:xfrm>
            <a:off x="2819520" y="1917720"/>
            <a:ext cx="3504960" cy="290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723960" y="73008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INISH THIS ALEXANDER POPE RHYME: "SATAN NOW IS WISER THAN OF ____, AND TEMPTS BY MAKING RICH, NOT MAKING POO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914400" y="4876920"/>
            <a:ext cx="7315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U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743040" y="762120"/>
            <a:ext cx="7657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3-LETTER NAME OF YOPLAIT'S "FRENCH STYLE YOGURT" BR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333440" y="4876920"/>
            <a:ext cx="6477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YM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552600" y="762120"/>
            <a:ext cx="8038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4-LETTER WORD COMES FROM THE GREEK MEANING "SONG OF PRAIS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638360" y="48769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W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333440" y="762120"/>
            <a:ext cx="64771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ERM FOR A FEMALE SHEE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5341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 THE SUN'S LIGHT TO GET TO URANUS, IT TAKES 4 WHAT?  MINUTES, HOURS, OR DAY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06668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T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914400" y="76212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ETRIC UNIT OF POWER, EQUAL TO ONE JOULE PER SECO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Y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419040" y="762120"/>
            <a:ext cx="8305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THE LORD OF THE RINGS" BOOKS, WHAT IMAGE IS MOST ASSOCIATED WITH SAUR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1066680" y="487692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MONYMS  OF  PRONOU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IS BIGGEST?  THE PRODUCT, QUOTIENT, SUM, OR DIFFERENCE OF THE TWO NUMBERS 1.5 AND 2.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OOL IS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614h9rvgVEL._SX425_.jpg"/>
          <p:cNvPicPr/>
          <p:nvPr/>
        </p:nvPicPr>
        <p:blipFill>
          <a:blip r:embed="rId1"/>
          <a:stretch/>
        </p:blipFill>
        <p:spPr>
          <a:xfrm>
            <a:off x="2671920" y="1981080"/>
            <a:ext cx="3800160" cy="314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INISH THIS ALEXANDER POPE RHYME: "SATAN NOW IS WISER THAN OF ____, AND TEMPTS BY MAKING RICH, NOT MAKING POO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3-LETTER NAME OF YOPLAIT'S "FRENCH STYLE YOGURT" BRA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4-LETTER WORD COMES FROM THE GREEK MEANING "SONG OF PRAIS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257120" y="761760"/>
            <a:ext cx="6629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ERM FOR A FEMALE SHEEP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ETRIC UNIT OF POWER, EQUAL TO ONE JOULE PER SECO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5T17:42:26Z</dcterms:created>
  <dc:creator>Jennifer Budzinski</dc:creator>
  <dc:description/>
  <dc:language>en-US</dc:language>
  <cp:lastModifiedBy>Erich Friedman</cp:lastModifiedBy>
  <dcterms:modified xsi:type="dcterms:W3CDTF">2020-12-16T14:01:06Z</dcterms:modified>
  <cp:revision>462</cp:revision>
  <dc:subject/>
  <dc:title>Slide 1</dc:title>
</cp:coreProperties>
</file>