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FB01A-8083-42BB-89DD-3A7E286F2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F0F08-CF81-425D-B37A-31136F5E2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CA3ED-6466-4032-9E59-CB986C498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F1541-62E9-41B1-876E-6758A5514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4E3C0-D671-4D05-B1B1-894205CE8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BB1FE-6599-49E0-A328-6E18BBAC4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3F6CE-2E44-422D-9331-F65F847C7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67F52-F504-49E6-B21E-37ACA573C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934B8-6539-4549-AE70-6FEABBFB7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293EA-0D7F-477E-A1B3-8574CA833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4BE30-8694-4391-9463-87E3071A2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44DD9-0343-4EC6-9308-4D8D22057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AF2F1-945B-438B-846B-1A84D1E95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3B7CA-2154-42FD-B2D9-0249A36F5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CF509-BA99-4E9D-91E2-0E734CC81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7E01E-8378-4A84-A269-1C166E4EA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C5B31-233F-4388-B517-1E2BF66F2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AA197-274F-4A86-A951-DAC6B2259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11417-FD61-4064-A514-1061B60A2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821C6-9896-4CF4-8F70-3F00F7D61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75F63-EC6F-4A96-A0D4-64A06AE52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3F355-CDAD-471E-9F91-E87F9B9D7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AE3F3-0A61-407A-85AA-8FBAEB6D9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RISED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YER OF THE ORIGINAL FOOD PYRAMID, WITH 5-9 RECOMMENDED SERVINGS PER D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YEAR  OF  THE  R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723960" y="762120"/>
            <a:ext cx="7696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GAN JAN 25, 2020 AND WILL END FEB 11, 202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WEN  IF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LACK FEMALE JOURNALIST MODERATED THE VICE PRESIDENTIAL DEBATES IN 2008 AND 201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RCH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504720" y="762120"/>
            <a:ext cx="8134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ILY OF FLOWERS, ENCOMPASSING ABOUT 10% OF SPECIES OF PLANTS, IS THE NATIONAL FLOWER OF MOST OF CENTRAL AMERIC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828800" y="4876920"/>
            <a:ext cx="563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NOLD  PAL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DOMINANT PRO GOLFER 1958-1963, NICKNAMED "THE K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STATE IN THE CONTIGUOUS U.S. BORDERS ONLY ONE OTHER STAT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ARTH 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55720" y="762120"/>
            <a:ext cx="7432560" cy="31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OLIDAY HAS BEEN CELEBRATED EVERY APRIL 22 EVER SINCE 1970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981080" y="4876920"/>
            <a:ext cx="5181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IP  H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YLE OF MUSIC DID GRANDMASTER FLASH AND THE FURIOUS FIVE S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95160" y="762120"/>
            <a:ext cx="7753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GAN JAN 25, 2020 AND WILL END FEB 11, 202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MAYFL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933480" y="762120"/>
            <a:ext cx="7277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HIP TRANSPORTED THE FIRST PURITANS TO THE NEW WORLD IN 162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UITS  &amp;  VEGE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723960" y="762120"/>
            <a:ext cx="7696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RISED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YER OF THE ORIGINAL FOOD PYRAMID, WITH 5-9 RECOMMENDED SERVINGS PER 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3812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EATURED  ON  2020  U.S.  STAM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LACK FEMALE JOURNALIST MODERATED THE VICE PRESIDENTIAL DEBATES IN 2008 AND 201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ILY OF FLOWERS, ENCOMPASSING ABOUT 10% OF SPECIES OF PLANTS, IS THE NATIONAL FLOWER OF MOST OF CENTRAL AMERIC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DOMINANT PRO GOLFER 1958-1963, NICKNAMED "THE K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14440" y="762120"/>
            <a:ext cx="8115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STATE IN THE CONTIGUOUS U.S. BORDERS ONLY ONE OTHER ST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85880" y="761760"/>
            <a:ext cx="7572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OLIDAY HAS BEEN CELEBRATED EVERY APRIL 22 EVER SINCE 1970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YLE OF MUSIC DID GRANDMASTER FLASH AND THE FURIOUS FIVE S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95320" y="762120"/>
            <a:ext cx="73533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HIP TRANSPORTED THE FIRST PURITANS TO THE NEW WORLD IN 162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1T17:29:44Z</dcterms:created>
  <dc:creator>Jennifer Budzinski</dc:creator>
  <dc:description/>
  <dc:language>en-US</dc:language>
  <cp:lastModifiedBy>Erich Friedman</cp:lastModifiedBy>
  <dcterms:modified xsi:type="dcterms:W3CDTF">2020-12-16T14:01:31Z</dcterms:modified>
  <cp:revision>360</cp:revision>
  <dc:subject/>
  <dc:title>Slide 1</dc:title>
</cp:coreProperties>
</file>