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5D22-0259-4CAE-9CA2-5A5EF69C5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5061-38A2-4EF8-AB6E-BD38A758D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B644-D15B-4DC8-9DDB-BD6434EB7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B27E-A12E-478F-B096-BF9442E21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5773-8727-467D-9488-143917235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40EE-60C1-45A8-8120-54B26CA7A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8038-9D60-47C2-A9C6-BFB8EAC5C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9850-1B34-4F26-8D9F-DD50F03D7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A858-ADA6-411F-895D-658DCD4F3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66ED-87C7-4435-A796-0007CBA7D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2E88-5344-4FC9-A82F-B72692A00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F221-8BB5-44A7-8211-5EFD6D026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62DF-B967-46BC-9A59-5FA05F69B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47ED-BAB1-4EBE-85B4-2CF06BD41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A2B0-1A9C-48BA-A613-3626EACEA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2A3E-800B-4FAB-AF89-9D26F7FA2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AFE6-532B-4C28-9799-B8BE32935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4331-2762-48F9-ACC0-E05E0E485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C7FA-B6B0-43D1-B133-26E536EC1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5ECD-A2BB-4295-A000-B09E494D9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05BF-2C02-436C-89B4-B3D289D44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D833-B41F-45E5-AA53-E7ADD94AC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9200-3B12-4DF4-85E0-52D3F66B2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RISED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YER OF THE ORIGINAL FOOD PYRAMID, WITH 5-9 RECOMMENDED SERVINGS PER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YEAR  OF  THE  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396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GAN JAN 25, 2020 AND WILL END FEB 11, 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WEN  IF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FEMALE JOURNALIST MODERATED THE VICE PRESIDENTIAL DEBATES IN 2008 AND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CH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04720" y="762120"/>
            <a:ext cx="813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FLOWERS, ENCOMPASSING ABOUT 10% OF SPECIES OF PLANTS, IS THE NATIONAL FLOWER OF MOST OF CENTRAL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  PA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OMINANT PRO GOLFER 1958-1963, NICKNAMED "THE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N THE CONTIGUOUS U.S. BORDERS ONLY ONE OTHER STAT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TH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5720" y="762120"/>
            <a:ext cx="743256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 HAS BEEN CELEBRATED EVERY APRIL 22 EVER SINCE 1970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P  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LE OF MUSIC DID GRANDMASTER FLASH AND THE FURIOUS FIVE 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GAN JAN 25, 2020 AND WILL END FEB 11, 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Y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33480" y="762120"/>
            <a:ext cx="7277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TRANSPORTED THE FIRST PURITANS TO THE NEW WORLD IN 16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UITS  &amp;  VEGE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RISED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YER OF THE ORIGINAL FOOD PYRAMID, WITH 5-9 RECOMMENDED SERVINGS PER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3812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TURED  ON  2020  U.S.  STA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FEMALE JOURNALIST MODERATED THE VICE PRESIDENTIAL DEBATES IN 2008 AND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FLOWERS, ENCOMPASSING ABOUT 10% OF SPECIES OF PLANTS, IS THE NATIONAL FLOWER OF MOST OF CENTRAL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OMINANT PRO GOLFER 1958-1963, NICKNAMED "THE K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N THE CONTIGUOUS U.S. BORDERS ONLY ONE OTHER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85880" y="761760"/>
            <a:ext cx="757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 HAS BEEN CELEBRATED EVERY APRIL 22 EVER SINCE 1970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LE OF MUSIC DID GRANDMASTER FLASH AND THE FURIOUS FIVE 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TRANSPORTED THE FIRST PURITANS TO THE NEW WORLD IN 16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12-16T14:01:31Z</dcterms:modified>
  <cp:revision>360</cp:revision>
  <dc:subject/>
  <dc:title>Slide 1</dc:title>
</cp:coreProperties>
</file>