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D86B-AAC5-491D-8EBD-9A352E065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C2F3-2A2B-40A5-81F3-CD99481D5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0477-8A34-45AC-986B-2D5A64CAF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96CC-FBBF-4EEC-B15E-66F45A4E8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EAD4-D70A-4D13-92DC-BF5E3883C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3CAB-D796-4309-984A-E4CF0CDBC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565E-B6B7-4714-88C1-8E567D16C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A768-31E4-41B1-BC92-33CA79778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3F63-4EA3-43F8-BB86-6F67F0B0B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2433-CC59-4796-90E9-FE8E543F1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46CB-3D62-4DE0-BEB6-A2A6978D8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3662-FB76-4126-AC72-B7303120A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9DDE-9838-400A-82C4-110B846C4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F1BA-B6BC-4007-9B27-105060B22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71DD-C04E-4B3D-81E2-BFB2F418D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53FC-9AF7-4728-A6BB-EF15E99B6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A642-EB5E-48E4-ABB0-C8DF82D7A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BD6B-C15E-42A8-81B7-832011363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45F1-B87B-46D9-9B97-D8A209F40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ADC0-C2DD-4CA7-B6BD-8ECA35B14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9AC0-7F7E-4F3B-8858-486465006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2948-CA42-4EA5-982D-425A78A1E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C5A6-6CD4-4B6A-A449-9AB10855B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RISED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YER OF THE ORIGINAL FOOD PYRAMID, WITH 5-9 RECOMMENDED SERVINGS PER 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YEAR  OF  THE  R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23960" y="76212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GAN JAN 25, 2020 AND WILL END FEB 11, 202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WEN  IF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ACK FEMALE JOURNALIST MODERATED THE VICE PRESIDENTIAL DEBATES IN 2008 AND 201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CH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04720" y="762120"/>
            <a:ext cx="8134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ILY OF FLOWERS, ENCOMPASSING ABOUT 10% OF SPECIES OF PLANTS, IS THE NATIONAL FLOWER OF MOST OF CENTRAL AME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NOLD  PAL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DOMINANT PRO GOLFER 1958-1963, NICKNAMED "THE K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 IN THE CONTIGUOUS U.S. BORDERS ONLY ONE OTHER STA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RTH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55720" y="762120"/>
            <a:ext cx="743256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LIDAY HAS BEEN CELEBRATED EVERY APRIL 22 EVER SINCE 1970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981080" y="4876920"/>
            <a:ext cx="5181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P  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YLE OF MUSIC DID GRANDMASTER FLASH AND THE FURIOUS FIVE S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GAN JAN 25, 2020 AND WILL END FEB 11, 202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AY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33480" y="762120"/>
            <a:ext cx="7277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IP TRANSPORTED THE FIRST PURITANS TO THE NEW WORLD IN 162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UITS  &amp;  VEGE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RISED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YER OF THE ORIGINAL FOOD PYRAMID, WITH 5-9 RECOMMENDED SERVINGS PER 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3812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ATURED  ON  2020  U.S.  STAM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ACK FEMALE JOURNALIST MODERATED THE VICE PRESIDENTIAL DEBATES IN 2008 AND 201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ILY OF FLOWERS, ENCOMPASSING ABOUT 10% OF SPECIES OF PLANTS, IS THE NATIONAL FLOWER OF MOST OF CENTRAL AME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DOMINANT PRO GOLFER 1958-1963, NICKNAMED "THE K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14440" y="762120"/>
            <a:ext cx="8115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 IN THE CONTIGUOUS U.S. BORDERS ONLY ONE OTHER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85880" y="761760"/>
            <a:ext cx="757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LIDAY HAS BEEN CELEBRATED EVERY APRIL 22 EVER SINCE 1970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YLE OF MUSIC DID GRANDMASTER FLASH AND THE FURIOUS FIVE S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95320" y="762120"/>
            <a:ext cx="73533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IP TRANSPORTED THE FIRST PURITANS TO THE NEW WORLD IN 162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1T17:29:44Z</dcterms:created>
  <dc:creator>Jennifer Budzinski</dc:creator>
  <dc:description/>
  <dc:language>en-US</dc:language>
  <cp:lastModifiedBy>Erich Friedman</cp:lastModifiedBy>
  <dcterms:modified xsi:type="dcterms:W3CDTF">2020-12-16T14:01:31Z</dcterms:modified>
  <cp:revision>360</cp:revision>
  <dc:subject/>
  <dc:title>Slide 1</dc:title>
</cp:coreProperties>
</file>