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77C5-5BFE-4550-B4F8-BB3E8668C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9FC2-843D-455A-A45A-FECA7FAE3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F0FD-9F6B-47FA-A215-319E27F96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6255-0A24-4F71-B6B8-B8931B138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D80C-74F2-4114-A866-6CF984A8E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BB67-0891-4B4D-8C82-4C3C3D2EE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93E6-EB2C-41FD-8135-9D2329670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C7E5-0C50-4EB3-B6B2-9DDEAD217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DB0F-B6DC-400D-B329-99DB76E09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C7D1-2659-4202-B8ED-FEB569442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45F2-7ED5-41E1-A64D-055BFE78D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12FC-F929-4C8F-B890-E67AE4193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2B9C-F452-4B3F-B062-521668208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FB41-38F4-4B1E-811B-FFCD122E9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FA12-85DF-48AD-9682-D58871447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4DA7-AA3B-46F5-889F-F63C52B1F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CA71-3DAB-4988-A3FF-C2265A81C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7428-0905-4A59-AD9F-77D5DF72B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315D-850E-436D-B8B2-E900F7D3D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59F5-A5BF-435E-BBDF-5515167BD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505F-4FF5-4442-98C4-04FE8EC36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1940-E778-4508-BA28-823B7338C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9C5C-502E-49DD-8830-78CAE69FF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98640" y="762120"/>
            <a:ext cx="714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ING BRAND OF FLOSS, AFTER G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95280" y="762120"/>
            <a:ext cx="83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10 INCUBUS SONG CONTAINS THE LYRICS "I CAN'T HELP BUT ASK MYSELF HOW MUCH I'LL LET THE FEAR TAKE THE WHEEL AND STE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36480" y="762120"/>
            <a:ext cx="7871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MAGAZINE HAS THE LARGEST CIRC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93720" y="762120"/>
            <a:ext cx="7756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BC TALK SHOW THAT HAS WON 30 DAYTIME EMMY AWARDS I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ALLY)  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14560" y="771480"/>
            <a:ext cx="6914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IRST AMERICAN WOMAN IN SP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    THE VERTICAL DISTANCE BETWEEN THE BOTTOM OF A BOAT AND THE WATERL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73080" y="762120"/>
            <a:ext cx="71978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3 TIMES IN THE TITLE OF A #1 SONG BY THE BY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S  &amp; 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18960" y="762120"/>
            <a:ext cx="850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TYPES OF  FOOTBALL PLAYS CALLED, DEPENDING ON WHETHER THE BALL IS THROWN OR N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421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10 INCUBUS SONG CONTAINS THE LYRICS "I CAN'T HELP BUT ASK MYSELF HOW MUCH I'LL LET THE FEAR TAKE THE WHEEL AND STE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ERMAN)  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24000" y="762120"/>
            <a:ext cx="8496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 THE SNACK SALESMAN WHOSE BUSINESS MERGED WITH THE FRITO COMPANY IN 196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5520" y="762120"/>
            <a:ext cx="7031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ING BRAND OF FLOSS, AFTER GL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8006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OV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MAGAZINE HAS THE LARGEST CIRC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28560" y="762120"/>
            <a:ext cx="7886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BC TALK SHOW THAT HAS WON 30 DAYTIME EMMY AWARDS I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IRST AMERICAN WOMAN IN SP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    THE VERTICAL DISTANCE BETWEEN THE BOTTOM OF A BOAT AND THE WATERL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3 TIMES IN THE TITLE OF A #1 SONG BY THE BY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4520" y="762120"/>
            <a:ext cx="845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TYPES OF  FOOTBALL PLAYS CALLED, DEPENDING ON WHETHER THE BALL IS THROWN OR N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3120" y="762120"/>
            <a:ext cx="8537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 THE SNACK SALESMAN WHOSE BUSINESS MERGED WITH THE FRITO COMPANY IN 196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4:01:55Z</dcterms:modified>
  <cp:revision>465</cp:revision>
  <dc:subject/>
  <dc:title>Slide 1</dc:title>
</cp:coreProperties>
</file>