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59B6-56F7-4EDF-9455-0747354D2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D013-FD1F-4DAD-AF6B-42AD9F131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D590-3420-4C31-B49E-9CF20D7CE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6F38-5629-4317-8DC1-474E032FD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372B-94CE-45D0-A0F8-6BDEC0216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814E-3068-4650-95D4-0CC4BCA79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70F4-9A11-4376-9ECA-D341D7964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94A7-D7F6-4A17-AE0F-C87E8D142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3834-5F42-41CD-A82D-1D31B1E7C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25E8-D04C-4E82-B182-4F3FC0D32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6B53-E7BB-479D-94E8-7112B9985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6D1B-E490-47BE-917F-5FA4BD500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B5D1-281B-47A8-8481-E38C932B1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ECED-81B2-47EE-A792-2181DA6D2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186A-00A5-46D2-99CF-363CE7AF0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9753-3E0C-47EE-A3EB-98B8577BB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6E7E-044B-4DB3-BA9D-4F677775C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B6D0-043A-4EB7-A62D-7FA43DDE2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96AA-C651-4C13-865A-F3C9B5C84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1A39-7684-45D9-8A89-CD2E66977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D5F2-ABF3-4306-A92B-5BC7BFC6A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FB5F-BFA5-47CF-A82F-E047AB8AE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FE94-A620-44BF-A667-3994F9586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98640" y="762120"/>
            <a:ext cx="7146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ST-SELLING BRAND OF FLOSS, AFTER G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95280" y="762120"/>
            <a:ext cx="8353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10 INCUBUS SONG CONTAINS THE LYRICS "I CAN'T HELP BUT ASK MYSELF HOW MUCH I'LL LET THE FEAR TAKE THE WHEEL AND STE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36480" y="762120"/>
            <a:ext cx="7871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MAGAZINE HAS THE LARGEST CIRCU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93720" y="762120"/>
            <a:ext cx="7756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BC TALK SHOW THAT HAS WON 30 DAYTIME EMMY AWARDS IS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ALLY)  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14560" y="771480"/>
            <a:ext cx="6914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IRST AMERICAN WOMAN IN SP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    THE VERTICAL DISTANCE BETWEEN THE BOTTOM OF A BOAT AND THE WATERL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73080" y="762120"/>
            <a:ext cx="71978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3 TIMES IN THE TITLE OF A #1 SONG BY THE BY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333440" y="487692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SS  &amp;  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18960" y="762120"/>
            <a:ext cx="850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2 TYPES OF  FOOTBALL PLAYS CALLED, DEPENDING ON WHETHER THE BALL IS THROWN OR N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421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10 INCUBUS SONG CONTAINS THE LYRICS "I CAN'T HELP BUT ASK MYSELF HOW MUCH I'LL LET THE FEAR TAKE THE WHEEL AND STE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HERMAN)  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24000" y="762120"/>
            <a:ext cx="8496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 THE SNACK SALESMAN WHOSE BUSINESS MERGED WITH THE FRITO COMPANY IN 196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55520" y="762120"/>
            <a:ext cx="7031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ST-SELLING BRAND OF FLOSS, AFTER GL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19040" y="48006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OV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54040" y="761760"/>
            <a:ext cx="8034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MAGAZINE HAS THE LARGEST CIRCUL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28560" y="762120"/>
            <a:ext cx="7886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BC TALK SHOW THAT HAS WON 30 DAYTIME EMMY AWARDS IS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IRST AMERICAN WOMAN IN SP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    THE VERTICAL DISTANCE BETWEEN THE BOTTOM OF A BOAT AND THE WATERL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3 TIMES IN THE TITLE OF A #1 SONG BY THE BY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44520" y="762120"/>
            <a:ext cx="8454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2 TYPES OF  FOOTBALL PLAYS CALLED, DEPENDING ON WHETHER THE BALL IS THROWN OR N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3120" y="762120"/>
            <a:ext cx="8537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 THE SNACK SALESMAN WHOSE BUSINESS MERGED WITH THE FRITO COMPANY IN 196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4:01:55Z</dcterms:modified>
  <cp:revision>465</cp:revision>
  <dc:subject/>
  <dc:title>Slide 1</dc:title>
</cp:coreProperties>
</file>