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852C-941A-4D84-9AE8-3E66DF7FF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F70C-C2BA-4417-A5F5-99093611D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9EDD-F792-47AE-A61D-707169A10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7B43-DC7A-4507-B48E-FE80C634E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9417-9218-4710-A6EB-0C6B4FFFE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0130-5925-4120-B3EC-D96EC20F4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0212-5367-4EC0-A419-CC215931F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D5F0-036D-4B07-8069-C67761C11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971B-B2E7-4AF8-B93E-FD188A155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36E2-83B5-4BC3-85A3-74FE7CA03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162E-A20E-4C26-994D-E7BA7FA5C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51F0-3E1E-495A-8CE7-E947F6981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EB20-53DB-4EE1-ADC7-37B27F9C0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AD9F-B394-4834-BB9F-9C9996B3B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710F-2751-4006-8747-DC84D3816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F285-EB8A-4E96-94D1-978B3412D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BE94-4484-466D-8318-035D3C186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1F4C-1CB9-457A-A9E4-549F11E17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0AA3-5FB5-4A7C-81DA-C9AA00BD4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C5A3-3C64-4C4B-8C96-781DFA09A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3075-63DC-4DB9-9DCE-7D0E5E911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8A27-719D-4576-857C-56F51E578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D72A-C634-489A-A27D-6E1D31C66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98640" y="762120"/>
            <a:ext cx="7146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EST-SELLING BRAND OF FLOSS, AFTER G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95280" y="762120"/>
            <a:ext cx="8353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10 INCUBUS SONG CONTAINS THE LYRICS "I CAN'T HELP BUT ASK MYSELF HOW MUCH I'LL LET THE FEAR TAKE THE WHEEL AND STE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36480" y="762120"/>
            <a:ext cx="7871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MAGAZINE HAS THE LARGEST CIRCUL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93720" y="762120"/>
            <a:ext cx="7756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BC TALK SHOW THAT HAS WON 30 DAYTIME EMMY AWARDS IS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ALLY)  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114560" y="771480"/>
            <a:ext cx="6914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IRST AMERICAN WOMAN IN SP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    THE VERTICAL DISTANCE BETWEEN THE BOTTOM OF A BOAT AND THE WATERL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73080" y="762120"/>
            <a:ext cx="71978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3 TIMES IN THE TITLE OF A #1 SONG BY THE BY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333440" y="487692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SS  &amp;  R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18960" y="762120"/>
            <a:ext cx="850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2 TYPES OF  FOOTBALL PLAYS CALLED, DEPENDING ON WHETHER THE BALL IS THROWN OR N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421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10 INCUBUS SONG CONTAINS THE LYRICS "I CAN'T HELP BUT ASK MYSELF HOW MUCH I'LL LET THE FEAR TAKE THE WHEEL AND STE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HERMAN)  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24000" y="762120"/>
            <a:ext cx="8496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 THE SNACK SALESMAN WHOSE BUSINESS MERGED WITH THE FRITO COMPANY IN 196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55520" y="762120"/>
            <a:ext cx="7031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EST-SELLING BRAND OF FLOSS, AFTER GLI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19040" y="480060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OVE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54040" y="761760"/>
            <a:ext cx="8034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MAGAZINE HAS THE LARGEST CIRCUL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28560" y="762120"/>
            <a:ext cx="7886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BC TALK SHOW THAT HAS WON 30 DAYTIME EMMY AWARDS IS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85760" y="762120"/>
            <a:ext cx="6972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IRST AMERICAN WOMAN IN SP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    THE VERTICAL DISTANCE BETWEEN THE BOTTOM OF A BOAT AND THE WATERL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3 TIMES IN THE TITLE OF A #1 SONG BY THE BY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44520" y="762120"/>
            <a:ext cx="8454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2 TYPES OF  FOOTBALL PLAYS CALLED, DEPENDING ON WHETHER THE BALL IS THROWN OR NO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3120" y="762120"/>
            <a:ext cx="8537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 THE SNACK SALESMAN WHOSE BUSINESS MERGED WITH THE FRITO COMPANY IN 196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4:01:55Z</dcterms:modified>
  <cp:revision>465</cp:revision>
  <dc:subject/>
  <dc:title>Slide 1</dc:title>
</cp:coreProperties>
</file>