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116C-FF43-49DE-A790-4E8D290D1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770D-A5B7-49BF-BE0A-6F19D7642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718F-2E77-494F-9FA6-591A740F8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F770-D434-48BE-A05F-88D0E9D44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18BA-A568-4DFA-9FF1-C1946709F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A67D-97C7-4413-9438-EFA90E0BD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97EA-E135-46C4-90FD-4C4B93B9D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099B-706B-4A36-BF25-E70EC0E09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1871-1B64-4F95-AE77-8FCC413FD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C2AC-D077-48C5-AA97-54CB14855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5E93-597D-470A-A16C-C28B2B282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5022-EBEF-4F5E-88EA-176B49D19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1AD8-F151-45CE-A89B-9D8982BFC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D73D-0EA8-4AFE-8710-B54EF7FBB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9516-CD28-44D0-889C-79BF81B56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9A42-4C15-4913-9322-1625BD44E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2443-D03F-43BE-9EF9-1C3F84742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FEF3-3A8A-4C61-8335-29EA1E19E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839C-5F0D-4F81-98B8-24750CD4D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EA43-C160-4A2A-A6F5-6EC45681A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4B73-9F48-4C52-84C3-45AE5033D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EB42-25C2-40B2-A67D-94767B217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7EFE-5CDC-492A-829A-494C99C37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DONESIAN ISLAND IS THE MOST POPULATED ISLAND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838080"/>
            <a:ext cx="80769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HOST  IN  THE  MAC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OLICE'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OR GILBERT RYLE'S "SPOOKY" DESCRIPTION OF DESCARTES' MIND-BODY DUAL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YLOR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HAKE IT OFF", "DELICATE", "END GAME", AND "BLANK SP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8096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NOPOLY, WHAT DO YOU EARN $200 FOR PAS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D STONE IS JULY'S BIRTH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Y  PYTH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TROUPE IS RESPONSIBLE FOR "LIFE OF BRIAN" AND "THE HOLY GRAI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49160"/>
            <a:ext cx="777240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VITAMIN IS TREATMENT FOR SCURV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71600" y="762120"/>
            <a:ext cx="6400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TRIC UNIT FOR PRESS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OLICE'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OR GILBERT RYLE'S "SPOOKY" DESCRIPTION OF DESCARTES' MIND-BODY DUAL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IC  INSTI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NEO-NOIR FILM STARRED MICHAEL DOUGLAS AND SHARON 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DONESIAN ISLAND IS THE MOST POPULATED ISLAND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343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PROGRAMMING 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HAKE IT OFF", "DELICATE", "END GAME", AND "BLANK SP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NOPOLY, WHAT DO YOU EARN $200 FOR PAS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D STONE IS JULY'S BIRTH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57120" y="72396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TROUPE IS RESPONSIBLE FOR "LIFE OF BRIAN" AND "THE HOLY GRAI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VITAMIN IS TREATMENT FOR SCURV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TRIC UNIT FOR PRESS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NEO-NOIR FILM STARRED MICHAEL DOUGLAS AND SHARON 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17:53:01Z</dcterms:created>
  <dc:creator>Jennifer Budzinski</dc:creator>
  <dc:description/>
  <dc:language>en-US</dc:language>
  <cp:lastModifiedBy>Erich Friedman</cp:lastModifiedBy>
  <dcterms:modified xsi:type="dcterms:W3CDTF">2020-08-24T18:07:08Z</dcterms:modified>
  <cp:revision>340</cp:revision>
  <dc:subject/>
  <dc:title>Slide 1</dc:title>
</cp:coreProperties>
</file>