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DF9-C000-4EA4-9E3C-D306124A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1A8-7D08-443B-84A3-AFAD14A0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E6E3-AD14-455D-8702-C9BCC889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FA07-489D-45A5-8284-BBF666FE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B81-5037-4836-9681-130639B5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C5A-41C2-400E-A568-3C5D5E8C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18E5-29D0-48B3-9915-20330A61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E4F7-D2C9-4B2B-961E-D91012B8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2E7E-9A1A-46CB-A216-231FFC3F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417-DABD-494C-903E-7F88DC99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1B7-1B5A-4061-AC9A-381F1B0F0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47E-737B-477F-A850-A971096F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A535-0067-44B4-A583-8FB3275F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757-A14E-492F-8FB7-69FDF17C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52C5-2C64-4E2E-836D-04500E31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E60D-206D-4708-AF2A-6B3F11E6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210C-7BEF-44DD-AB93-8BB9BCE3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77A-C056-47E5-9545-324C8D77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7DC6-6C6B-4675-9480-D481C2B6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392-D54F-4760-BECF-35294847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06E8-37DA-4710-9886-FFB50DE3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F1FE-B470-4A37-9C9D-F4484907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D3C3-A368-4222-B1DD-7980957F9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ONESIAN ISLAND IS THE MOST POPULATED ISLAND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838080"/>
            <a:ext cx="80769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  IN  THE 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OLICE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OR GILBERT RYLE'S "SPOOKY" DESCRIPTION OF DESCARTES' MIND-BODY DU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HAKE IT OFF", "DELICATE", "END GAME", AND "BLANK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809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NOPOLY, WHAT DO YOU EARN $200 FOR PA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STONE IS JULY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Y  PY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TROUPE IS RESPONSIBLE FOR "LIFE OF BRIAN" AND "THE HOLY GR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49160"/>
            <a:ext cx="77724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TAMIN IS TREATMENT FOR SCUR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FOR PRES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OLICE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OR GILBERT RYLE'S "SPOOKY" DESCRIPTION OF DESCARTES' MIND-BODY DUAL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  INSTI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NEO-NOIR FILM STARRED MICHAEL DOUGLAS AND SHARON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ONESIAN ISLAND IS THE MOST POPULATED ISLAND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ROGRAMMING 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HAKE IT OFF", "DELICATE", "END GAME", AND "BLANK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NOPOLY, WHAT DO YOU EARN $200 FOR PA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STONE IS JULY'S BIRTH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TROUPE IS RESPONSIBLE FOR "LIFE OF BRIAN" AND "THE HOLY GR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TAMIN IS TREATMENT FOR SCUR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FOR PRESS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NEO-NOIR FILM STARRED MICHAEL DOUGLAS AND SHARON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17:53:01Z</dcterms:created>
  <dc:creator>Jennifer Budzinski</dc:creator>
  <dc:description/>
  <dc:language>en-US</dc:language>
  <cp:lastModifiedBy>Erich Friedman</cp:lastModifiedBy>
  <dcterms:modified xsi:type="dcterms:W3CDTF">2020-08-24T18:07:08Z</dcterms:modified>
  <cp:revision>340</cp:revision>
  <dc:subject/>
  <dc:title>Slide 1</dc:title>
</cp:coreProperties>
</file>