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0CFD-52C0-42CE-B3A4-F66153B39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168D-B7B6-41BB-B754-B8983ACCB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0419-2369-4ABD-8E1F-05BB42B75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4D33-3519-4939-9066-059624539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C562-172D-4C82-8C0A-2377AC04C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13AF-0CC6-47DE-86E6-888FD3521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5EC9-E298-456F-83EB-D1A554940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9873-3E8B-46D5-937C-E1CA6915F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6601-164F-499C-B08C-8AB5989AD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96E6-A880-40D8-B683-8DC2C4BE1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2880-4D05-4CE6-B83D-D14A925AA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2F53-3904-488F-8714-E5E018B4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1BD3-6F2D-4630-BA9B-165620695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88F2-299A-431C-B1F3-E8EB51890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E8CB-4364-4AE1-AE1F-3D9FC7746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EAF1-2D49-44E0-A134-7079D9B5E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5AF6-CF95-49F5-98CC-B1F09A71F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AAE-2B4B-4364-8D85-DF1C47D8F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3C4A-5DF7-495E-8089-60FECDD9E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1A3E-85D2-4111-B0C6-B16C82D4F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E7E5-0626-470F-8811-B05F35016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4269-9D27-47A2-921E-EF86B3CD2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0C37-8CB5-4B2C-89B9-B3F522B9B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ONESIAN ISLAND IS THE MOST POPULATED ISLAND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838080"/>
            <a:ext cx="80769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HOST  IN  THE 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OLICE'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OR GILBERT RYLE'S "SPOOKY" DESCRIPTION OF DESCARTES' MIND-BODY DUAL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HAKE IT OFF", "DELICATE", "END GAME", AND "BLANK SP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809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NOPOLY, WHAT DO YOU EARN $200 FOR PA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D STONE IS JULY'S BIRTH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Y  PY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TROUPE IS RESPONSIBLE FOR "LIFE OF BRIAN" AND "THE HOLY GRA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49160"/>
            <a:ext cx="77724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VITAMIN IS TREATMENT FOR SCUR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FOR PRES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OLICE'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OR GILBERT RYLE'S "SPOOKY" DESCRIPTION OF DESCARTES' MIND-BODY DUAL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IC  INSTI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NEO-NOIR FILM STARRED MICHAEL DOUGLAS AND SHARON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ONESIAN ISLAND IS THE MOST POPULATED ISLAND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PROGRAMMING 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HAKE IT OFF", "DELICATE", "END GAME", AND "BLANK SP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NOPOLY, WHAT DO YOU EARN $200 FOR PA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D STONE IS JULY'S BIRTH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57120" y="72396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TROUPE IS RESPONSIBLE FOR "LIFE OF BRIAN" AND "THE HOLY GRA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VITAMIN IS TREATMENT FOR SCUR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FOR PRESS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NEO-NOIR FILM STARRED MICHAEL DOUGLAS AND SHARON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17:53:01Z</dcterms:created>
  <dc:creator>Jennifer Budzinski</dc:creator>
  <dc:description/>
  <dc:language>en-US</dc:language>
  <cp:lastModifiedBy>Erich Friedman</cp:lastModifiedBy>
  <dcterms:modified xsi:type="dcterms:W3CDTF">2020-08-24T18:07:08Z</dcterms:modified>
  <cp:revision>340</cp:revision>
  <dc:subject/>
  <dc:title>Slide 1</dc:title>
</cp:coreProperties>
</file>