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297-4305-4837-A4B4-C79E4E44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553-F30D-40F8-9E64-18225381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49AB-C954-42A5-86A6-92E1761E4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8002-3CE2-4CA9-B7B9-724E970B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759-65AD-4723-BA23-9C843AFB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E3D-A3BD-4269-8434-DE05A1500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DF3-739B-4C40-8084-24EC766E7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5F07-4EE4-4D8B-AF0B-42761101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58C9-3C69-4559-9757-FF6A53B8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ADDE-476B-47DD-98AF-51872C23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D3F7-0F99-468A-B09F-B463CF3BC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D1BF-D97E-4BF3-B38D-1CA3F9E7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10B7-2170-4459-8BDF-BDE01466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945B-694C-44E1-9086-271273A8C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42A7-A39B-44E4-8F48-7A87B57B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329A-62C7-45E3-A64E-468BF57C5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4AF2-1822-40BD-8505-267930F81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0FBE-2B71-496C-827F-3746F651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7513-35BD-43B2-A6EF-67155C1F3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08C3-F759-45E4-813F-77FEADD4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C5A4-BC4F-47A2-87EE-311EB7B88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A414-7ED6-4B52-846B-6BEDBC8B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401D-C256-4415-A76D-EBF73CFF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HEART OF DARK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  GER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UCK ROGERS ON THE 1979-1981 TV SERIES "BUCK ROGERS IN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SHIP #1 SONG ABOUT THE LEAD SINGER'S WIFE IS ALSO THE NAME OF A BOB DYLAN LOVE SONG ABOUT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OF  A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  F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OES SAMUEL L. JACKSON PORTRA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NO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F HALL-OF-FAMER WAS KNOWN AS "THE GREAT WHITE SH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B  (DECIBE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19000" y="762120"/>
            <a:ext cx="75060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IS USED FOR THE SCALE MEASURING SOUND INTENSITY THAT IS  NAMED AFTER ALEXANDER GRAHAM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486080" y="4876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DGES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PLES, FL UNIVERSITY WAS FORMERLY CALLED INTERNATIONAL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375000" y="3200400"/>
            <a:ext cx="2394000" cy="15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UCK ROGERS ON THE 1979-1981 TV SERIES "BUCK ROGERS IN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A MIXTURE OF COPPER AND ZI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00280" y="4343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HARACTERS  ON  "CSI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SHIP #1 SONG ABOUT THE LEAD SINGER'S WIFE IS ALSO THE NAME OF A BOB DYLAN LOVE SONG ABOUT HI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OES SAMUEL L. JACKSON PORTRAY IN THE MARVEL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F HALL-OF-FAMER WAS KNOWN AS "THE GREAT WHITE SHARK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IS USED FOR THE SCALE MEASURING SOUND INTENSITY THAT IS  NAMED AFTER ALEXANDER GRAHAM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PLES FL, UNIVERSITY WAS FORMERLY CALLED INTERNATIONAL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68720" y="3276720"/>
            <a:ext cx="280656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A MIXTURE OF COPPER AND ZI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02:36Z</dcterms:modified>
  <cp:revision>367</cp:revision>
  <dc:subject/>
  <dc:title>Slide 1</dc:title>
</cp:coreProperties>
</file>