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341-287F-4626-A9CC-2A13C12D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954-E31B-4FEE-95EB-E0C0AC3D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3C3D-4F1A-4115-96EB-1B526EEB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32B-FD19-41EC-AD74-BFDF642B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ED79-7172-4CF0-9E49-F73D4092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3B3E-C51B-4B0C-A296-DAAAD51C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7EA-9D36-410F-8058-776612FE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D99-328E-4DD1-BF93-DDD3A994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499-9ED5-401F-BF3F-4334757A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938-A6CA-42A4-B900-7FAFFD74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1A95-E5A5-40D7-AE73-A66970B2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29F-A75E-4A31-B40E-362668FF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3C8-F9F5-449C-99DF-25E6F48C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EA7D-933A-486D-9E8D-4BF2A296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1AF5-6CDB-49D9-952C-8157EBCA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BEA-E18F-4158-B123-429E8796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6B68-5FAC-4466-A4E1-BA1FA0CA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533-AB2D-4908-8BE1-D91A3364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777D-EE61-4BC5-A2FF-99A2DEE0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F172-E935-43C9-818E-5160154A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AFB5-6002-4798-AB0A-9FEEA7AE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890F-7243-47ED-9C81-6A9F4550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C15-3592-49A2-BB9B-31748834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  GER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F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B  (DECIB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19000" y="762120"/>
            <a:ext cx="7506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8608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DGES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, FL UNIVERSITY WAS FORMERLY CALLED INTERNATIONAL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375000" y="3200400"/>
            <a:ext cx="2394000" cy="15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HARACTERS  ON  "CSI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 FL, UNIVERSITY WAS FORMERLY CALLED INTERNATIONAL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68720" y="3276720"/>
            <a:ext cx="280656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02:36Z</dcterms:modified>
  <cp:revision>367</cp:revision>
  <dc:subject/>
  <dc:title>Slide 1</dc:title>
</cp:coreProperties>
</file>