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BD18-F7D2-4CD5-B3AE-8D1FEC11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A68F-55E4-4F2C-B6CF-2E631356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8C2F-0B41-4A6A-8E99-3979FDF9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0F8-42F5-41C7-8B76-D142B59C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F77-5204-42ED-A306-48274EE6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234D-4E6E-48F9-B4AA-8CBE5FB7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8ABF-5D30-4CD2-B007-FCB9B42E0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3E3C-ACC5-4599-ACF3-01B792D0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F60-E124-46A8-8876-308C3141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637D-B57C-4233-B959-8A820C19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92B3-9513-496F-A12A-362AAA10A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B0B8-E62C-411D-B3AC-2242A2BC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B06-359A-40E9-819A-8F252A683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5F1C-4D0E-4FCE-81F5-55D5A8ED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EDDD-F9A0-4654-90A8-C883F9BA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7E71-ED7A-4114-925A-5E6BD7DF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D522-3705-4AC1-AE3F-1636CC29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F5995-B077-4A93-93CD-5B4570D8A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6D79-4031-4049-9879-11720171E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F0F3-6034-4267-96D9-8BA4A23AE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38E6-1920-4B89-AA64-E484AD49C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0189-7448-48C4-BFF1-70F3A1CB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0F4-52EB-4328-8BF5-D89EE529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HEART OF DARK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  GER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UCK ROGERS ON THE 1979-1981 TV SERIES "BUCK ROGERS IN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SHIP #1 SONG ABOUT THE LEAD SINGER'S WIFE IS ALSO THE NAME OF A BOB DYLAN LOVE SONG ABOUT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OF  A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F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OES SAMUEL L. JACKSON PORTRA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NO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F HALL-OF-FAMER WAS KNOWN AS "THE GREAT WHITE SH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B  (DECIBE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19000" y="762120"/>
            <a:ext cx="7506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IS USED FOR THE SCALE MEASURING SOUND INTENSITY THAT IS  NAMED AFTER ALEXANDER GRAHAM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8608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DGES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PLES, FL UNIVERSITY WAS FORMERLY CALLED INTERNATIONAL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375000" y="3200400"/>
            <a:ext cx="2394000" cy="15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UCK ROGERS ON THE 1979-1981 TV SERIES "BUCK ROGERS IN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A MIXTURE OF COPPER AND ZI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002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HARACTERS  ON  "CSI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SHIP #1 SONG ABOUT THE LEAD SINGER'S WIFE IS ALSO THE NAME OF A BOB DYLAN LOVE SONG ABOUT HI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OES SAMUEL L. JACKSON PORTRAY IN THE MARVEL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F HALL-OF-FAMER WAS KNOWN AS "THE GREAT WHITE SHARK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IS USED FOR THE SCALE MEASURING SOUND INTENSITY THAT IS  NAMED AFTER ALEXANDER GRAHAM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PLES FL, UNIVERSITY WAS FORMERLY CALLED INTERNATIONAL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68720" y="3276720"/>
            <a:ext cx="280656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A MIXTURE OF COPPER AND ZI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02:36Z</dcterms:modified>
  <cp:revision>367</cp:revision>
  <dc:subject/>
  <dc:title>Slide 1</dc:title>
</cp:coreProperties>
</file>