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4743-1ED5-48DD-BAD9-93E2A5BA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1C9-7BD3-4DCC-A057-4C22BDE1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266-82B2-4B6A-8DE5-04CFB6A4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14AC-EDDB-498D-899B-B85495AE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7523-02C6-4AB1-BAC9-72372A22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C1C-342F-457C-BF4E-962E0A3F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5AB-6748-4DB7-B1B0-2980F7B4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EB8-5536-4445-9B5E-E877F9157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893-B665-4122-BC9A-4D35E20B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164D-9280-4DB6-B6E4-93A604D8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B3E-1A40-43E5-B634-9A56556D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EA8-38E0-4D7E-8841-E93133CA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C57-FFB5-406E-AAA5-A65701173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547-B4FA-484A-9329-85C50E15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E878-1A80-44DB-9882-098D379B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43E-3ACA-4778-BD23-55940078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275-7425-4257-966D-E9E09686D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546C-97CE-4E3B-BA84-32985458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551-1B09-4323-9E11-F4C06FFD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B9B-5370-4539-A97C-6D75C62D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85EC-B317-4D0D-86CD-861C9FA9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9F3-E5E7-4E3D-828E-9DA63CE8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A1B-B975-4025-BF70-B9497E29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90440" y="762120"/>
            <a:ext cx="69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990720"/>
            <a:ext cx="47386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O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80880" y="930240"/>
            <a:ext cx="3305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QU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47880" y="762120"/>
            <a:ext cx="7248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EAS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90640" y="762120"/>
            <a:ext cx="736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4676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306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4:03:14Z</dcterms:modified>
  <cp:revision>431</cp:revision>
  <dc:subject/>
  <dc:title>Slide 1</dc:title>
</cp:coreProperties>
</file>