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98B8-3FA6-4FB4-BBDE-A8F6DDB37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438C-C52D-4B9E-BCC2-C91B1FCD1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91A9-B9BE-4B84-979E-6C9DEE7DB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CBD6-133A-4FE0-B4AC-D8C932465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B084-0753-4E24-8F15-C9D61F5A8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715B-F115-444B-99D6-3E972B320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FBFC-A820-47DD-A0B1-2A330AC2E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ACA6-64CD-44D6-8AA9-D4FD16BA0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BF1D-76F9-4C1C-8B10-B9ADDE1DE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F629-47E3-4D27-A4B1-D7125849F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BF1B-3A7C-45D9-9B73-58B94D808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7BA7-5704-4113-92B2-C9EC7CB41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4E2A-B207-40BB-A43F-7ABBBDD00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06AA-8467-403E-8E52-471FE0280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2403-B79A-4421-8A73-70F287BF9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7310-D435-4B44-BFA7-C1AF3A8BD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EC8E-EC34-47C1-A549-3561C4E60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CC6F-34DD-4D6B-A411-7D7CE75D6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1AB5-8E61-47CB-9E02-304DE27D0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5C31-C772-42ED-A1E9-9FD52143A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F9B7-6FF0-4E65-ACB9-7E618823F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F4A6-13D8-496A-9BD8-AC72D19C0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A02B-7ECF-425C-B5E7-BEEFBB814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44120" y="762120"/>
            <a:ext cx="7653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BLED DRINK OF THE GREEK GODS, WHOSE NAME MEANS "OVERCOMING DEA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71360" y="762120"/>
            <a:ext cx="8801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GE NAME OF THE LEAD GUITARIST FOR U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E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90440" y="762120"/>
            <a:ext cx="69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FILM WAS A CONTINUATION OF THE TV SERIES "FIREF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90640" y="762120"/>
            <a:ext cx="7362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FFICIAL MAGAZINE OF THE NAACP, FOUNDED IN 1910 BY W. E. B. DU BOIS, IS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ACKUP BAND FOR KATRINA, WHO SANG "WALKING ON SUNSHINE", IS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U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14240" y="762120"/>
            <a:ext cx="7715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JONI MITCHELL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CONTAINING THE SONGS "CHELSEA MORNING" AND "BOTH SIDES N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52280" y="990720"/>
            <a:ext cx="473868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CUBA DIVING SIGNAL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043600" y="533520"/>
            <a:ext cx="358128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CO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380880" y="930240"/>
            <a:ext cx="33051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DUCK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038480" y="566640"/>
            <a:ext cx="4594320" cy="409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00160" y="762120"/>
            <a:ext cx="8743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GE NAME OF THE LEAD GUITARIST FOR U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NQU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947880" y="762120"/>
            <a:ext cx="7248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N THE FIRST SENTENCE OF THE U.S. CONSTITUTION CONTAINS THE LETTER "Q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C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11080" y="762120"/>
            <a:ext cx="7521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BLED DRINK OF THE GREEK GODS, WHOSE NAME MEANS "OVERCOMING DEA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228600" y="48769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SEAS  ON  TH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FILM WAS A CONTINUATION OF THE TV SERIES "FIREF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90640" y="762120"/>
            <a:ext cx="736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FFICIAL MAGAZINE OF THE NAACP, FOUNDED IN 1910 BY W. E. B. DU BOIS, IS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65080" y="762120"/>
            <a:ext cx="7413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ACKUP BAND FOR KATRINA, WHO SANG "WALKING ON SUNSHINE", IS CALLED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JONI MITCHELL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CONTAINING THE SONGS "CHELSEA MORNING" AND "BOTH SIDES N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240" y="1143000"/>
            <a:ext cx="4676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CUBA DIVING SIGNAL M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043600" y="533520"/>
            <a:ext cx="358128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3067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DUCK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038480" y="566640"/>
            <a:ext cx="4594320" cy="40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N THE FIRST SENTENCE OF THE U.S. CONSTITUTION CONTAINS THE LETTER "Q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12-16T14:03:14Z</dcterms:modified>
  <cp:revision>431</cp:revision>
  <dc:subject/>
  <dc:title>Slide 1</dc:title>
</cp:coreProperties>
</file>