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3E4C-3EE4-48A3-9165-566595356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D4B9-0825-4D46-A635-E233D7581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D41B-B6A6-4552-9B8C-A11B7255B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F3A6-CB06-4004-AA31-E9894B2F4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BB55-417D-44D6-A5E1-F44FDF57E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73A8-F96C-4A80-BBC2-4191CD36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50F6-A8C6-4C84-AB31-BCC0846A4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55D5-49AD-4622-A962-94792A4EA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3276-3CC2-495B-B1A9-3C3CB54F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6E1-78A8-4248-B9E8-BD3E6529A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D58D-D513-4141-8EF1-B44345BD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870C-8324-4ACE-98F8-A5EC19EED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CE00-3DDF-404C-B47E-15DA07F3D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1410-C81F-40EA-9F37-558A6EEB0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F860-5903-48AC-9C31-41C236D0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30B1-DED9-4585-9D41-D4E85FA0C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17A0-C5CD-4254-B3E5-D9CBAB01A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FA57-113D-42C6-B4B7-EDB6FD2E8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E481-46DC-41D3-A2BB-C55C7BAE7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8F5B-FADB-4D20-BD8C-B94CE16A2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B93E-378E-42F7-98C5-D1F05461A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4EF5-7BBD-46A4-9166-F72410138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29D0-267D-494C-9EBB-0B01BAF4E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44120" y="762120"/>
            <a:ext cx="7653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BLED DRINK OF THE GREEK GODS, WHOSE NAME MEANS "OVERCOMING D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71360" y="762120"/>
            <a:ext cx="880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FOR U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90440" y="762120"/>
            <a:ext cx="69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WAS A CONTINUATION OF THE TV SERIES "FIRE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90640" y="762120"/>
            <a:ext cx="7362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FFICIAL MAGAZINE OF THE NAACP, FOUNDED IN 1910 BY W. E. B. DU BOIS,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CKUP BAND FOR KATRINA, WHO SANG "WALKING ON SUNSHINE",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U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14240" y="762120"/>
            <a:ext cx="7715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JONI MITCHEL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S "CHELSEA MORNING" AND "BOTH SIDES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280" y="990720"/>
            <a:ext cx="47386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CUBA DIVING SIGNAL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43600" y="533520"/>
            <a:ext cx="358128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CO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80880" y="930240"/>
            <a:ext cx="3305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DUCK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038480" y="566640"/>
            <a:ext cx="459432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FOR U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NQU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47880" y="762120"/>
            <a:ext cx="7248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THE FIRST SENTENCE OF THE U.S. CONSTITUTION CONTAINS THE LETTER "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C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BLED DRINK OF THE GREEK GODS, WHOSE NAME MEANS "OVERCOMING D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EAS  ON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WAS A CONTINUATION OF THE TV SERIES "FIRE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90640" y="762120"/>
            <a:ext cx="736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FFICIAL MAGAZINE OF THE NAACP, FOUNDED IN 1910 BY W. E. B. DU BOIS, IS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65080" y="762120"/>
            <a:ext cx="741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CKUP BAND FOR KATRINA, WHO SANG "WALKING ON SUNSHINE", IS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JONI MITCHEL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CONTAINING THE SONGS "CHELSEA MORNING" AND "BOTH SIDES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240" y="1143000"/>
            <a:ext cx="4676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SCUBA DIVING SIGNA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5043600" y="533520"/>
            <a:ext cx="358128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3067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DUCK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038480" y="566640"/>
            <a:ext cx="4594320" cy="409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N THE FIRST SENTENCE OF THE U.S. CONSTITUTION CONTAINS THE LETTER "Q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4:03:14Z</dcterms:modified>
  <cp:revision>431</cp:revision>
  <dc:subject/>
  <dc:title>Slide 1</dc:title>
</cp:coreProperties>
</file>