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F0A3-1066-4222-AFA9-883650B8E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C2B3-45E9-49C8-B133-581214C3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4CB7-8434-4771-B06E-6E16CB555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4E04-B985-416C-B3C2-017DF9D2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9CEE-8488-42F1-BABB-21918A1D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0AF4-A193-4B3E-A948-3A03320FE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A4B-83B3-45B3-9377-C54B2BE3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9F0B-2749-4152-86F0-462B6888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542-1B6A-434F-B5E5-ACC35FD83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2DE8-DB3C-47D2-85D7-365F2E8A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3538-E4F7-485D-B9D6-CF50B4F4E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4F76-F96E-4764-97CB-B72CCBED4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825F-D46B-42F2-A9FE-495840E60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9992-AE27-415F-AE1E-E2C289C94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F0CA-3BFA-457C-854F-4256D1B2A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4018-C09D-448A-9DC6-39F304EC3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A43D-8C89-4173-8BC7-2D07427EE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260-C7FC-4E54-84D5-10D767E8B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D222-7A01-4F68-A22C-E44D0D997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C81A-3953-4D1B-A6EA-21DD1FD2E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7E76-A73F-42E1-818E-AF80549E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0084-15CD-4428-A4EA-77F008D56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D5CF-0C53-4C62-ACE6-12D0A25E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JACK RUBY SHOT ON NATIONAL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FF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P" STAND FOR IN "P. DIDDY", THE ONE-TIME STAGE NAME OF THE RAPPER SEAN CO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9280" y="762120"/>
            <a:ext cx="770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PRO BASKE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38360" y="4876920"/>
            <a:ext cx="5867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09760" y="762120"/>
            <a:ext cx="8124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APPEARS ON THE NATIONAL FLAGS OF BHUTAN, WALES, AND MA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05000" y="782640"/>
            <a:ext cx="653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ROMANTIC DRAMA FILM STARRED ANGELINA JOLIE AND BRAD PITT WAS SHOT DURING THEIR HONEYMOON IN MI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UM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ICIALLY RUNS FROM MARCH 1 TO MAY 31 IN BRAZIL, NEW ZEALAND, AND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99960" y="4876920"/>
            <a:ext cx="834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36520" y="762120"/>
            <a:ext cx="8670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EPHEN KING HORROR SHORT STORY WHICH BECAME A 2007 FILM AND 2017 TV SERIES WAS CALLED "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4280" y="762120"/>
            <a:ext cx="779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P" STAND FOR IN "P. DIDDY", THE ONE-TIME STAGE NAME OF THE RAPPER SEAN CO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85640" y="762120"/>
            <a:ext cx="817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-MOST COMMON 4-LETTER ENDING OF THE NAME OF COUNTRIES, AFTER "–ST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47920" y="487692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(HARVEY  OSWA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3560" y="762120"/>
            <a:ext cx="815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JACK RUBY SHOT ON NATIONAL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38040" y="4229280"/>
            <a:ext cx="8467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HE  CHORUS  OF  "PUFF  THE  MAGIC  DRAG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RLANDO'S PRO BASKE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APPEARS ON THE NATIONAL FLAGS OF BHUTAN, WALES, AND MA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N ANAGRAM OF "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ROMANTIC DRAMA FILM STARRED ANGELINA JOLIE AND BRAD PITT WAS SHOT DURING THEIR HONEYMOON IN MI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ICIALLY RUNS FROM MARCH 1 TO MAY 31 IN BRAZIL, NEW ZEALAND, AND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04840" y="762120"/>
            <a:ext cx="873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EPHEN KING HORROR SHORT STORY WHICH BECAME A 2007 FILM AND 2017 TV SERIES WAS CALLED "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7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-MOST COMMON 4-LETTER ENDING OF THE NAME OF COUNTRIES, AFTER "–ST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8:12:45Z</dcterms:modified>
  <cp:revision>460</cp:revision>
  <dc:subject/>
  <dc:title>Slide 1</dc:title>
</cp:coreProperties>
</file>