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21E-F365-4BB3-9041-7D97A6CE2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1E3-868B-4AF8-BA2B-5CD5DAAFB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4844-5B57-440C-9CE8-5A52CF97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701A-0C82-4D77-B51B-EED8C1ED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0C2B-5A5D-4333-8886-CFE2B109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CAF4-BBFE-4D8A-AAA4-ABDEBF4CD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745F-AF6C-4AEF-A4E5-85BA7DAD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453C-7804-4E07-BCBF-7E649B49A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FDB-2826-49CA-B1CC-B94D27DE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C4D5-A689-4579-A06F-81BF19B8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0933-131F-4EE3-B3F2-5A59A3D2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3DA-DDF7-402A-A058-009B8312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A7BD-4BD6-46F6-9738-603164935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B2EF-93A2-4E8B-93F8-CA3D65B8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F5BA-CA7B-4749-BF28-FFCBDA58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452-9988-48EA-B447-170AEACF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C0AF-1AD4-4D72-93BD-CFF288EE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8756-8089-4F9E-B133-94E8D0ECC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BC48-F326-4EC2-AF47-9B0058EF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E20-9A16-451C-8423-AFEEC089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9E56-07B0-4A63-A7E5-08EABAA2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3E0-6006-4289-9B5F-EF2FE1B2E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9BFA-8865-4959-94E1-AB48D2363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JACK RUBY SHOT ON NATIONAL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F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P" STAND FOR IN "P. DIDDY", THE ONE-TIME STAGE NAME OF THE RAPPER SEAN COM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9280" y="762120"/>
            <a:ext cx="770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PRO BASKE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38360" y="4876920"/>
            <a:ext cx="5867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09760" y="762120"/>
            <a:ext cx="8124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APPEARS ON THE NATIONAL FLAGS OF BHUTAN, WALES, AND MA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05000" y="782640"/>
            <a:ext cx="653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ROMANTIC DRAMA FILM STARRED ANGELINA JOLIE AND BRAD PITT WAS SHOT DURING THEIR HONEYMOON IN MI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U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ICIALLY RUNS FROM MARCH 1 TO MAY 31 IN BRAZIL, NEW ZEALAND, AND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99960" y="4876920"/>
            <a:ext cx="834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36520" y="762120"/>
            <a:ext cx="8670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EPHEN KING HORROR SHORT STORY WHICH BECAME A 2007 FILM AND 2017 TV SERIES WAS CALLED 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4280" y="762120"/>
            <a:ext cx="779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P" STAND FOR IN "P. DIDDY", THE ONE-TIME STAGE NAME OF THE RAPPER SEAN COM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85640" y="762120"/>
            <a:ext cx="8172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-MOST COMMON 4-LETTER ENDING OF THE NAME OF COUNTRIES, AFTER "–ST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447920" y="4876920"/>
            <a:ext cx="624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(HARVEY  OSWA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3560" y="762120"/>
            <a:ext cx="815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JACK RUBY SHOT ON NATIONAL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38040" y="4229280"/>
            <a:ext cx="8467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CHORUS  OF  "PUFF  THE  MAGIC  DRAG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8040" y="761760"/>
            <a:ext cx="738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PRO BASKE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APPEARS ON THE NATIONAL FLAGS OF BHUTAN, WALES, AND MA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ROMANTIC DRAMA FILM STARRED ANGELINA JOLIE AND BRAD PITT WAS SHOT DURING THEIR HONEYMOON IN MI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ICIALLY RUNS FROM MARCH 1 TO MAY 31 IN BRAZIL, NEW ZEALAND, AND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04840" y="762120"/>
            <a:ext cx="873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EPHEN KING HORROR SHORT STORY WHICH BECAME A 2007 FILM AND 2017 TV SERIES WAS CALLED 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7440" y="762120"/>
            <a:ext cx="81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-MOST COMMON 4-LETTER ENDING OF THE NAME OF COUNTRIES, AFTER "–ST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8:12:45Z</dcterms:modified>
  <cp:revision>460</cp:revision>
  <dc:subject/>
  <dc:title>Slide 1</dc:title>
</cp:coreProperties>
</file>