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BDA7-E76B-40AF-89AB-7A76445E5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1177-6D61-44B4-962F-CEFCE8159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9546-3662-48A6-8244-947AD93A8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3A8F-C745-469C-92B3-AABAB94F6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58C6-4821-417A-A319-7A0F5E601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3F1D-366C-4CB8-80C2-667B7CFA9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F1D7-6567-476A-80A0-6DE84BD15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355E-2B2C-4D09-85B9-3485B725C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D7E8-9B99-4273-89F8-4116CBBEE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38DC-9BFE-43FE-92B1-F466A10BE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0B88-5CCF-4260-A5C9-A9E6ECE3A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045B-F562-4B08-B989-0B184538D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9E17-371F-4D92-8D19-6CDA4D3E6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0947-5965-48EA-81DD-DB6987969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600B-3863-4ECD-A9EC-0A582DEB3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2809-45D9-4E60-B442-249890AD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DAA7-71C2-4D39-8BB8-38AB02E9F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6ECD-E2E4-4428-AD37-20DFF88CA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C546-4EEB-4F2A-8D80-9B59DE739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A204-9F69-4BF6-A6EF-CE5E5022E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0159-ADEE-4747-B887-71D6D0EC6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7E57-3904-423C-85CD-7B1FEAE83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2D89-F767-4C12-82A3-B17E2E271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2960" y="762120"/>
            <a:ext cx="7318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MAN JACK RUBY SHOT ON NATIONAL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FF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"P" STAND FOR IN "P. DIDDY", THE ONE-TIME STAGE NAME OF THE RAPPER SEAN COM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19280" y="762120"/>
            <a:ext cx="7705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RLANDO'S PRO BASKET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638360" y="4876920"/>
            <a:ext cx="5867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09760" y="762120"/>
            <a:ext cx="8124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APPEARS ON THE NATIONAL FLAGS OF BHUTAN, WALES, AND MAL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305000" y="782640"/>
            <a:ext cx="653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ANAGRAM OF "DEV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 THE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9720" y="762120"/>
            <a:ext cx="840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ROMANTIC DRAMA FILM STARRED ANGELINA JOLIE AND BRAD PITT WAS SHOT DURING THEIR HONEYMOON IN MIL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TUM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ICIALLY RUNS FROM MARCH 1 TO MAY 31 IN BRAZIL, NEW ZEALAND, AND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99960" y="4876920"/>
            <a:ext cx="834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36520" y="762120"/>
            <a:ext cx="8670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EPHEN KING HORROR SHORT STORY WHICH BECAME A 2007 FILM AND 2017 TV SERIES WAS CALLED "TH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4280" y="762120"/>
            <a:ext cx="779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"P" STAND FOR IN "P. DIDDY", THE ONE-TIME STAGE NAME OF THE RAPPER SEAN COM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85640" y="762120"/>
            <a:ext cx="8172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-MOST COMMON 4-LETTER ENDING OF THE NAME OF COUNTRIES, AFTER "–ST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447920" y="4876920"/>
            <a:ext cx="624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  (HARVEY  OSWA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3560" y="762120"/>
            <a:ext cx="815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MAN JACK RUBY SHOT ON NATIONAL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38040" y="4229280"/>
            <a:ext cx="8467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HE  CHORUS  OF  "PUFF  THE  MAGIC  DRAGO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8040" y="761760"/>
            <a:ext cx="738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RLANDO'S PRO BASKETBAL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6560" y="762120"/>
            <a:ext cx="821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APPEARS ON THE NATIONAL FLAGS OF BHUTAN, WALES, AND MAL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ANAGRAM OF "DEV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ROMANTIC DRAMA FILM STARRED ANGELINA JOLIE AND BRAD PITT WAS SHOT DURING THEIR HONEYMOON IN MIL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ICIALLY RUNS FROM MARCH 1 TO MAY 31 IN BRAZIL, NEW ZEALAND, AND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04840" y="762120"/>
            <a:ext cx="873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EPHEN KING HORROR SHORT STORY WHICH BECAME A 2007 FILM AND 2017 TV SERIES WAS CALLED "TH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87440" y="762120"/>
            <a:ext cx="816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-MOST COMMON 4-LETTER ENDING OF THE NAME OF COUNTRIES, AFTER "–ST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8:12:45Z</dcterms:modified>
  <cp:revision>460</cp:revision>
  <dc:subject/>
  <dc:title>Slide 1</dc:title>
</cp:coreProperties>
</file>