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8777-C66B-455F-B59E-D86021F9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3D8-93A4-478A-B486-F1351F981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FA3D-662E-44BA-9E49-6F8E0838D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B16B-1700-482B-97DD-55E1D978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B97B-1AC6-427D-90C5-1629578F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F317-1125-41D7-9697-50D19DAD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F019-8088-4A9F-8899-09A54D0C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A5F-EE49-4184-BC9B-152398C2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E253-7B57-4D6B-8E3E-9818DEAEC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604F-B101-43D6-AD4C-F099B77F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4F4E-B308-4595-90D9-268453CE7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848E-4D69-4784-BC79-290C74F53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4FCE-299F-4C25-B855-38DBE2AB3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AE19-9E73-45A5-84C3-42013ED2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C636-6DB5-41BF-99EE-0FCD4891C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02DC-238A-41A2-9D3F-42FCECBA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988-D8AB-4D85-BCF3-B835DF37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727-5A0A-4675-88DC-C814FC3A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8265-0C58-4BFB-A7B0-6B0C9B69B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AB7F-E0DA-4FAA-A32E-0EB3EA8B8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AFA9-599C-43DD-ABA1-0B04D176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DE89-4C01-4A96-A7D4-600DECB2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1248-641D-4B2B-803E-90B077EC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066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JEOPARDY!" FOR 3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1960 HIT FILM "SPARTA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VON  SY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4240" y="762120"/>
            <a:ext cx="771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 11 INGMAR BERGMAN FILMS, INCLUDING ICONIC SCENES PLAYING DEATH IN CHESS  IN "THE SEVENTH S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IA  DE  HAVIL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00160" y="762120"/>
            <a:ext cx="87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O EACH HIS OWN" AND "THE HEIRESS", AND WAS NOMINATED FOR "HOLD BACK THE DAWN" AND "THE SNAKE P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23760" y="762120"/>
            <a:ext cx="729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STAR SCORED 81 POINTS IN AN NBA GAME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IS  PHIL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50960" y="762120"/>
            <a:ext cx="764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WHO WANTS TO BE A MILLIONAIRE" HOLDS THE WORLD RECORD FOR THE MOST TIME ON U.S. TELEV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RIC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RCHITECT OF ROCK AND ROLL" HAD SIGNATURE SONG "TUTTI FRUTT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BADER  GIN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9720" y="762120"/>
            <a:ext cx="8404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FEMALE SUPREME COURT JUSTICE 2006-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36800" y="762120"/>
            <a:ext cx="707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1960 HIT FILM "SPARTA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49400" y="762120"/>
            <a:ext cx="7043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TREB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9640" y="762120"/>
            <a:ext cx="752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JEOPARDY!" FOR 3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4880" y="4952880"/>
            <a:ext cx="773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11 INGMAR BERGMAN FILMS, INCLUDING ICONIC SCENES PLAYING DEATH IN CHESS  IN "THE SEVENTH S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81080" y="762120"/>
            <a:ext cx="8781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O EACH HIS OWN" AND "THE HEIRESS", AND WAS NOMINATED FOR "HOLD BACK THE DAWN" AND "THE SNAKE P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STAR SCORED 81 POINTS IN AN NBA GAME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1640" y="761760"/>
            <a:ext cx="77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WHO WANTS TO BE A MILLIONAIRE" HOLDS THE WORLD RECORD FOR THE MOST TIME ON U.S. TELEVI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RCHITECT OF ROCK AND ROLL" HAD SIGNATURE SONG "TUTTI FRUTT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FEMALE SUPREME COURT JUSTICE 2006-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4:09:48Z</dcterms:modified>
  <cp:revision>454</cp:revision>
  <dc:subject/>
  <dc:title>Slide 1</dc:title>
</cp:coreProperties>
</file>