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1AD-857D-494A-BB64-E2892685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0ADE-3574-4E1F-9CC3-8B13B9F3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E7B-174A-4724-B456-20E3EF22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0C1-ADEE-4D70-8155-2202AA742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637-B74C-4D53-8D3A-EA1A3A17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E1F-1068-4E51-A646-6BB0EF15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8DD-BC6D-4F49-B21F-6BD0F8FC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021-F576-441B-87B7-B059F214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DDA-A319-47E3-B3CD-215B1069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F80-982D-4971-B67B-3A824D05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DF0-17D1-459E-804A-B11A4029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3781-13C8-4341-8A5A-C5AFE361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3FD-36C0-4901-B87E-D037DE4E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BC7-0892-426F-BF50-BA05411BD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D3C1-8395-4EAB-8955-B3688AE0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4C3-D552-4652-9CBE-22A46D403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2DC-C02D-447E-9DE2-FE068789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429-54F3-4F84-B3FB-31C5BD5FB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D9B-0738-44D8-B37C-1BA89EF9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70E-C097-4DF4-9431-BFB4F2CA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1D9-95FA-421F-B2E7-79965CF6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829D-AFF3-47F7-9DF5-54E74F35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446-87C4-4874-8B70-68E3D53E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066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VON  SY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4240" y="762120"/>
            <a:ext cx="771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 11 INGMAR BERGMAN FILMS, INCLUDING ICONIC SCENES PLAYING DEATH IN CHESS  IN "THE SEVENTH S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IA  DE  HAVIL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0160" y="762120"/>
            <a:ext cx="87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23760" y="762120"/>
            <a:ext cx="729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IS  PHIL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50960" y="762120"/>
            <a:ext cx="764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RIC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36800" y="762120"/>
            <a:ext cx="70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49400" y="762120"/>
            <a:ext cx="70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4880" y="4952880"/>
            <a:ext cx="773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11 INGMAR BERGMAN FILMS, INCLUDING ICONIC SCENES PLAYING DEATH IN CHESS  IN "THE SEVENTH S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81080" y="762120"/>
            <a:ext cx="8781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1640" y="761760"/>
            <a:ext cx="77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9:48Z</dcterms:modified>
  <cp:revision>454</cp:revision>
  <dc:subject/>
  <dc:title>Slide 1</dc:title>
</cp:coreProperties>
</file>