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D44E-9599-4165-B9DD-FA547146F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6C67-F8B3-4E82-9FEC-A358C409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66A2-D0A8-4821-B0D4-A616D01AA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B2DB-EECE-4702-9936-9C9EC4BB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C7E2-19D5-4373-B81E-D26C2030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BA23-83DB-489D-A019-D532C3F14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B146-2A34-4636-8F56-D7FE14765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223-96F7-4FA8-A067-C4F9351F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6EA3-E263-489F-8D7F-4E900849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1C5E-DDC6-4CE0-9AC4-56E846D38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41FB-EB93-48C6-B756-D7D8E5C4D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4CE2-F145-45B7-9154-A13621E5E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09DA-6735-4922-9599-FA51B2952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46E2-245B-4CBB-AFE3-B092E128A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F348-F7EC-4F35-812C-F25E87405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3B94-47C8-4FF8-A6BB-620F9481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D6915-9A9D-41D9-9702-C22F4494D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990F-6899-49A8-AD8E-4CB6ACE6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C520-6A94-4872-A001-9FA7AEAA0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16D3-7101-4550-AB82-0C3718208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FD3-4F7A-40F2-BBCF-A203A1E5B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4F2E-9FE7-40D5-BE82-CF20EA50D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F7668-377F-4E6D-B289-703E89FD6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0666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  VON  SY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14240" y="762120"/>
            <a:ext cx="7715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 11 INGMAR BERGMAN FILMS, INCLUDING ICONIC SCENES PLAYING DEATH IN CHESS  IN "THE SEVENTH S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IA  DE  HAVIL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00160" y="762120"/>
            <a:ext cx="87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BE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23760" y="762120"/>
            <a:ext cx="7296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IS  PHIL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50960" y="762120"/>
            <a:ext cx="764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RICH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  BADER  GIN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36800" y="762120"/>
            <a:ext cx="7070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HE 1960 HIT FILM "SPARTAC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N  CONN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49400" y="762120"/>
            <a:ext cx="7043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TREB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9640" y="762120"/>
            <a:ext cx="752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JEOPARDY!" FOR 3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4880" y="4952880"/>
            <a:ext cx="7734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DIED  IN  20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11 INGMAR BERGMAN FILMS, INCLUDING ICONIC SCENES PLAYING DEATH IN CHESS  IN "THE SEVENTH S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81080" y="762120"/>
            <a:ext cx="8781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O EACH HIS OWN" AND "THE HEIRESS", AND WAS NOMINATED FOR "HOLD BACK THE DAWN" AND "THE SNAKE P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OS ANGELES LAKER STAR SCORED 81 POINTS IN AN NBA GAM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1640" y="761760"/>
            <a:ext cx="77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WHO WANTS TO BE A MILLIONAIRE" HOLDS THE WORLD RECORD FOR THE MOST TIME ON U.S. TELEVI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RCHITECT OF ROCK AND ROLL" HAD SIGNATURE SONG "TUTTI FRUTT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ONLY FEMALE SUPREME COURT JUSTICE 2006-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41400" y="762120"/>
            <a:ext cx="725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CTOR TO PORTRAY JAMES BOND IN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4:09:48Z</dcterms:modified>
  <cp:revision>454</cp:revision>
  <dc:subject/>
  <dc:title>Slide 1</dc:title>
</cp:coreProperties>
</file>