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137F-EF05-41C3-BC7D-0800AFDFD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3B47-7AC6-4188-AB4C-B9C7992A8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DE91-2548-4D42-8F9B-4B7227622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A8B7-2463-48C2-BA54-7F611E7EA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8718-734E-4F16-8007-0858E8D83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64CF-8369-439E-AC6D-DD83102A8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092D-5A22-4275-9AA5-AE3093268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A069-B38C-4619-916A-122735782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2DAE-3425-4F5F-8732-5AF0AC0E2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98AB-9E07-469B-B144-E164F8DB5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A527-1133-495F-B354-FC1AB2205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59DC-3537-4B75-AED6-EFE2F3A32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AA5F-A477-4333-BEED-A730F70AC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3F11-B167-4B5D-8618-DF026FC4E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D8BF-A006-476B-8B9D-06C46343F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4B17-FD81-4EB4-A901-DDAED5D0F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0A80-613C-48D7-8266-BD77FE2C5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4C97-9A7B-4DAA-B6A4-3BAD0A3DC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5FE7-321D-4188-948B-C2206A328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DC6B-9552-4995-9216-7B0944679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CF69-08A9-4799-AA73-9CCA22838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4611-2DEE-4D21-BD6F-40C163D16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C3D4C-D929-4BC2-817B-D05282142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0000" y="762120"/>
            <a:ext cx="8961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4 FILM STARS NICOLE KIDMAN AS A WOMAN WHO BELIEVES HER HUSBAND HAS BEEN REINCARNATED AS A BO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85640" y="762120"/>
            <a:ext cx="8172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WORD IS CONTAINED IN THE NAMES OF 9 DIFFERENT FRAGRANCES BY JENNIFER LOPE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18960" y="762120"/>
            <a:ext cx="850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2002 DRAMA FILM STARRING MERYL STREEP, JULIANNE MOORE, AND NICOLE KIDMAN (WHO WON BEST ACTRESS) IS  CALLED TH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3320" y="762120"/>
            <a:ext cx="8686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FOR A DISPOSABLE PREPAID PH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28560" y="782640"/>
            <a:ext cx="7886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REAL'S 1970'S COMMERCIALS FEATURED A 4-YEAR-OLD NAMED MIKEY WHO HATES EVERYTHING EXCEPT THAT CERE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17720" y="762120"/>
            <a:ext cx="7108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FATHER ON "LEAVE IT TO BEAV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96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WORD WRITTEN IN CAPITAL LETTERS READS THE SAME RIGHT SIDE UP AND UPSIDE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333440" y="4876920"/>
            <a:ext cx="647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65080" y="762120"/>
            <a:ext cx="7413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EAKERS OF BRITISH ENGLISH ADD AN "S" AT THE END OF THE NAME OF WHAT SCHOOL SUBJE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93200" y="762120"/>
            <a:ext cx="8155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WORD IS CONTAINED IN THE NAMES OF 9 DIFFERENT FRAGRANCES BY JENNIFER LOPEZ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S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247760" y="762120"/>
            <a:ext cx="6648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5 SENSES, WHICH IS CONSIDERED TO BE THE WEAK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08080" y="762120"/>
            <a:ext cx="872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4 FILM STARS NICOLE KIDMAN AS A WOMAN WHO BELIEVES HER HUSBAND HAS BEEN REINCARNATED AS A BO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99880" y="4800600"/>
            <a:ext cx="8544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THE  WORD  "AFTER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87280" y="761760"/>
            <a:ext cx="8569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2002 DRAMA FILM STARRING MERYL STREEP, JULIANNE MOORE, AND NICOLE KIDMAN (WHO WON BEST ACTRESS) IS  CALLED TH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52280" y="76212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FOR A DISPOSABLE PREPAID PH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REAL'S 1970'S COMMERCIALS FEATURED A 4-YEAR-OLD NAMED MIKEY WHO HATES EVERYTHING EXCEPT THAT CERE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33480" y="762120"/>
            <a:ext cx="727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FATHER ON "LEAVE IT TO BEAV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6560" y="761760"/>
            <a:ext cx="8210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WORD WRITTEN IN CAPITAL LETTERS READS THE SAME RIGHT SIDE UP AND UPSIDE DOW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39880" y="762120"/>
            <a:ext cx="7464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EAKERS OF BRITISH ENGLISH ADD AN "S" AT THE END OF THE NAME OF WHAT SCHOOL SUBJE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363680" y="762120"/>
            <a:ext cx="641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5 SENSES, WHICH IS CONSIDERED TO BE THE WEAK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12-16T14:10:01Z</dcterms:modified>
  <cp:revision>451</cp:revision>
  <dc:subject/>
  <dc:title>Slide 1</dc:title>
</cp:coreProperties>
</file>