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14EF-20BA-47BC-9252-9E2612201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0B4A-E4DC-41BD-98B7-4B975A120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875B-E9D0-4ED2-BAB5-4AF9EF5C4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0DC7-2ABD-4440-881E-64851FBF0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9D05-A19A-478F-8985-78809290D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8B87-0FF9-4C43-9FFA-0EA141E0A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F803-4ED6-4687-ADB9-A267C160B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5F40-FAA9-46E6-B0F0-4C5F0D060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C213-860C-4EB3-A5BF-41B733CBC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5C9B-69C5-4406-A3D8-913CFFDA9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A173-B658-4410-9F96-807311E7D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374A-F824-4456-9F3F-07FB94A2E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724E-D9F6-4366-8ADD-1BFF37D3C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C3D9-4179-4B98-A53F-0C7694D42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5BBD-B5C5-4DE5-A03F-8DDBD6EB1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A3CE-8B63-440D-A439-90ED34736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6B9B-0E86-49AB-AEA2-573482F7E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B9AA-C59D-4E4D-8B2E-F3C7E1C2C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7936-A4EB-43F7-B219-CC234BAE8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7545-895E-43C5-8CA5-52CA67E24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DA0F-BF7E-493E-9F17-24AF32D6E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D8A2-C300-48DF-A9EA-631B151B2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E5EA-C014-4B53-AC29-121DC8DE3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0000" y="762120"/>
            <a:ext cx="8961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FILM STARS NICOLE KIDMAN AS A WOMAN WHO BELIEVES HER HUSBAND HAS BEEN REINCARNATED AS A BO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85640" y="762120"/>
            <a:ext cx="8172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IS CONTAINED IN THE NAMES OF 9 DIFFERENT FRAGRANCES BY JENNIFER LOPE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18960" y="762120"/>
            <a:ext cx="850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002 DRAMA FILM STARRING MERYL STREEP, JULIANNE MOORE, AND NICOLE KIDMAN (WHO WON BEST ACTRESS) IS 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3320" y="762120"/>
            <a:ext cx="8686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A DISPOSABLE PREPAID PH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28560" y="782640"/>
            <a:ext cx="788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REAL'S 1970'S COMMERCIALS FEATURED A 4-YEAR-OLD NAMED MIKEY WHO HATES EVERYTHING EXCEPT THAT CERE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17720" y="762120"/>
            <a:ext cx="7108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FATHER ON "LEAVE IT TO BEA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WRITTEN IN CAPITAL LETTERS READS THE SAME RIGHT SIDE UP AND UPSIDE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333440" y="487692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65080" y="762120"/>
            <a:ext cx="7413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AKERS OF BRITISH ENGLISH ADD AN "S" AT THE END OF THE NAME OF WHAT SCHOOL SUBJ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93200" y="762120"/>
            <a:ext cx="8155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IS CONTAINED IN THE NAMES OF 9 DIFFERENT FRAGRANCES BY JENNIFER LOPE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247760" y="762120"/>
            <a:ext cx="6648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5 SENSES, WHICH IS CONSIDERED TO BE THE WEAK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08080" y="762120"/>
            <a:ext cx="872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FILM STARS NICOLE KIDMAN AS A WOMAN WHO BELIEVES HER HUSBAND HAS BEEN REINCARNATED AS A B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99880" y="4800600"/>
            <a:ext cx="8544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AFT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87280" y="761760"/>
            <a:ext cx="8569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002 DRAMA FILM STARRING MERYL STREEP, JULIANNE MOORE, AND NICOLE KIDMAN (WHO WON BEST ACTRESS) IS  CALLED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52280" y="7621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A DISPOSABLE PREPAID PH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REAL'S 1970'S COMMERCIALS FEATURED A 4-YEAR-OLD NAMED MIKEY WHO HATES EVERYTHING EXCEPT THAT CERE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FATHER ON "LEAVE IT TO BEAV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6560" y="761760"/>
            <a:ext cx="8210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WRITTEN IN CAPITAL LETTERS READS THE SAME RIGHT SIDE UP AND UPSIDE D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9880" y="762120"/>
            <a:ext cx="7464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AKERS OF BRITISH ENGLISH ADD AN "S" AT THE END OF THE NAME OF WHAT SCHOOL SUB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363680" y="762120"/>
            <a:ext cx="64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5 SENSES, WHICH IS CONSIDERED TO BE THE WEAK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4:10:01Z</dcterms:modified>
  <cp:revision>451</cp:revision>
  <dc:subject/>
  <dc:title>Slide 1</dc:title>
</cp:coreProperties>
</file>