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44D5-B818-4F0A-B4C6-5FB68257D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99CC-4D3E-4F03-8EF6-9BF9461E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E54C-B8C4-4F0B-B63F-367F524C0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1818-5865-40F7-9819-740DDF633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848F-22F7-44C8-8B6D-31EE71F7A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FFEA-161E-43D6-AA55-B40EE6C16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F228-DD39-4F9D-BFD3-8FEC81030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8EE6-7914-462B-9F0E-37AAB9A2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F5A-3233-4F3C-8DD0-B555C6AC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B0EC-9582-4B6C-9833-4E4E4F7F7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3F12-C6B8-4C98-9425-97312122E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DE8C-FDD2-4699-9182-D65E1AE47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F983-44CA-446D-8443-C3045F5A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6C05-3CE3-4EBB-8254-E1BF9709A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E979-AF05-4AE6-85D8-1E961357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D54B-8AEB-4105-BE65-141F1514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FA8E-D265-42C7-987D-4AF24A4D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BC1C-1FEB-4D28-90DB-3FEAB709F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14D3-816F-4A94-B1EB-882259D9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452-7A27-46B2-A8F2-5E492B8ED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9733-7A11-408F-BC52-212069BB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ED5B-2527-49E5-8F8C-2BE598E3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BFD2-3748-44EA-9A9B-72383F5B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0000" y="762120"/>
            <a:ext cx="896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S NICOLE KIDMAN AS A WOMAN WHO BELIEVES HER HUSBAND HAS BEEN REINCARNATED AS A B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5640" y="762120"/>
            <a:ext cx="817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CONTAINED IN THE NAMES OF 9 DIFFERENT FRAGRANCES BY JENNIFER LOPE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18960" y="762120"/>
            <a:ext cx="850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2 DRAMA FILM STARRING MERYL STREEP, JULIANNE MOORE, AND NICOLE KIDMAN (WHO WON BEST ACTRESS) IS 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32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DISPOSABLE PREPAID 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EAL'S 1970'S COMMERCIALS FEATURED A 4-YEAR-OLD NAMED MIKEY WHO HATES EVERYTHING EXCEPT THAT CERE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7720" y="762120"/>
            <a:ext cx="710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ATHER ON "LEAVE IT TO B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RITTEN IN CAPITAL LETTERS READS THE SAME RIGHT SIDE UP AND UPSIDE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65080" y="762120"/>
            <a:ext cx="7413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ERS OF BRITISH ENGLISH ADD AN "S" AT THE END OF THE NAME OF WHAT SCHOOL SU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0" y="762120"/>
            <a:ext cx="8155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CONTAINED IN THE NAMES OF 9 DIFFERENT FRAGRANCES BY JENNIFER LOPE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47760" y="762120"/>
            <a:ext cx="664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5 SENSES, WHICH IS CONSIDERED TO BE THE WEAK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8080" y="762120"/>
            <a:ext cx="872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S NICOLE KIDMAN AS A WOMAN WHO BELIEVES HER HUSBAND HAS BEEN REINCARNATED AS A B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99880" y="4800600"/>
            <a:ext cx="854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AF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7280" y="761760"/>
            <a:ext cx="856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2 DRAMA FILM STARRING MERYL STREEP, JULIANNE MOORE, AND NICOLE KIDMAN (WHO WON BEST ACTRESS) IS 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DISPOSABLE PREPAID 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EAL'S 1970'S COMMERCIALS FEATURED A 4-YEAR-OLD NAMED MIKEY WHO HATES EVERYTHING EXCEPT THAT CERE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ATHER ON "LEAVE IT TO BEA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RITTEN IN CAPITAL LETTERS READS THE SAME RIGHT SIDE UP AND UPSIDE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ERS OF BRITISH ENGLISH ADD AN "S" AT THE END OF THE NAME OF WHAT SCHOOL SU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63680" y="762120"/>
            <a:ext cx="64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5 SENSES, WHICH IS CONSIDERED TO BE THE WEAK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01Z</dcterms:modified>
  <cp:revision>451</cp:revision>
  <dc:subject/>
  <dc:title>Slide 1</dc:title>
</cp:coreProperties>
</file>