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1E9D-EE8C-4D9C-866D-BFDE732BA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9F1A-4811-4639-8AA0-4430FAE1D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3424-077E-4C19-9A72-766936E20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2B8E-9D2D-4259-B8BF-F45C20DB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8337-5962-45DE-905B-AB37B1CE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4E72-A09D-4C42-B292-D357A5571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EABB-9D84-4EEB-8877-F867422F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C510-DECA-4B3B-9389-654A2738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148A-9368-491A-A272-F2C1CDCE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3608-A75F-4F78-9AFD-63CE7A84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5F54-B6AD-445D-B72D-8399B0D3D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71D5-2551-4778-B761-0B2304A5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F861-0667-4DEF-88F9-04D169A3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6D85-450E-4FD8-B727-5A77CF79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64CA-FF36-4C86-80D5-386585004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D1BB-DC46-4CE3-A323-4AD7353A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9C5A-DE1B-4AE9-B1B9-40100BD35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EA18-DAF4-466F-B562-22A6F7990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8EB5-AA16-4FA3-ABE8-C3A7B054E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4B4C-3B10-4E28-9D0B-96D786A85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BBAA-6F96-4E03-A8DC-C14789D5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AA48-DAEB-4334-8F72-F1C47B29B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BE69-B401-449F-BFD4-57471672F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CRYSTALLINE COMPOUND DO PEOPLE FROM NIGERIA AND IRELAND USE FOR SOFT DRI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 COMPANY DESIGNED THE "PILOT", THE FIRST SUCCESSFUL PDA, BEFORE BEING BOUGHT OUT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ISTIN CHENOWETH WON AN EMMY FOR PLAYING WHAT CHARACTER ON "PUSHING DAIS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685800"/>
            <a:ext cx="7162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RANCES HOUSEMAN'S NICKNAME IN DIRTY DA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EDGAR ALLAN POE'S "THE RAVEN," AT WHAT TIME DOES THE POEM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THE NICKNAME OF KANSAS IS "THE ___ ST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MORTAL HERO IS THE TWIN BROTHER OF THE IMMORTAL POLLU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ZONA'S PRO BASEBALL AND ARENA FOOTBALL TEAMS ARE BOTH NAMED AFTER SPECIES OF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 COMPANY DESIGNED THE "PILOT", THE FIRST SUCCESSFUL PDA, BEFORE BEING BOUGHT OUT IN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CROP DOES THE U.S. PRODUCE 350 MILLION TONS OF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CRYSTALLINE COMPOUND DO PEOPLE FROM NIGERIA AND IRELAND USE FOR SOFT DRI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ISTIN CHENOWETH WON AN EMMY FOR PLAYING WHAT CHARACTER ON "PUSHING DAIS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RANCES HOUSEMAN'S NICKNAME IN DIRTY DA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EDGAR ALLAN POE'S "THE RAVEN," AT WHAT TIME DOES THE POEM BEG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THE NICKNAME OF KANSAS IS "THE ___ STA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MORTAL HERO IS THE TWIN BROTHER OF THE IMMORTAL POLLU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ZONA'S PRO BASEBALL AND ARENA FOOTBALL TEAMS ARE BOTH NAMED AFTER SPECIES OF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CROP DOES THE U.S. PRODUCE 350 MILLION TONS OF EVERY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3T22:33:16Z</dcterms:created>
  <dc:creator>Jennifer Budzinski</dc:creator>
  <dc:description/>
  <dc:language>en-US</dc:language>
  <cp:lastModifiedBy>Erich Friedman</cp:lastModifiedBy>
  <dcterms:modified xsi:type="dcterms:W3CDTF">2020-12-16T14:10:13Z</dcterms:modified>
  <cp:revision>431</cp:revision>
  <dc:subject/>
  <dc:title>Slide 1</dc:title>
</cp:coreProperties>
</file>