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5EEEE-51FB-4604-96AC-E57FE4EBF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5A25-4891-4F95-A867-84D49DBE1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C961-DEF2-41F5-96E5-00EE189FF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CEA7-018D-414E-B26C-CB96D2E3E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2ECE-3BC1-496E-9A3A-03F1226BE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A5CB-36DE-4BAC-A4B9-62C00C068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52E8-10CA-439B-A6A6-E1209AE28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8B59-44CE-422E-95C9-9BB8565CE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4CE0-9147-4335-9C8A-5004E0A5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CBE7-264B-4922-A933-13D5EBF1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30D5-C658-421C-9983-D60D02998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F507-AE34-488C-941C-AE706DCA9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5088-81E3-4484-B719-79AD6518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F5C8-7E75-4601-8D16-7705B66FF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DC00-FD51-4ACE-908D-E080CE51F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5B11-4C9E-4050-AD58-546F029C4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9B4C-7995-4445-9DE9-4660C55D0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87EA-D50E-46D4-B4AC-7C0316E21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0D1D-58EB-4AA6-AF3C-201BD3F68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5883-D040-4725-B5C7-21835D7B1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E5ED-7AE3-463F-96D3-1C54861FF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EE25-9EC0-43D9-B8FC-1750FFAFF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9C96-A055-4444-B192-335450F2B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R A CRYSTALLINE COMPOUND DO PEOPLE FROM NIGERIA AND IRELAND USE FOR SOFT DRI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 COMPANY DESIGNED THE "PILOT", THE FIRST SUCCESSFUL PDA, BEFORE BEING BOUGHT OUT IN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ISTIN CHENOWETH WON AN EMMY FOR PLAYING WHAT CHARACTER ON "PUSHING DAIS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4400" y="685800"/>
            <a:ext cx="71629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RANCES HOUSEMAN'S NICKNAME IN DIRTY DAN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EDGAR ALLAN POE'S "THE RAVEN," AT WHAT TIME DOES THE POEM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THE NICKNAME OF KANSAS IS "THE ___ ST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MORTAL HERO IS THE TWIN BROTHER OF THE IMMORTAL POLLU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ZONA'S PRO BASEBALL AND ARENA FOOTBALL TEAMS ARE BOTH NAMED AFTER SPECIES OF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 COMPANY DESIGNED THE "PILOT", THE FIRST SUCCESSFUL PDA, BEFORE BEING BOUGHT OUT IN 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GRICULTURAL CROP DOES THE U.S. PRODUCE 350 MILLION TONS OF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R A CRYSTALLINE COMPOUND DO PEOPLE FROM NIGERIA AND IRELAND USE FOR SOFT DRI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RISTIN CHENOWETH WON AN EMMY FOR PLAYING WHAT CHARACTER ON "PUSHING DAIS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RANCES HOUSEMAN'S NICKNAME IN DIRTY DAN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FIRST LINE OF EDGAR ALLAN POE'S "THE RAVEN," AT WHAT TIME DOES THE POEM BEG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: THE NICKNAME OF KANSAS IS "THE ___ STA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MORTAL HERO IS THE TWIN BROTHER OF THE IMMORTAL POLLU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IZONA'S PRO BASEBALL AND ARENA FOOTBALL TEAMS ARE BOTH NAMED AFTER SPECIES OF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GRICULTURAL CROP DOES THE U.S. PRODUCE 350 MILLION TONS OF EVERY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3T22:33:16Z</dcterms:created>
  <dc:creator>Jennifer Budzinski</dc:creator>
  <dc:description/>
  <dc:language>en-US</dc:language>
  <cp:lastModifiedBy>Erich Friedman</cp:lastModifiedBy>
  <dcterms:modified xsi:type="dcterms:W3CDTF">2020-12-16T14:10:13Z</dcterms:modified>
  <cp:revision>431</cp:revision>
  <dc:subject/>
  <dc:title>Slide 1</dc:title>
</cp:coreProperties>
</file>