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9897-2CAB-466F-BB09-FCEB3066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BBFD-AC76-47B4-9B1D-21E90515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0C51-F50A-440E-946C-B3A8F816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D8E1-4465-42DF-9254-5B2089624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B1FC-6A0A-46C0-8AEC-D69EB344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8C0E-0EC9-40A3-B64F-5F0629B96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F767-636C-438C-B23B-3571925EB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5989-8259-48AB-A380-D3B66BE13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22E6-B4D9-4752-8DC7-C26B09E6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3297-15D3-44DF-A574-DFE1E17A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D940-92C3-4D45-B0D2-AC1AA37F4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AD4C-C624-4DDE-BDC4-F50930B3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5969-8AC7-4160-A701-538A387C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77DD-618F-4E00-ABAD-875630642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BEA2-7AA0-4B67-B234-6546BEFE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E7B2-23F9-4E88-BC6A-379D548BB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5B6E-FFCF-4E41-9962-EF23D9C4E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1AB5-F220-4084-84D0-A16C7AEB2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13C6-B3A6-438F-9316-53B8CFCCD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59F0-0A4E-4C53-96BE-DB1857B2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AF53-13CE-4021-BA06-0403AC5D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AA79-7EE5-4DDC-A2E5-6821B33E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00EE-4BCB-4CE4-AF1C-5370C78D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CRYSTALLINE COMPOUND DO PEOPLE FROM NIGERIA AND IRELAND USE FOR SOFT DRI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 COMPANY DESIGNED THE "PILOT", THE FIRST SUCCESSFUL PDA, BEFORE BEING BOUGHT OUT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ISTIN CHENOWETH WON AN EMMY FOR PLAYING WHAT CHARACTER ON "PUSHING DAIS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685800"/>
            <a:ext cx="7162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RANCES HOUSEMAN'S NICKNAME IN DIRTY DA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EDGAR ALLAN POE'S "THE RAVEN," AT WHAT TIME DOES THE POEM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THE NICKNAME OF KANSAS IS "THE ___ ST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MORTAL HERO IS THE TWIN BROTHER OF THE IMMORTAL POLLU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ZONA'S PRO BASEBALL AND ARENA FOOTBALL TEAMS ARE BOTH NAMED AFTER SPECIES OF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 COMPANY DESIGNED THE "PILOT", THE FIRST SUCCESSFUL PDA, BEFORE BEING BOUGHT OUT IN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CROP DOES THE U.S. PRODUCE 350 MILLION TONS OF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CRYSTALLINE COMPOUND DO PEOPLE FROM NIGERIA AND IRELAND USE FOR SOFT DRI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ISTIN CHENOWETH WON AN EMMY FOR PLAYING WHAT CHARACTER ON "PUSHING DAIS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RANCES HOUSEMAN'S NICKNAME IN DIRTY DA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EDGAR ALLAN POE'S "THE RAVEN," AT WHAT TIME DOES THE POEM BEG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THE NICKNAME OF KANSAS IS "THE ___ STA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MORTAL HERO IS THE TWIN BROTHER OF THE IMMORTAL POLLU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ZONA'S PRO BASEBALL AND ARENA FOOTBALL TEAMS ARE BOTH NAMED AFTER SPECIES OF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CROP DOES THE U.S. PRODUCE 350 MILLION TONS OF EVERY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3T22:33:16Z</dcterms:created>
  <dc:creator>Jennifer Budzinski</dc:creator>
  <dc:description/>
  <dc:language>en-US</dc:language>
  <cp:lastModifiedBy>Erich Friedman</cp:lastModifiedBy>
  <dcterms:modified xsi:type="dcterms:W3CDTF">2020-12-16T14:10:13Z</dcterms:modified>
  <cp:revision>431</cp:revision>
  <dc:subject/>
  <dc:title>Slide 1</dc:title>
</cp:coreProperties>
</file>