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D6D4-E399-44C7-9F23-4F4FAB9B1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1397-B343-42EA-BD3E-63BC5BADA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B066-3FFD-4A9C-881E-EE0755CBB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C2C1-64A1-449A-A32D-672FCADF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EE1C-F89B-4D91-A965-F6B469B8D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3FF4-47C5-46A5-A9ED-FDD9468FE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494F-1465-4E8B-B6C0-CC588000E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22F8-710E-487B-94F9-F2E45EEC6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F3CA-205F-450E-A9CC-6CF4DA5ED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24A8-EE8E-49FB-B8CA-6E603B5B4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D565-C878-4822-9058-8CA6A24AB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4DFD-FCD8-4D82-B396-4C1DABFA9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10D8-EE3A-45E7-A4D4-010E85BA6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D10F-553B-4A88-B294-4AFCA8318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09E7-2499-4176-AC63-F431A75E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37C7-9D12-41DB-ABEB-53B862BD9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0C76-7950-4D42-9043-E13F23C1B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EA70-58B7-4FED-8721-41335BC43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E9EC-85D2-4B8D-B2A8-60833DCD4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4A7A-5344-49DE-9CC1-5F0650099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2D31-DC25-41D5-B311-520E49536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3796-FA22-4450-B206-F556BE70B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3910-062F-4028-9AB6-CCA39902A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4200" y="762120"/>
            <a:ext cx="763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ARTIFICIAL SWEETENER COMES IN BLUE PACK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762120"/>
            <a:ext cx="8248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ANY DIFFERENT COLORS ARE REQUIRED TO COLOR ANY MAP OF CONNECTED COUNTRIES SO THAT ADJACENT COUNTRIES GET DIFFERENT COL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66640" y="762120"/>
            <a:ext cx="801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ADEMY AWARDS ARE GIVEN FOR "BEST ORIGINAL" SONG, SCREENPLAY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19240" y="762120"/>
            <a:ext cx="6905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UMERICAL DIGIT APPEARS DIFFERENTLY ON DIFFERENT BRANDS OF CALCUL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28560" y="78264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TRINITY IS ALWAYS MENTIONED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69720" y="762120"/>
            <a:ext cx="840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CONTINUOUSLY PUBLISHED WEEKLY MAGAZINE IN THE U.S. I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  (EQUALITY,  FRATERN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33440" y="762120"/>
            <a:ext cx="8253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NGLISH TRANSLATION OF THE FIRST OF THE THREE WORDS IN THE FRENCH NATIONAL MOT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99960" y="4800600"/>
            <a:ext cx="834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DICATED  TO  THE  (ONE  I  LO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1920" y="762120"/>
            <a:ext cx="8507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RST HALF OF THE TITLE OF THE MAMAS &amp; THE PAPAS SONG THAT BEGINS "WHILE I'M FAR AWAY FROM YOU MY BABY, I KNOW IT'S HARD FOR YOU MY BABY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3200" y="762120"/>
            <a:ext cx="8155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ANY DIFFERENT COLORS ARE REQUIRED TO COLOR ANY MAP OF CONNECTED COUNTRIES SO THAT ADJACENT COUNTRIES GET DIFFERENT COLOR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81000" y="762120"/>
            <a:ext cx="7182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URAL WORD IS TURNED INTO ITS OPPOSITE BY APPENDING "WO" TO ITS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57080" y="762120"/>
            <a:ext cx="7629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ARTIFICIAL SWEETENER COMES IN BLUE PACK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267080"/>
            <a:ext cx="7639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THE  FIRST  SENTENCE  OF  THE  GETTYSBURG  ADD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2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ADEMY AWARDS ARE GIVEN FOR "BEST ORIGINAL" SONG, SCREENPLAY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UMERICAL DIGIT APPEARS DIFFERENTLY ON DIFFERENT BRANDS OF CALCUL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TRINITY IS ALWAYS MENTIONED FIR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CONTINUOUSLY PUBLISHED WEEKLY MAGAZINE IN THE U.S. I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NGLISH TRANSLATION OF THE FIRST OF THE THREE WORDS IN THE FRENCH NATIONAL MOT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1440" y="762120"/>
            <a:ext cx="8601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RST HALF OF THE TITLE OF THE MAMAS &amp; THE PAPAS SONG THAT BEGINS "WHILE I'M FAR AWAY FROM YOU MY BABY, I KNOW IT'S HARD FOR YOU MY BABY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44640" y="762120"/>
            <a:ext cx="72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URAL WORD IS TURNED INTO ITS OPPOSITE BY APPENDING "WO" TO ITS BEGIN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4:10:23Z</dcterms:modified>
  <cp:revision>450</cp:revision>
  <dc:subject/>
  <dc:title>Slide 1</dc:title>
</cp:coreProperties>
</file>