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8BF-A1DC-4863-B823-64429E7B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2A9-6D3C-4AE0-B2A4-E9DD3B62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FCE-42AD-4D12-BBBB-EBF5D8BE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6A1A-2CE7-4255-B485-04853FDC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019B-E4F6-4669-B99E-25D5F1EE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ADC9-68DF-4D12-AC79-AD9D26900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87D-96B6-4E76-BD1D-5B4EFC12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6EC-B422-435D-89D1-A2922223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C30-BDB3-44F4-8B23-DB7A9276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60D-1315-4B1E-B789-5AF6B993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0CA-B2B0-4168-926F-51746938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9BD-E5A1-49A4-986F-131E6DCE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043-01CC-40D0-A6CE-E724EDB1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E5EF-260E-4B6C-BA6A-48D8A15A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FC25-0E47-4238-A324-76F8582D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3ACE-4774-42B6-92F0-61B096D9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85C-7E1B-4E72-8A2A-024A8645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BE4F-3B68-4A6D-BE77-86EE52B8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C90-19BF-4002-B17D-85E08A66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7A5E-90E3-42B1-B519-DBE5E277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4C9-5437-45F6-BC52-D3A9C66A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06EC-A1EA-48BB-B86A-51AEC684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985-F314-4BBE-9B4D-6D5B1428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4200" y="762120"/>
            <a:ext cx="763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19240" y="762120"/>
            <a:ext cx="6905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(EQUALITY,  FRATER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3440" y="762120"/>
            <a:ext cx="8253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0060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DICATED  TO  THE  (ONE  I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507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81000" y="762120"/>
            <a:ext cx="718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7080" y="762120"/>
            <a:ext cx="762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FIRST  SENTENCE  OF  THE  GETTYSBURG  AD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1440" y="762120"/>
            <a:ext cx="860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23Z</dcterms:modified>
  <cp:revision>450</cp:revision>
  <dc:subject/>
  <dc:title>Slide 1</dc:title>
</cp:coreProperties>
</file>