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A200-D034-46A6-918F-B8922EF48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A0F2-3948-4763-AB93-9C9FD543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441-3C21-4755-A69C-6537FCAC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D716-7976-4C5B-831C-76BBED5F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D676-7353-4A9D-9B0B-B37A709E3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A3AE-3DB4-4052-AF33-0990780E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356C-24DE-44C5-967B-1AC7F2F1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055F-3DAE-447F-A829-2D5583C3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A53-E851-4260-8D64-0108DD251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B4EE-3868-47B8-B0A7-B9F095C5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7D74-077F-4B1F-88A0-A4D7363C1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1C47-E2E4-4449-BE43-6237D8ED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E86E-5306-4C31-AF74-E7BA50AA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0133-AFA5-44B6-9815-E8266358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870D-C5DC-4870-94FF-B2B77280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81FA-F654-4BD1-9F30-FF2989A1D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9DD4-FED6-44C7-8174-6481CF8BB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17B6-76DE-45DA-A0B2-34B282C9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90E1-9509-4823-AD30-B21C4FAF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E12D-F038-4D2F-ADE7-B2D06FC4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988E-29B2-4D6E-AD07-9A3EE455D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3582-508E-4EFA-8646-7CA63250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CA96-22AE-450C-9462-907FF2E1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4200" y="762120"/>
            <a:ext cx="763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ARTIFICIAL SWEETENER COMES IN BLUE PA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DIFFERENT COLORS ARE REQUIRED TO COLOR ANY MAP OF CONNECTED COUNTRIES SO THAT ADJACENT COUNTRIES GET DIFFERENT COL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19240" y="762120"/>
            <a:ext cx="6905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UMERICAL DIGIT APPEARS DIFFERENTLY ON DIFFERENT BRANDS OF CALCUL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TRINITY IS ALWAYS MENTIONE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NTINUOUSLY PUBLISHED WEEKLY MAGAZINE IN THE U.S.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(EQUALITY,  FRATERN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3440" y="762120"/>
            <a:ext cx="8253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THE FIRST OF THE THREE WORDS IN THE FRENCH NATIONAL M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99960" y="4800600"/>
            <a:ext cx="834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DICATED  TO  THE  (ONE  I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507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HALF OF THE TITLE OF THE MAMAS &amp; THE PAPAS SONG THAT BEGINS "WHILE I'M FAR AWAY FROM YOU MY BABY, I KNOW IT'S HARD FOR YOU MY BAB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0" y="762120"/>
            <a:ext cx="8155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DIFFERENT COLORS ARE REQUIRED TO COLOR ANY MAP OF CONNECTED COUNTRIES SO THAT ADJACENT COUNTRIES GET DIFFERENT COLO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81000" y="762120"/>
            <a:ext cx="7182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URAL WORD IS TURNED INTO ITS OPPOSITE BY APPENDING "WO" TO ITS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57080" y="762120"/>
            <a:ext cx="7629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ARTIFICIAL SWEETENER COMES IN BLUE PA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267080"/>
            <a:ext cx="763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FIRST  SENTENCE  OF  THE  GETTYSBURG  AD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UMERICAL DIGIT APPEARS DIFFERENTLY ON DIFFERENT BRANDS OF CALCUL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TRINITY IS ALWAYS MENTIONE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NTINUOUSLY PUBLISHED WEEKLY MAGAZINE IN THE U.S. I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THE FIRST OF THE THREE WORDS IN THE FRENCH NATIONAL M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1440" y="762120"/>
            <a:ext cx="860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HALF OF THE TITLE OF THE MAMAS &amp; THE PAPAS SONG THAT BEGINS "WHILE I'M FAR AWAY FROM YOU MY BABY, I KNOW IT'S HARD FOR YOU MY BABY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44640" y="762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URAL WORD IS TURNED INTO ITS OPPOSITE BY APPENDING "WO" TO ITS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23Z</dcterms:modified>
  <cp:revision>450</cp:revision>
  <dc:subject/>
  <dc:title>Slide 1</dc:title>
</cp:coreProperties>
</file>