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CF2C-EAE7-46CF-9B01-389FFC7E1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C7FA-18B1-46A6-8D72-CDED05A18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0443-FA49-4AA3-A6CD-116F30C36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B0A1-D7D5-42EE-A107-1E67ADBED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07A5-3A79-473F-BF5F-791C81A3B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42B6-FD0E-4478-86A0-2B4F1F9A2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7E8F-B154-46D6-B254-F8A625FCB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8109-8484-4CFD-8466-1CA8CDF35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4ED1-07F3-4990-85CB-0D836AEF8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1D65-2ECF-4552-BDC9-015380925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2F1A-BA08-438E-8990-68BE1A4E2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4C02-C80F-4724-9E81-4C69758FF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AEDB-E901-47EF-8085-E405F4D45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93E3-B995-4D56-86C1-768235A8D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6B6C-5C03-4BF6-A1C5-0A011B1AD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1DAB-3DBD-46F5-BAE0-88E8C03CC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F295-0BA3-4E51-B770-186AEE2C6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B963-0555-4E25-8B04-33D5A942F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A898-7AC9-47FA-947B-E0A0553C5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00A2-FF66-4EB4-A52E-3E3E02CC3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46E2-689A-4A09-A6D7-A038F95D9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45DD-5062-4ADA-A9E9-64870D91E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BDBD-104D-4B2C-B8BD-30634E110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11400" y="762120"/>
            <a:ext cx="6721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Y" STAND FOR IN "AP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RONG 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DOUGLAS CORRIGAN, WHO IN 1938, FLEW FROM NYC TO IRELAND INSTEAD OF TO CALIFORNIA AS PLAN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285920" y="762120"/>
            <a:ext cx="657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IN THE ROLLS ROYCE LOGO BETWEEN THE WORDS "ROLLS" AND "ROY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3320" y="762120"/>
            <a:ext cx="8686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YLIE MINOGUE #1 SONG, WHICH ASKS A MAN TO DANCE WITH HER, IS HER FAVORITE SONG FROM HER CAR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S  S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52400" y="765000"/>
            <a:ext cx="763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6 DRAMA FILM NAMED AFTER A PLACE STARRED MARILYN MONROE, DON MURRAY, AND ARTHUR O'CONN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  EX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62040" y="762120"/>
            <a:ext cx="7796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-PAUL SARTRE PLAY FEATURES THREE DECEASED PEOPLE LOCKED IN A ROOM FOR ETERN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ITA)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WOMAN WHO ACCUSED JUDGE CLARENCE THOMAS OF SEXUAL HARASS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T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52280" y="838080"/>
            <a:ext cx="45957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SHERYL CROW ALBUM HAD 4 TOP-20 SO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DOUGLAS CORRIGAN, WHO IN 1938, FLEW FROM NYC TO IRELAND INSTEAD OF TO CALIFORNIA AS PLAN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P!  (IN  THE  NAME  OF  LO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33320" y="762120"/>
            <a:ext cx="7677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IN THE TITLE OF A #1 SONG BY THE SUPREMES BEFORE  AN EXCLAMATION POI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NUAL  PERCENTAGE)  Y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00160" y="762120"/>
            <a:ext cx="6943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Y" STAND FOR IN "AP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52400" y="4876920"/>
            <a:ext cx="7639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EAR  ON  TRAFFIC 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IN THE ROLLS ROYCE LOGO BETWEEN THE WORDS "ROLLS" AND "ROY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5228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YLIE MINOGUE #1 SONG, WHICH ASKS A MAN TO DANCE WITH HER, IS HER FAVORITE SONG FROM HER CAR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6 DRAMA FILM NAMED AFTER A PLACE STARRED MARILYN MONROE, DON MURRAY, AND ARTHUR O'CONN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-PAUL SARTRE PLAY FEATURES THREE DECEASED PEOPLE LOCKED IN A ROOM FOR ETERN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WOMAN WHO ACCUSED JUDGE CLARENCE THOMAS OF SEXUAL HARASS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4562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SHERYL CROW ALBUM HAD 4 TOP-20 SO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0720" y="762120"/>
            <a:ext cx="770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IN THE TITLE OF A #1 SONG BY THE SUPREMES BEFORE  AN EXCLAMATION POI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4:10:35Z</dcterms:modified>
  <cp:revision>453</cp:revision>
  <dc:subject/>
  <dc:title>Slide 1</dc:title>
</cp:coreProperties>
</file>