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FFEF-9F3F-45DD-8DAC-193BFE214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AD74-D9BC-4F77-A8D9-33B35F56B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7D4D-3F0A-47C4-ADD0-A054512F6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68BD-089A-4A99-80DE-BAE07D16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8025-5DF0-4E14-94B2-9DF31121F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4F3E-BD7E-4D36-B619-A273163DD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543A-E913-4F06-9EE1-C738DBB0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EE5A-7C6C-4660-AE04-C27628D4C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03E3-45D4-4D85-94EA-06F588AA0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24DD-F1A4-449F-9D76-03C86E13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F935-F86E-43AB-8E55-97EFCF34E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6C6D-99D8-4559-97F5-E89420CA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DC60-D907-4CDB-9C12-95530C727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2AB0-8770-4293-8EB2-49E1D3B5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4073-4C7B-49C3-A672-88791570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1A04-A802-4CB9-953F-71262935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35BC-90A7-4064-A8A4-7C217602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DC7D-AB4D-4A5D-BA42-DE0320120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F0BC-59BB-4A89-B57B-470608B5A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0414-3074-4A12-8114-74E646977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FBD6-9392-41C7-BCF2-CB7F5577B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844D-2B44-47E1-BA7E-E1ED3453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CB34-DDDB-46BF-91EE-A7094AE10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11400" y="762120"/>
            <a:ext cx="672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Y" STAND FOR IN "AP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ONG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DOUGLAS CORRIGAN, WHO IN 1938, FLEW FROM NYC TO IRELAND INSTEAD OF TO CALIFORNIA AS PLAN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85920" y="762120"/>
            <a:ext cx="657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IN THE ROLLS ROYCE LOGO BETWEEN THE WORDS "ROLLS" AND "ROY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YLIE MINOGUE #1 SONG, WHICH ASKS A MAN TO DANCE WITH HER, IS HER FAVORITE SONG FROM HE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S  S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52400" y="765000"/>
            <a:ext cx="763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DRAMA FILM NAMED AFTER A PLACE STARRED MARILYN MONROE, DON MURRAY, AND ARTHUR O'CONN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  EX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2040" y="762120"/>
            <a:ext cx="77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-PAUL SARTRE PLAY FEATURES THREE DECEASED PEOPLE LOCKED IN A ROOM FOR ETER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ITA)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ACCUSED JUDGE CLARENCE THOMAS OF SEXUAL HARASS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838080"/>
            <a:ext cx="45957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SHERYL CROW ALBUM HAD 4 TOP-20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DOUGLAS CORRIGAN, WHO IN 1938, FLEW FROM NYC TO IRELAND INSTEAD OF TO CALIFORNIA AS PLAN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P!  (IN  THE  NAME  OF  LO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33320" y="762120"/>
            <a:ext cx="7677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TITLE OF A #1 SONG BY THE SUPREMES BEFORE  AN EXCLAMATION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NUAL  PERCENTAGE)  Y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00160" y="762120"/>
            <a:ext cx="694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Y" STAND FOR IN "A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  ON  TRAFFIC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IN THE ROLLS ROYCE LOGO BETWEEN THE WORDS "ROLLS" AND "ROY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YLIE MINOGUE #1 SONG, WHICH ASKS A MAN TO DANCE WITH HER, IS HER FAVORITE SONG FROM HE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6 DRAMA FILM NAMED AFTER A PLACE STARRED MARILYN MONROE, DON MURRAY, AND ARTHUR O'CONN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-PAUL SARTRE PLAY FEATURES THREE DECEASED PEOPLE LOCKED IN A ROOM FOR ETERN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ACCUSED JUDGE CLARENCE THOMAS OF SEXUAL HARASS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562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SHERYL CROW ALBUM HAD 4 TOP-20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0720" y="762120"/>
            <a:ext cx="770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TITLE OF A #1 SONG BY THE SUPREMES BEFORE  AN EXCLAMATION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35Z</dcterms:modified>
  <cp:revision>453</cp:revision>
  <dc:subject/>
  <dc:title>Slide 1</dc:title>
</cp:coreProperties>
</file>