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54216-9A45-4026-BA18-CBEC10DCC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1CCCE-91D6-4E97-9E4B-9A2E9A46A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66982-CD59-4350-8D97-90639A0C6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B45D8-567F-4AF9-A32D-4DA9CCFFE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232DB-332B-43A2-855E-3581FB96F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945BD-D382-4927-9177-F428E1343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E5D29-3668-4EF3-AE90-7B201E7FA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CAA02-1EF4-4540-A669-FB4D471DB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5AA16-A16B-49C3-94A1-067AE5FDC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BAD71-FCD7-41EF-8361-500257A87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34320-E52B-4399-B4FD-7F7C922A7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D962B-6BA0-4181-A28C-A164B0CA0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BCE59-6780-4B85-8996-9135EB7BF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5BE3A-CAC6-456C-8F1A-39FDE77C0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D1AF0-CE5C-4613-AC87-ED3E8C3DD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92B4C-F09C-4BBE-AE1F-9330937D3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1E3DE-ED11-4885-8A03-5816CDA08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9B995-B829-4CB3-A7AB-236B4F5D7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A68C6-7A14-46C6-A278-3B6428732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4967E-9768-4F29-B84A-191BD6D3C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5A729-F5DF-4753-9C5E-3B19109CC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C9FDE-0696-4A65-AFE0-3CC1875B5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5C286-709A-41AC-BADC-5AFA4627B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523880" y="15238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211400" y="762120"/>
            <a:ext cx="6721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Y" STAND FOR IN "AP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RONG  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666720" y="762120"/>
            <a:ext cx="7810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ICKNAME OF DOUGLAS CORRIGAN, WHO IN 1938, FLEW FROM NYC TO IRELAND INSTEAD OF TO CALIFORNIA AS PLANN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15238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1285920" y="762120"/>
            <a:ext cx="6572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PPEARS IN THE ROLLS ROYCE LOGO BETWEEN THE WORDS "ROLLS" AND "ROY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103320" y="762120"/>
            <a:ext cx="86868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YLIE MINOGUE #1 SONG, WHICH ASKS A MAN TO DANCE WITH HER, IS HER FAVORITE SONG FROM HER CARE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43080" y="489744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S  ST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752400" y="765000"/>
            <a:ext cx="763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6 DRAMA FILM NAMED AFTER A PLACE STARRED MARILYN MONROE, DON MURRAY, AND ARTHUR O'CONNE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1143000" y="4876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  EX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662040" y="762120"/>
            <a:ext cx="7796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OHN-PAUL SARTRE PLAY FEATURES THREE DECEASED PEOPLE LOCKED IN A ROOM FOR ETERN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ANITA)  H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662040" y="762120"/>
            <a:ext cx="78199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WOMAN WHO ACCUSED JUDGE CLARENCE THOMAS OF SEXUAL HARASS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333440" y="4876920"/>
            <a:ext cx="6477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TO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152280" y="838080"/>
            <a:ext cx="459576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8 SHERYL CROW ALBUM HAD 4 TOP-20 SON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5257800" y="45720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ICKNAME OF DOUGLAS CORRIGAN, WHO IN 1938, FLEW FROM NYC TO IRELAND INSTEAD OF TO CALIFORNIA AS PLANN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OP!  (IN  THE  NAME  OF  LOV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733320" y="762120"/>
            <a:ext cx="76773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WORD IN THE TITLE OF A #1 SONG BY THE SUPREMES BEFORE  AN EXCLAMATION POI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ANNUAL  PERCENTAGE)  Y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100160" y="762120"/>
            <a:ext cx="69436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Y" STAND FOR IN "AP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752400" y="4876920"/>
            <a:ext cx="7639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PPEAR  ON  TRAFFIC  SIG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66800" y="761760"/>
            <a:ext cx="7610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PPEARS IN THE ROLLS ROYCE LOGO BETWEEN THE WORDS "ROLLS" AND "ROYC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52280" y="762120"/>
            <a:ext cx="8686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YLIE MINOGUE #1 SONG, WHICH ASKS A MAN TO DANCE WITH HER, IS HER FAVORITE SONG FROM HER CARE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19200" y="762120"/>
            <a:ext cx="7905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6 DRAMA FILM NAMED AFTER A PLACE STARRED MARILYN MONROE, DON MURRAY, AND ARTHUR O'CONNE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95160" y="762120"/>
            <a:ext cx="7753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OHN-PAUL SARTRE PLAY FEATURES THREE DECEASED PEOPLE LOCKED IN A ROOM FOR ETERN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28560" y="761760"/>
            <a:ext cx="7886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WOMAN WHO ACCUSED JUDGE CLARENCE THOMAS OF SEXUAL HARASS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28600" y="837720"/>
            <a:ext cx="45626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8 SHERYL CROW ALBUM HAD 4 TOP-20 SONG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5257800" y="45720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20720" y="762120"/>
            <a:ext cx="7702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WORD IN THE TITLE OF A #1 SONG BY THE SUPREMES BEFORE  AN EXCLAMATION POI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0-12-16T14:10:35Z</dcterms:modified>
  <cp:revision>453</cp:revision>
  <dc:subject/>
  <dc:title>Slide 1</dc:title>
</cp:coreProperties>
</file>