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24B9-4F26-4019-B79A-8EA11D7A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48A-C8BE-47EE-805C-F85B45394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981-D5DB-4EC9-BE86-45EDBDF1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15F7-5D7E-4F65-A1E3-F53FEA942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8CC3-5FE7-447C-AB5B-3BB701DC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4E80-D8A7-4CCC-9EE1-89F086285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157C-E71E-4066-A75B-52F88831A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367C-3458-45B6-99B7-A3A3BF0B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E5AA-4E13-4591-9FB2-90DFF48A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D6C6-6965-4301-B0E7-379087B43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7A5-4573-411E-B2C2-33FD63D8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482-79D5-4ED7-BFDA-A686EB17F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278-7F47-4EDF-A276-D9DA960FA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12F0-9E22-41F6-9DE9-84712B16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E979-CE0B-462E-9409-F4FF0014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361D-AD94-4E2A-ACBE-00071317E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D833-3169-4EE5-8842-CD901BF3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7E89-7442-4319-9FEC-04E23A9D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4916-BD91-4AD6-8642-B0AA61872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DC05-07E5-4647-ACF6-23F017AE8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13DB-7E0F-4CE0-A2C2-F84EB1BAB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AB2A-6488-4EA9-95E5-DFCA9251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45ED-1C14-404B-A566-BD2CD62E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62000" y="762120"/>
            <a:ext cx="882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AS  OPUS IN BERKELEY BREATHED'S COMIC STRIPS "OUTLAND"     AND "BLOOM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70344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LASTIC  (APTITUDE  TE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S" IN "SAT" STAND FOR UNTIL THE EARLY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MI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9160" y="762120"/>
            <a:ext cx="7643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MISSING FROM A 70'S DETECTIVE SHOW STARRING THIS HUDSON AND SUSAN SAINT JAMES : "____ AN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57400" y="762120"/>
            <a:ext cx="6829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ARGEST AIRPORT IN TORO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ERRY)  SPR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8264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MOST POPULAR TABLOID TALK SHOW IN THE LATE 90'S, KNOWN FOR VIOLENCE ON ITS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R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5080" y="762120"/>
            <a:ext cx="741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DE OF SILVER IS AT LEAST 92.5% SIL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ON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"FOUND FOOTAGE" FILM DO MICHAEL B. JORDAN AND DANE DEHAAN GET SUPER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0060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474920" y="762120"/>
            <a:ext cx="619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S" IN "SAT" STAND FOR UNTIL THE EARLY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URITY BRAND RELEASED ITS FIRST "ANTIVIRUS" SOFTWARE    IN 1991 AFTER BEING ACQUIRED BY SYMANT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31760" y="762120"/>
            <a:ext cx="888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AS   OPUS IN BERKELEY BREATHED'S COMIC STRIPS "OUTLAND"      AND "BLOOM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OOK  PUBLIS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MISSING FROM A 70'S DETECTIVE SHOW STARRING THIS HUDSON AND SUSAN SAINT JAMES : "____ AN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ARGEST AIRPORT IN TORO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MOST POPULAR TABLOID TALK SHOW IN THE LATE 90'S, KNOWN FOR VIOLENCE ON ITS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DE OF SILVER IS AT LEAST 92.5% SIL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"FOUND FOOTAGE" FILM DO MICHAEL B. JORDAN AND DANE DEHAAN GET SUPER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52600" y="762120"/>
            <a:ext cx="623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9800" y="762120"/>
            <a:ext cx="74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URITY BRAND RELEASED ITS FIRST "ANTIVIRUS" SOFTWARE    IN 1991 AFTER BEING ACQUIRED BY SYMANTE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46Z</dcterms:modified>
  <cp:revision>451</cp:revision>
  <dc:subject/>
  <dc:title>Slide 1</dc:title>
</cp:coreProperties>
</file>