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790F-EBF8-4BBF-B792-807D5E625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7F03-D766-45A8-8594-6949734E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4BB8-6B5C-4D18-AC35-16543AB98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4B28-8D77-4B36-9577-4CA38F088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CAC9-D795-42B7-9D22-F62783CD5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AAF-2288-4358-8E5D-CE4A66285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BBB-73F6-4C9A-A9DB-8DD4C1278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57D-855B-4548-86F1-D72F0BA47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F639-48FE-4410-8C61-2D14F51C4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0A84-E2EB-4E06-9D45-6C78A0558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D6C4-3FC9-46C8-B7A2-3F5208F0C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E9CD-8A88-4B5F-8A4D-A94B10C3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8A2D-2A9D-4365-8820-6A08329BE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DC6C-CE78-48C6-B8C5-847072144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61F2-2E7D-46AC-9ECC-A6701671F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D053-0D78-4C7A-AC80-841E0E7A7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202-12D0-4028-B873-F98A6801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E7F7-5D6F-4256-B7BB-F4E61A26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788D-93E7-4396-AA1F-A73A26A04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0F7E-BDE7-4131-A627-4E05341F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E6A-F773-4523-945B-78CAF883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9555-8242-4ADE-BD67-27C9A6E8C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8015-D55E-4737-8051-679A0E70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OPUS IN BERKELEY BREATHED'S COMIC STRIPS "OUTLAND"     AND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703440" y="4876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LASTIC  (APTITUDE  TE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MI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9160" y="762120"/>
            <a:ext cx="7643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57400" y="762120"/>
            <a:ext cx="6829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ERRY)  SPR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8264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R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5080" y="762120"/>
            <a:ext cx="7413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ONI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00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474920" y="762120"/>
            <a:ext cx="619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8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"S" IN "SAT" STAND FOR UNTIL THE EARLY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31760" y="762120"/>
            <a:ext cx="88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AS   OPUS IN BERKELEY BREATHED'S COMIC STRIPS "OUTLAND"      AND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OOK  PUBLIS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MISSING FROM A 70'S DETECTIVE SHOW STARRING THIS HUDSON AND SUSAN SAINT JAMES : "____ AN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LARGEST AIRPORT IN TORO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HOST OF THE MOST POPULAR TABLOID TALK SHOW IN THE LATE 90'S, KNOWN FOR VIOLENCE ON IT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ADE OF SILVER IS AT LEAST 92.5%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2 "FOUND FOOTAGE" FILM DO MICHAEL B. JORDAN AND DANE DEHAAN GET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52600" y="762120"/>
            <a:ext cx="623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URITY BRAND RELEASED ITS FIRST "ANTIVIRUS" SOFTWARE    IN 1991 AFTER BEING ACQUIRED BY SYMANTE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46Z</dcterms:modified>
  <cp:revision>451</cp:revision>
  <dc:subject/>
  <dc:title>Slide 1</dc:title>
</cp:coreProperties>
</file>