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A4AB-FDC4-4773-8405-FD883D507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8931-A083-4900-86FE-557B56429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A559-AE2B-41DB-B4ED-589578446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F9F0-3481-4FB0-AAC2-3F529DFD7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0383-1665-4A64-862B-FDCCCAC6A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2206-99DF-4D0C-9E4B-ACC4DB366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F971-42C1-4E2E-960F-17A637C2B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3877-167A-45BD-B7AC-7C272D6D1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E1D5-0FAF-495B-84F0-5436A179F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16C5-629C-466F-957C-FCEB615EF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E4A9-AD76-4B47-A731-4EB700A78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1CD1-810B-4B99-8537-474B55B74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5F1B-8F69-493B-BE2D-6E5D7E309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21CA-1A04-4A8C-ACED-404AD61FE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84D3-DF37-46A1-A07A-A6F6CBDBB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DC74-8E7C-44E5-A53D-1CA62672B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F270-1E0E-4BFF-8BC6-CF05C0433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EED5-61A6-4514-88B2-186ED5713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DA61-8083-41A7-9C10-F6B142505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33A8-EEE9-4C06-873F-F8D27F613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70FE-14DD-4001-BC32-5318E7415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F293-19B7-4971-92F1-64ECA9832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D145-B3BE-46E9-8FEB-886DD264A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62000" y="762120"/>
            <a:ext cx="8820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NIMAL WAS  OPUS IN BERKELEY BREATHED'S COMIC STRIPS "OUTLAND"     AND "BLOOM COUN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703440" y="4876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HOLASTIC  (APTITUDE  TES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"S" IN "SAT" STAND FOR UNTIL THE EARLY 9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CMIL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49160" y="762120"/>
            <a:ext cx="7643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MISSING FROM A 70'S DETECTIVE SHOW STARRING THIS HUDSON AND SUSAN SAINT JAMES : "____ AND W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57400" y="762120"/>
            <a:ext cx="6829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LARGEST AIRPORT IN TORON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ERRY)  SPR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3080" y="78264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HOST OF THE MOST POPULAR TABLOID TALK SHOW IN THE LATE 90'S, KNOWN FOR VIOLENCE ON ITS S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R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65080" y="762120"/>
            <a:ext cx="7413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ADE OF SILVER IS AT LEAST 92.5% SIL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ONI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2 "FOUND FOOTAGE" FILM DO MICHAEL B. JORDAN AND DANE DEHAAN GET SUPERPO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0060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474920" y="762120"/>
            <a:ext cx="619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DELAW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2960" y="762120"/>
            <a:ext cx="7318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"S" IN "SAT" STAND FOR UNTIL THE EARLY 9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CURITY BRAND RELEASED ITS FIRST "ANTIVIRUS" SOFTWARE    IN 1991 AFTER BEING ACQUIRED BY SYMANTE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G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31760" y="762120"/>
            <a:ext cx="888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NIMAL WAS   OPUS IN BERKELEY BREATHED'S COMIC STRIPS "OUTLAND"      AND "BLOOM COUN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52400" y="4876920"/>
            <a:ext cx="763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OOK  PUBLIS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1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MISSING FROM A 70'S DETECTIVE SHOW STARRING THIS HUDSON AND SUSAN SAINT JAMES : "____ AND W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LARGEST AIRPORT IN TORON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HOST OF THE MOST POPULAR TABLOID TALK SHOW IN THE LATE 90'S, KNOWN FOR VIOLENCE ON ITS S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ADE OF SILVER IS AT LEAST 92.5% SIL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8760" y="761760"/>
            <a:ext cx="8286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2 "FOUND FOOTAGE" FILM DO MICHAEL B. JORDAN AND DANE DEHAAN GET SUPERPOW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52600" y="762120"/>
            <a:ext cx="6238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DELAW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29800" y="762120"/>
            <a:ext cx="74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CURITY BRAND RELEASED ITS FIRST "ANTIVIRUS" SOFTWARE    IN 1991 AFTER BEING ACQUIRED BY SYMANTE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4:10:46Z</dcterms:modified>
  <cp:revision>451</cp:revision>
  <dc:subject/>
  <dc:title>Slide 1</dc:title>
</cp:coreProperties>
</file>