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5F17-E228-4BBD-B2CB-1DACE572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AD19-4DA0-4C04-BDB3-8F2F6B97E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8542-32CA-4B41-B700-3585685C3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F4AD-BD85-45AC-B353-979C8D097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96D7-CB45-4506-89A5-5AEA2C5D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1B33-135D-4C2F-BDAF-8E480DF9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E90E-4F84-44FB-B025-55E7E72B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4BDD-C250-429B-911A-EA6AE21DB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8DE2-A326-409F-8FBB-69B576BC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818B-7D8E-4FF5-8D2D-31E6FF391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38C0-F171-4C54-B3BA-A047D8713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D2E6-1BE0-4E3F-889F-7CB626DD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18BE-7FFF-4AC5-8492-234232069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34F1-5D5B-43F9-8C6F-22CE16226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5B94-C493-40FB-B231-3420FAD2A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720A7-A75F-457D-93A9-565CE0774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BA7D-7898-4234-89D6-01B0D190D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3428-BB30-4EC8-BD1E-897DAD708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B29C-C0AA-4D83-94EF-4344487E0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DC46-7530-47D8-BC25-F242A189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B810-F481-4666-842E-178D0F2A0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42A3-4DD0-4DD3-9DAE-7CACAC70D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4260-81EE-47B4-A45C-9CCA517AE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9960" y="761760"/>
            <a:ext cx="72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AS IN "SPLASH", "STRIPES", AND "SPACEBA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04640" y="762120"/>
            <a:ext cx="833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IGHEST-GROSSING FILM OF 1990 DOES WHOOPI GOLDBERG PLAY A RELUCTANT PSYCH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GOB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6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RALPH WALDO EMERSON QUOTE: "A FOOLISH CONSISTENCY IS THE ____   OF LITTLE MI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5840" y="74628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STARRING KURT RUSSELL AND VAL KILMER WAS ABOUT THE GUNFIGHT AT THE O.K. COR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E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NVOLVES ONE PERSON RIDING A SLED FACE DOWN, HEAD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  FOR  RED  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2920" y="762120"/>
            <a:ext cx="885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SUBMARINE FILM STARRED SEAN CONNERY, JAMES EARL JONES, AND ALEC BALDWIN AS JACK RY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AP  T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7160" y="762120"/>
            <a:ext cx="7429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ONLY #1 SONG WAS THE POWER BALLAD "FL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47560" y="762120"/>
            <a:ext cx="804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DID JIM CARREY PLAY A BANK TELLER MAGICALLY TRANSFORMED INTO A TROUBLEM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84280" y="762120"/>
            <a:ext cx="797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IGHEST-GROSSING FILM OF 1990 DOES WHOOPI GOLDBERG PLAY A RELUCTANT PSYCH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ING  PUM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85840" y="75564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"MELLON COLLIE AND THE INFINITE SADNESS", THE BEST-SELLING DOUBLE ALBUM OF THE 19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5640" y="762120"/>
            <a:ext cx="7091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AS IN "SPLASH", "STRIPES", AND "SPACEBA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5120" y="43434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LEMENTS  OF  HALLO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RALPH WALDO EMERSON QUOTE: "A FOOLISH CONSISTENCY IS THE ____   OF LITTLE MI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5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STARRING KURT RUSSELL AND VAL KILMER WAS ABOUT THE GUNFIGHT AT THE O.K. COR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TER SPORT INVOLVES ONE PERSON RIDING A SLED FACE DOWN, HEAD FIR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3200" y="723960"/>
            <a:ext cx="8877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SUBMARINE FILM STARRED SEAN CONNERY, JAMES EARL JONES, AND ALEC BALDWIN AS JACK RY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ONLY #1 SONG WAS THE POWER BALLAD "FLAM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DID JIM CARREY PLAY A BANK TELLER MAGICALLY TRANSFORMED INTO A TROUBLEM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"MELLON COLLIE AND THE INFINITE SADNESS", THE BEST-SELLING DOUBLE ALBUM OF THE 19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10-24T19:02:58Z</dcterms:modified>
  <cp:revision>347</cp:revision>
  <dc:subject/>
  <dc:title>Slide 1</dc:title>
</cp:coreProperties>
</file>