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CCE0-7CBD-405E-ACB7-A3290CD7D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B6F8-1394-49B0-B048-BD86CA00B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84B9-EAAD-43D3-980A-1E367302C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1ECC-12F9-418D-80AA-CAABB7AB2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EC98-60F5-4DC8-91C8-B74721CAB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F196-AACE-4BF9-B002-ED5AA6F4C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259A-B906-4D7A-A9CE-71C85B3D6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BC3E-4EAA-42BD-B7BD-D9A42740F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ED67-E6A3-404B-90B7-F5B3CD61F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F668-1CC0-49A7-AF6E-FC6F42D81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0A24-3C75-463C-A53E-25298FC8D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13E7-1B81-4533-90CA-98065BD28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00DC-981E-47C9-8540-AC391C64D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5C1E-472F-4E76-A2CA-4AD78A9C0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A3F3-05BA-4443-BC76-3E24841DF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3821-51F4-4DBF-BE2C-E6F303A13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CB8F-5E0E-44D3-B8FD-5287EB81C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9655-0B8C-440B-932E-E34A0A332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54BA-1DE9-4153-8460-33D2E187B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855F-0C70-45EA-B422-12C958263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80E2-D9DC-445B-BD31-1BDC76D0E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C768-5AD9-43E2-A431-2D6725F5C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22DB-D00F-4428-96B4-25CCF7672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39960" y="761760"/>
            <a:ext cx="7262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ACTOR WAS IN "SPLASH", "STRIPES", AND "SPACEBALL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H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04640" y="762120"/>
            <a:ext cx="8334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HIGHEST-GROSSING FILM OF 1990 DOES WHOOPI GOLDBERG PLAY A RELUCTANT PSYCHI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BGOB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57200" y="76680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NISH THIS RALPH WALDO EMERSON QUOTE: "A FOOLISH CONSISTENCY IS THE ____   OF LITTLE MIN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B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85840" y="746280"/>
            <a:ext cx="857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3 FILM STARRING KURT RUSSELL AND VAL KILMER WAS ABOUT THE GUNFIGHT AT THE O.K. CORR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KELE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NTER SPORT INVOLVES ONE PERSON RIDING A SLED FACE DOWN, HEAD FIR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HUNT  FOR  RED  OCTO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42920" y="762120"/>
            <a:ext cx="8858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0 SUBMARINE FILM STARRED SEAN CONNERY, JAMES EARL JONES, AND ALEC BALDWIN AS JACK RY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AP  TR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57160" y="762120"/>
            <a:ext cx="7429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'S ONLY #1 SONG WAS THE POWER BALLAD "FLA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47560" y="762120"/>
            <a:ext cx="804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4 FILM DID JIM CARREY PLAY A BANK TELLER MAGICALLY TRANSFORMED INTO A TROUBLEMAK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84280" y="762120"/>
            <a:ext cx="7975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HIGHEST-GROSSING FILM OF 1990 DOES WHOOPI GOLDBERG PLAY A RELUCTANT PSYCHI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MASHING  PUMPK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85840" y="755640"/>
            <a:ext cx="8572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PUT OUT "MELLON COLLIE AND THE INFINITE SADNESS", THE BEST-SELLING DOUBLE ALBUM OF THE 199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CAN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25640" y="762120"/>
            <a:ext cx="7091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ACTOR WAS IN "SPLASH", "STRIPES", AND "SPACEBALL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905120" y="4343400"/>
            <a:ext cx="5333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ELEMENTS  OF  HALLOW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38120" y="761760"/>
            <a:ext cx="8267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NISH THIS RALPH WALDO EMERSON QUOTE: "A FOOLISH CONSISTENCY IS THE ____   OF LITTLE MIN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99960" y="762120"/>
            <a:ext cx="8515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3 FILM STARRING KURT RUSSELL AND VAL KILMER WAS ABOUT THE GUNFIGHT AT THE O.K. CORR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NTER SPORT INVOLVES ONE PERSON RIDING A SLED FACE DOWN, HEAD FIR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33200" y="723960"/>
            <a:ext cx="8877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0 SUBMARINE FILM STARRED SEAN CONNERY, JAMES EARL JONES, AND ALEC BALDWIN AS JACK RY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09800" y="761760"/>
            <a:ext cx="7124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'S ONLY #1 SONG WAS THE POWER BALLAD "FLAME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6560" y="761760"/>
            <a:ext cx="8210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4 FILM DID JIM CARREY PLAY A BANK TELLER MAGICALLY TRANSFORMED INTO A TROUBLEMAK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47680" y="762120"/>
            <a:ext cx="86486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PUT OUT "MELLON COLLIE AND THE INFINITE SADNESS", THE BEST-SELLING DOUBLE ALBUM OF THE 199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3T21:16:21Z</dcterms:created>
  <dc:creator>Jennifer Budzinski</dc:creator>
  <dc:description/>
  <dc:language>en-US</dc:language>
  <cp:lastModifiedBy>Erich Friedman</cp:lastModifiedBy>
  <dcterms:modified xsi:type="dcterms:W3CDTF">2020-10-24T19:02:58Z</dcterms:modified>
  <cp:revision>347</cp:revision>
  <dc:subject/>
  <dc:title>Slide 1</dc:title>
</cp:coreProperties>
</file>