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CAD0-9DEA-40BF-9748-26356A6D8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6A02-0F5B-4478-99E0-C773C5654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1F93-4BC2-40ED-A64C-C3D052D9E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555F-86D7-4B0F-B49E-086339E4B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791C-4668-49C8-A32F-31C43D3AD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3EFC-A67D-449C-ADB2-CD538EF68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2612-C3E1-4149-898A-A939D90AA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0B59-BADC-4CE2-9177-60C9C0657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4436-178A-4E22-B9F7-4797A7B5E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4B7C-D6AA-46FD-A305-9B52F0E4A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2A7F-02DC-45A9-A2DE-BD6ED08A5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33A6-FCBC-4448-92FA-43F4E0B61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4694-6DE0-4D33-9DD8-CAFE762F0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6FF6-C26E-4A19-B112-377EB00B7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8B52-6AC0-44B2-9A6E-CB1574E84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0863-BF16-43F0-A612-D4C44BCF1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2FB7-E128-4B7B-9BEA-2D84F556D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865D-578D-4309-A668-86582421C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81C0-1348-408D-9B37-A3D2DC160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444E-74CC-496E-98A6-B05EBCDED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8898-6038-458D-A2E4-D9134B262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6F28-8F44-4BD5-9333-77FC9320C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701C-6D22-4F73-B00C-2A37CD3CA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39960" y="761760"/>
            <a:ext cx="7262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WAS IN "SPLASH", "STRIPES", AND "SPACEBAL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H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04640" y="762120"/>
            <a:ext cx="8334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HIGHEST-GROSSING FILM OF 1990 DOES WHOOPI GOLDBERG PLAY A RELUCTANT PSYCH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BGOB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680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RALPH WALDO EMERSON QUOTE: "A FOOLISH CONSISTENCY IS THE ____   OF LITTLE MI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B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5840" y="746280"/>
            <a:ext cx="85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FILM STARRING KURT RUSSELL AND VAL KILMER WAS ABOUT THE GUNFIGHT AT THE O.K. COR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TER SPORT INVOLVES ONE PERSON RIDING A SLED FACE DOWN, HEAD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UNT  FOR  RED  OCTO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42920" y="762120"/>
            <a:ext cx="885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SUBMARINE FILM STARRED SEAN CONNERY, JAMES EARL JONES, AND ALEC BALDWIN AS JACK RY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AP  T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57160" y="762120"/>
            <a:ext cx="7429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'S ONLY #1 SONG WAS THE POWER BALLAD "FL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47560" y="762120"/>
            <a:ext cx="804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4 FILM DID JIM CARREY PLAY A BANK TELLER MAGICALLY TRANSFORMED INTO A TROUBLEMA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84280" y="762120"/>
            <a:ext cx="797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HIGHEST-GROSSING FILM OF 1990 DOES WHOOPI GOLDBERG PLAY A RELUCTANT PSYCH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ASHING  PUMP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85840" y="755640"/>
            <a:ext cx="8572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PUT OUT "MELLON COLLIE AND THE INFINITE SADNESS", THE BEST-SELLING DOUBLE ALBUM OF THE 199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25640" y="762120"/>
            <a:ext cx="7091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WAS IN "SPLASH", "STRIPES", AND "SPACEBAL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5120" y="4343400"/>
            <a:ext cx="5333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ELEMENTS  OF  HALLOW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RALPH WALDO EMERSON QUOTE: "A FOOLISH CONSISTENCY IS THE ____   OF LITTLE MI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99960" y="762120"/>
            <a:ext cx="8515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FILM STARRING KURT RUSSELL AND VAL KILMER WAS ABOUT THE GUNFIGHT AT THE O.K. COR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TER SPORT INVOLVES ONE PERSON RIDING A SLED FACE DOWN, HEAD FIR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33200" y="723960"/>
            <a:ext cx="8877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SUBMARINE FILM STARRED SEAN CONNERY, JAMES EARL JONES, AND ALEC BALDWIN AS JACK RY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'S ONLY #1 SONG WAS THE POWER BALLAD "FLAME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6560" y="761760"/>
            <a:ext cx="8210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4 FILM DID JIM CARREY PLAY A BANK TELLER MAGICALLY TRANSFORMED INTO A TROUBLEMA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47680" y="762120"/>
            <a:ext cx="8648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PUT OUT "MELLON COLLIE AND THE INFINITE SADNESS", THE BEST-SELLING DOUBLE ALBUM OF THE 199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21:16:21Z</dcterms:created>
  <dc:creator>Jennifer Budzinski</dc:creator>
  <dc:description/>
  <dc:language>en-US</dc:language>
  <cp:lastModifiedBy>Erich Friedman</cp:lastModifiedBy>
  <dcterms:modified xsi:type="dcterms:W3CDTF">2020-10-24T19:02:58Z</dcterms:modified>
  <cp:revision>347</cp:revision>
  <dc:subject/>
  <dc:title>Slide 1</dc:title>
</cp:coreProperties>
</file>