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7087-D640-4382-9EC2-725406C3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7C25-3352-4D78-B946-51AE79E0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3F00-72F7-4457-B49D-76C9E1D7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8818-657D-4D2E-B61D-DFDA88A2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8748-985F-4B3A-9DCE-1659DC15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C81F-E24B-4234-8343-17D7C61EF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A8AB-9201-4191-AD6F-5B993B21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655-7D85-4BF3-A150-E68C2E9F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963-20FC-4319-A035-C1E89D665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460-7056-411B-9FA3-AE1EF80C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E8EC-5FB6-4782-B929-C8BC916A8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6684-96C2-4D39-9C2B-EFE1E5369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0F7B-4192-427D-9737-EF5786D91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C44D-FFF0-4A18-951B-EF2F2643E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A516-23AE-41BF-81B9-1E23EF5D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5B24-5188-494B-BCB4-2B6025C76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1D0-D7AE-424B-BA0C-0337490D7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48F1-EB78-4845-AC16-4F1DD2553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9B10-7975-4462-913A-53BE55396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4C5C-0783-4968-AA07-8B04BAE8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92F0-D098-458C-801B-4226D3AD6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3209-7E43-45DF-B03E-4E07FD7A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A1D8-47ED-434E-920E-0F216749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GION OF THE NORTH ATLANTIC CALLED WHERE SEVERAL AIRCRAFT AND SHIPS HAVE MYSTERIOUSLY DISAPPEA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4308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SM  SPLITTING 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COVER OF PINK FLOYD'S ALBUM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  CREAM  C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320" y="757080"/>
            <a:ext cx="89913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ESSERT FIRST APPEARED AT THE 1904 ST. LOUIS WORLD'S FAIR, AND IS NOW THE STATE FOOD OF MISSOUR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AL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U.S. PRESIDENT'S DESK LOCATED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  OF  G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THE 7 WONDERS OF THE ANCIENT WORLD THAT SURVIVES TO THIS D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L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685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CAR ENGINE, WHAT IS THE SPACE CALLED WHERE A PISTON TRA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IK'S  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DIMENSIONAL COLORED PUZZLE TOOK THE WORLD BY STORM IN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BASED ON A MICHAEL CRICHTON NOVEL STARRED DUSTIN HOFFMAN, SHARON STONE, AND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COVER OF PINK FLOYD'S ALBUM "DARK SIDE OF THE MO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ANANMEN  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0320"/>
            <a:ext cx="7086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N CHINA DID THE 1989 DEMOCRACY MOVEMENT PROTESTS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MUDA 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GION OF THE NORTH ATLANTIC CALLED WHERE SEVERAL AIRCRAFT AND SHIPS HAVE MYSTERIOUSLY DISAPPEA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GEOMETRICAL 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ESSERT FIRST APPEARED AT THE 1904 ST. LOUIS WORLD'S FAIR, AND IS NOW THE STATE FOOD OF MISSOUR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U.S. PRESIDENT'S DESK LOCATED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THE 7 WONDERS OF THE ANCIENT WORLD THAT SURVIVES TO THIS D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CAR ENGINE, WHAT IS THE SPACE CALLED WHERE A PISTON TRA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DIMENSIONAL COLORED PUZZLE TOOK THE WORLD BY STORM IN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BASED ON A MICHAEL CRICHTON NOVEL STARRED DUSTIN HOFFMAN, SHARON STONE, AND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N CHINA DID THE 1989 DEMOCRACY MOVEMENT PROTESTS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4:55:58Z</dcterms:created>
  <dc:creator>Jennifer Budzinski</dc:creator>
  <dc:description/>
  <dc:language>en-US</dc:language>
  <cp:lastModifiedBy>Erich Friedman</cp:lastModifiedBy>
  <dcterms:modified xsi:type="dcterms:W3CDTF">2020-08-24T18:09:00Z</dcterms:modified>
  <cp:revision>337</cp:revision>
  <dc:subject/>
  <dc:title>Slide 1</dc:title>
</cp:coreProperties>
</file>