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35FC-759E-4938-9975-F89EF9297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4371-E338-4F14-B9FF-A769EA90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4FA2-F525-494B-A5F3-443FC0BA8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D6AB-D77A-4C1E-9181-71E5FF3A6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F0E7-79BF-43CD-A558-0BC055E3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03A7-9013-4798-86C5-5D42C98F1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E863-A8D0-414F-941B-8FD18C59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38B9-EDC3-4816-8F0F-0405EE3A9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9920-1707-44F9-883F-BC9940D38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A933-8A41-411A-A0E5-77E722CF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9AB5-4D57-403D-AA4D-0C47818A3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F0C4-4BBF-4F6F-AB3B-16CD72C85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5D80-F8CB-42DB-80AB-D7DFBB579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25E4-A84F-434C-88D5-8148D20A1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D763-A214-409A-B934-A144491E6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7B894-5FD7-4441-90E6-3FB01878B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827-95B5-4DB9-83B8-0AABFDD36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489FF-49F8-45AD-BFFA-5B8FD626A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B9AD-542F-4540-B1CC-643829D07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0E62-CEEF-4476-BE27-427303E2B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2249-08CA-4005-AE33-B071B0210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885E-B98A-4992-84A4-AEE77C6B2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A1A1-C78D-43D6-9E31-68C2A56F6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GION OF THE NORTH ATLANTIC CALLED WHERE SEVERAL AIRCRAFT AND SHIPS HAVE MYSTERIOUSLY DISAPPEA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34308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SM  SPLITTING  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COVER OF PINK FLOYD'S ALBUM "DARK SIDE OF THE MO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CE  CREAM  C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320" y="757080"/>
            <a:ext cx="89913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ESSERT FIRST APPEARED AT THE 1904 ST. LOUIS WORLD'S FAIR, AND IS NOW THE STATE FOOD OF MISSOUR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VAL  OFF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U.S. PRESIDENT'S DESK LOCATED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YRAMIDS  OF  GI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THE 7 WONDERS OF THE ANCIENT WORLD THAT SURVIVES TO THIS DA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LI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685800"/>
            <a:ext cx="7543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CAR ENGINE, WHAT IS THE SPACE CALLED WHERE A PISTON TRAV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IK'S  C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DIMENSIONAL COLORED PUZZLE TOOK THE WORLD BY STORM IN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BASED ON A MICHAEL CRICHTON NOVEL STARRED DUSTIN HOFFMAN, SHARON STONE, AND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COVER OF PINK FLOYD'S ALBUM "DARK SIDE OF THE MO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ANANMEN  SQU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0320"/>
            <a:ext cx="7086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N CHINA DID THE 1989 DEMOCRACY MOVEMENT PROTESTS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MUDA  TRIAN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GION OF THE NORTH ATLANTIC CALLED WHERE SEVERAL AIRCRAFT AND SHIPS HAVE MYSTERIOUSLY DISAPPEA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GEOMETRICAL  SHA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DESSERT FIRST APPEARED AT THE 1904 ST. LOUIS WORLD'S FAIR, AND IS NOW THE STATE FOOD OF MISSOUR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S THE U.S. PRESIDENT'S DESK LOCATED IN THE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THE 7 WONDERS OF THE ANCIENT WORLD THAT SURVIVES TO THIS DA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2396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CAR ENGINE, WHAT IS THE SPACE CALLED WHERE A PISTON TRAV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-DIMENSIONAL COLORED PUZZLE TOOK THE WORLD BY STORM IN 197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FILM BASED ON A MICHAEL CRICHTON NOVEL STARRED DUSTIN HOFFMAN, SHARON STONE, AND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RE IN CHINA DID THE 1989 DEMOCRACY MOVEMENT PROTESTS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4:55:58Z</dcterms:created>
  <dc:creator>Jennifer Budzinski</dc:creator>
  <dc:description/>
  <dc:language>en-US</dc:language>
  <cp:lastModifiedBy>Erich Friedman</cp:lastModifiedBy>
  <dcterms:modified xsi:type="dcterms:W3CDTF">2020-08-24T18:09:00Z</dcterms:modified>
  <cp:revision>337</cp:revision>
  <dc:subject/>
  <dc:title>Slide 1</dc:title>
</cp:coreProperties>
</file>