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16CF-C09D-480A-A26A-1852F2C0C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1500-08D9-4BC5-92CE-16CBEF77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9F7-78EF-4186-832C-FFB79C99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E4D-497B-405A-AF3A-24BF3DA6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09FC-A055-49B3-ACFA-FF4EB3B48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BCD-5C00-4244-AB81-0EF3425F7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ACAF-C7D5-4EC7-8291-B93A9D3E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4EE6-C4F8-4D57-8361-B56D77F4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BF47-22D0-41D4-AB17-78586351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FB3-37A2-4FFE-A8C2-FA82B094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D8EF-88ED-448A-8C5F-7415E1A0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7CB-C74D-4498-80E4-011B5D18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981-9509-4E37-8390-257A2EF5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9B2E-ECB1-4CC3-AF08-940D0536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034-CC18-462C-969F-C6583B81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A0D3-D015-42CA-A5EA-1382CB06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E0F-9A71-462F-8F8D-37DF9DDB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924D-66D1-400C-95E8-40B7393D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9421-B575-41E1-B8B6-D46A274F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14C5-838C-42ED-9AB7-FBC599E0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F947-3DEF-47E2-8540-EBDD3336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1DC0-214D-4021-870B-64BB59C6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9AB2-FA59-45E8-B972-0B70DF11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GION OF THE NORTH ATLANTIC CALLED WHERE SEVERAL AIRCRAFT AND SHIPS HAVE MYSTERIOUSLY DISAPPEA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4308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SM  SPLITTING 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COVER OF PINK FLOYD'S ALBUM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CREAM  C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320" y="757080"/>
            <a:ext cx="89913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ESSERT FIRST APPEARED AT THE 1904 ST. LOUIS WORLD'S FAIR, AND IS NOW THE STATE FOOD OF MISSOUR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AL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U.S. PRESIDENT'S DESK LOCATED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THE 7 WONDERS OF THE ANCIENT WORLD THAT SURVIVES TO THIS D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685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CAR ENGINE, WHAT IS THE SPACE CALLED WHERE A PISTON TRA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IK'S  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DIMENSIONAL COLORED PUZZLE TOOK THE WORLD BY STORM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BASED ON A MICHAEL CRICHTON NOVEL STARRED DUSTIN HOFFMAN, SHARON STONE, AND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COVER OF PINK FLOYD'S ALBUM "DARK SIDE OF THE MO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ANANMEN  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0320"/>
            <a:ext cx="7086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N CHINA DID THE 1989 DEMOCRACY MOVEMENT PROTEST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MUDA 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GION OF THE NORTH ATLANTIC CALLED WHERE SEVERAL AIRCRAFT AND SHIPS HAVE MYSTERIOUSLY DISAPP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GEOMETRICAL 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ESSERT FIRST APPEARED AT THE 1904 ST. LOUIS WORLD'S FAIR, AND IS NOW THE STATE FOOD OF MISSOUR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U.S. PRESIDENT'S DESK LOCATED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THE 7 WONDERS OF THE ANCIENT WORLD THAT SURVIVES TO THIS D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CAR ENGINE, WHAT IS THE SPACE CALLED WHERE A PISTON TRA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DIMENSIONAL COLORED PUZZLE TOOK THE WORLD BY STORM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BASED ON A MICHAEL CRICHTON NOVEL STARRED DUSTIN HOFFMAN, SHARON STONE, AND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N CHINA DID THE 1989 DEMOCRACY MOVEMENT PROTESTS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4:55:58Z</dcterms:created>
  <dc:creator>Jennifer Budzinski</dc:creator>
  <dc:description/>
  <dc:language>en-US</dc:language>
  <cp:lastModifiedBy>Erich Friedman</cp:lastModifiedBy>
  <dcterms:modified xsi:type="dcterms:W3CDTF">2020-08-24T18:09:00Z</dcterms:modified>
  <cp:revision>337</cp:revision>
  <dc:subject/>
  <dc:title>Slide 1</dc:title>
</cp:coreProperties>
</file>