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F02-52BF-4F73-A145-6E6E8C65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630-903C-4F1C-8A05-125A1E27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F8A2-4DD7-4314-BCD7-49408691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5FA7-76F0-47D4-A288-17481CE32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5EDE-6309-49D3-AE54-5962F3B4D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5A14-5E35-4081-8E32-6C0A51209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E96D-602E-460A-A44C-8CD78407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56C8-9F55-4DD5-9E0D-4901D44D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C37B-978D-472B-9378-2894653D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942-DB45-46C0-A3BD-31399955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FE73-881A-493E-91C8-77C4357FE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C2D4-76F3-438E-AA5D-3F0DB0D55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7F2-912C-4FE6-9C30-F33A485F7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9C3D-23F1-4A2A-B40D-997A0065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593C-B28E-4B72-B8D0-8FCCF75CB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05BF-1FD5-416B-AF00-935D2B13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E302-38C7-4FA6-BADD-37271851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B5C0-AB99-4F33-98AA-6FC96CC6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7B41-A3EA-421E-8E81-C788C3B4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A23B-04CB-4545-8168-8D472447A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7A9-1280-4BF9-B6FD-B17953C7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5E54-D9FB-42C9-BB85-F44E9CB0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4493-7A04-427E-927A-50D85A7A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MERICAN WATERFALL HAS THE LARGEST FLOW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  VER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WASHINGTON'S VIRGINIA E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49440" y="762120"/>
            <a:ext cx="784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DSTUFFS ARE MEASURED IN AVOIRDUPOIS OUNCES. WHAT SORT OF OUNCES  ARE PRECIOUS METALS MEASUR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FIRST PERMANENT ENGLISH SETTLEMENT IN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LLEGE FOOTBALL RIVALRY IS BETWEEN THE UNIVERSITY OF GEORGIA AND WHAT OTHER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84040" y="762120"/>
            <a:ext cx="857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        THE BACK OF "INDIAN HEAD" NICKELS INTRODUCED IN 19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H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HOME OF THE MYTHICAL GREEK HERO ODYSSE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AC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OUTHEASTERN SICILY WAS DESCRIBED BY CICERO AS "THE GREATEST GREEK CITY AND THE MOST BEAUTIFUL OF THEM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WASHINGTON'S VIRGINIA E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6800"/>
            <a:ext cx="8829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ITY HOSTED THE 1960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AGARA 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MERICAN WATERFALL HAS THE LARGEST FLOW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DSTUFFS ARE MEASURED IN AVOIRDUPOIS OUNCES. WHAT SORT OF OUNCES  ARE PRECIOUS METALS MEASUR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FIRST PERMANENT ENGLISH SETTLEMENT IN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LLEGE FOOTBALL RIVALRY IS BETWEEN THE UNIVERSITY OF GEORGIA AND WHAT OTHER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      THE BACK OF "INDIAN HEAD" NICKELS INTRODUCED IN 19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HOME OF THE MYTHICAL GREEK HERO ODYSSE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OUTHEASTERN SICILY WAS DESCRIBED BY CICERO AS "THE GREATEST GREEK CITY AND THE MOST BEAUTIFUL OF THEM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ITY HOSTED THE 1960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08Z</dcterms:modified>
  <cp:revision>384</cp:revision>
  <dc:subject/>
  <dc:title>Slide 1</dc:title>
</cp:coreProperties>
</file>