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609F-704C-4080-942F-FF9212853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1C39-6C7A-4B73-B586-FFA8B44A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7A83-CBC2-4030-A4EA-DBB8AA43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1D53-AA22-45A2-809B-83781356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1EFD-5C39-476F-AF45-0AD054A8E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61B8-3E58-4FCD-B90A-0276B663C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A304-5B07-4EC1-8B4B-14F24A2F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8E2C-DD83-45AC-8394-7B32B2AC6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79C-531B-43C0-A8FD-43639B983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EE9-17E4-4DDF-8273-0D74170A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C715-32B5-41D1-948A-5E76395D3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5254-19ED-4090-AE6F-AAF1EE542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E2B9-9477-41DB-8F5A-3CCCD63D5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3545-8DF9-450F-8483-E23FBD57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2F7-F406-46BE-8FF2-B2DACA40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3D1-410E-49A3-84D7-61882F41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704C-CA24-4FC2-921A-1C4BACA77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D53F-F7A7-457D-9CA5-56606BDC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400C-8E93-4E97-BA94-52C89526D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D2C-9272-4290-9692-BEEB8417C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47ED-4CBB-4745-819B-82CB8985C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181-6B9D-4D62-B073-8AC7A010C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F7E0-78A1-40C1-ACA1-64511E2F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MERICAN WATERFALL HAS THE LARGEST FLOW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  VER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WASHINGTON'S VIRGINIA E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49440" y="762120"/>
            <a:ext cx="784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DSTUFFS ARE MEASURED IN AVOIRDUPOIS OUNCES. WHAT SORT OF OUNCES  ARE PRECIOUS METALS MEASUR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FIRST PERMANENT ENGLISH SETTLEMENT IN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LLEGE FOOTBALL RIVALRY IS BETWEEN THE UNIVERSITY OF GEORGIA AND WHAT OTHER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84040" y="762120"/>
            <a:ext cx="857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        THE BACK OF "INDIAN HEAD" NICKELS INTRODUCED IN 19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H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HOME OF THE MYTHICAL GREEK HERO ODYSSE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AC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OUTHEASTERN SICILY WAS DESCRIBED BY CICERO AS "THE GREATEST GREEK CITY AND THE MOST BEAUTIFUL OF THEM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WASHINGTON'S VIRGINIA E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6800"/>
            <a:ext cx="8829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ITY HOSTED THE 1960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AGARA 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MERICAN WATERFALL HAS THE LARGEST FLOW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DSTUFFS ARE MEASURED IN AVOIRDUPOIS OUNCES. WHAT SORT OF OUNCES  ARE PRECIOUS METALS MEASUR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FIRST PERMANENT ENGLISH SETTLEMENT IN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LLEGE FOOTBALL RIVALRY IS BETWEEN THE UNIVERSITY OF GEORGIA AND WHAT OTHER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      THE BACK OF "INDIAN HEAD" NICKELS INTRODUCED IN 19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HOME OF THE MYTHICAL GREEK HERO ODYSSE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OUTHEASTERN SICILY WAS DESCRIBED BY CICERO AS "THE GREATEST GREEK CITY AND THE MOST BEAUTIFUL OF THEM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ITY HOSTED THE 1960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08Z</dcterms:modified>
  <cp:revision>384</cp:revision>
  <dc:subject/>
  <dc:title>Slide 1</dc:title>
</cp:coreProperties>
</file>