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66F8-DBD2-4581-94C5-532BC66D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1D89-1F24-4398-87B8-8759E3F86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1F45-3F7E-478A-87F0-5094A108C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02B-ECBE-40F6-8C8F-A705ABE70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1D23-3259-4868-8B7D-A4301981E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9C52-9FDB-4455-82C4-36CBB467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1F0F-53D5-4F4E-90AE-9D6FF49AE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897A-1940-471D-8ADF-412AB10F1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5B86F-875B-4C7D-A672-85756A818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7FDB-C112-4818-A209-E9618587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AFF3-0529-4763-A5E1-7A330223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CDFB-A1B9-4ED2-A3FD-9E7B79D9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8072-88BA-4E03-9033-29773880C4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6E21E-B86D-4120-8DE7-7F525473C2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69EA-426A-4965-BA6E-E601CFFB94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F1E0-C557-4251-AAE7-2B461471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D67A-EA9D-4D0B-A5C7-968562580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AFE-B507-4854-9FE3-80C8C9CC8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003E-4C13-4775-BA70-CA91ADA7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48141-550C-43EA-823F-37528F6F0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51C-F545-48EA-BBA6-76CA1E3F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70B-E116-426F-BD6E-045B63A3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8367-9836-4A76-BB95-C326924F2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76400" y="761760"/>
            <a:ext cx="6991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MERICAN WATERFALL HAS THE LARGEST FLOW R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457200" y="48769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UNT  VERN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WASHINGTON'S VIRGINIA EST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3352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49440" y="762120"/>
            <a:ext cx="784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DSTUFFS ARE MEASURED IN AVOIRDUPOIS OUNCES. WHAT SORT OF OUNCES  ARE PRECIOUS METALS MEASURED 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T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971640" y="765000"/>
            <a:ext cx="7200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FIRST PERMANENT ENGLISH SETTLEMENT IN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752480" y="4876920"/>
            <a:ext cx="5639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U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771480" y="758880"/>
            <a:ext cx="760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LLEGE FOOTBALL RIVALRY IS BETWEEN THE UNIVERSITY OF GEORGIA AND WHAT OTHER UNIVERS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FFA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84040" y="762120"/>
            <a:ext cx="8575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        THE BACK OF "INDIAN HEAD" NICKELS INTRODUCED IN 1913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THA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62120" y="762120"/>
            <a:ext cx="761976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HOME OF THE MYTHICAL GREEK HERO ODYSSE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YRAC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OUTHEASTERN SICILY WAS DESCRIBED BY CICERO AS "THE GREATEST GREEK CITY AND THE MOST BEAUTIFUL OF THEM AL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NAME OF PRESIDENT WASHINGTON'S VIRGINIA EST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380880" y="487692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162000" y="766800"/>
            <a:ext cx="882972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ITY HOSTED THE 1960 SUMMER OLYMPIC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IAGARA  FA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104840" y="762120"/>
            <a:ext cx="69343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ORTH AMERICAN WATERFALL HAS THE LARGEST FLOW R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585720" y="4876920"/>
            <a:ext cx="79725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TIES  IN  NEW  Y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38280" y="761760"/>
            <a:ext cx="7867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DSTUFFS ARE MEASURED IN AVOIRDUPOIS OUNCES. WHAT SORT OF OUNCES  ARE PRECIOUS METALS MEASURED I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1038240" y="762120"/>
            <a:ext cx="7067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WAS THE FIRST PERMANENT ENGLISH SETTLEMENT IN THE AMERIC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33400" y="762120"/>
            <a:ext cx="7477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OLDEST COLLEGE FOOTBALL RIVALRY IS BETWEEN THE UNIVERSITY OF GEORGIA AND WHAT OTHER UNIVERSIT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3360" y="762120"/>
            <a:ext cx="8477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PICTURED ON       THE BACK OF "INDIAN HEAD" NICKELS INTRODUCED IN 1913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09560" y="761760"/>
            <a:ext cx="7724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ISLAND HOME OF THE MYTHICAL GREEK HERO ODYSSEU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28480" y="761760"/>
            <a:ext cx="8087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TY IN SOUTHEASTERN SICILY WAS DESCRIBED BY CICERO AS "THE GREATEST GREEK CITY AND THE MOST BEAUTIFUL OF THEM AL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5440" y="762120"/>
            <a:ext cx="84931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EUROPEAN CITY HOSTED THE 1960 SUMMER OLYMPIC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0-12-16T14:11:08Z</dcterms:modified>
  <cp:revision>384</cp:revision>
  <dc:subject/>
  <dc:title>Slide 1</dc:title>
</cp:coreProperties>
</file>