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6262-2C65-42B5-85FA-D01378730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A07D-43B6-429A-A438-D493A0343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4EC52-DC9B-4256-AF48-E220D79E4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4363-E0F0-4F4F-B772-2DC778954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D50C-98C8-49CE-81B6-3897FA44C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EE2A-A6C8-4BC7-9FA3-64D6A5DC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8572-DD74-4996-99BD-F07F8C011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0964B-790A-4F92-BE86-7CE9CC6C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078F-A680-4D62-873B-F6FDA0E3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79B7-85B8-451E-9FFB-EA97329F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BB9F-5A22-4E3E-9DD5-7E98BE946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C198-8658-4336-A0BB-62B26F58D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54A9-4CF0-4048-99D6-D7A9EFA8F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C9AF-6F78-4BB5-9BEB-8F9616D63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B5BA-2E39-4D85-A282-DAC38B304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5800-B98A-4D80-BE15-B29B0F277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8716-1BE3-4B2A-8607-DA48A81AE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9B36-7105-4A12-A8D2-55882D527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A827-E4FD-49C8-BFF4-63EFE8AB0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572E-9BDE-4182-9FEE-19A851F83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6E9A-B472-44CD-8124-9A746CAE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B223-4DFB-4374-B433-0440DEE84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B5E4-FEB3-4396-A193-EAD9232C0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4960" y="761760"/>
            <a:ext cx="753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DIATRICIAN WROTE "BABY AND CHILD CARE", ONE OF THE BEST-SELLING BOOK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  CHEK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WRIGHT IS CONSIDERED TO BE ONE OF THE GREATEST WRITERS OF SHORT STORIES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AN  O'BR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LATE NIGHT" FOR 16 YEARS, "THE TONIGHT SHOW" FOR 9 MONTHS, AND HIS OWN TALK SHOW FOR 9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KER'S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NEW YORK CITY'S MAIN JAIL COMPLEX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1480" y="75888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ITES THE COMIC STRIP "DIL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8564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PEL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2360" y="762120"/>
            <a:ext cx="809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NORTH CAROLINA CITIES THAT MAKE UP THE "RESEARCH TRIANGLE", WHICH ONE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TERNET  MOVIE)  DATA(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04840" y="762120"/>
            <a:ext cx="6934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D" IN "IMDB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14360" y="4876920"/>
            <a:ext cx="6515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COY  AIR  FORCE 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LANDO'S LARGEST EMPLOYER BEFORE DISNEY, RESPONSIBLE FOR THE 3-LETTER AIRPORT CODE "MC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38280" y="762120"/>
            <a:ext cx="7867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WRIGHT IS CONSIDERED TO BE ONE OF THE GREATEST WRITERS OF SHORT STORIES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2000" y="766800"/>
            <a:ext cx="8829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STANLEY KUBRICK FILMS "PATHS OF GLORY" AND "SPARTIC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SP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19000" y="762120"/>
            <a:ext cx="7506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DIATRICIAN WROTE "BABY AND CHILD CARE", ONE OF THE BEST-SELLING BOOK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941400" y="4343400"/>
            <a:ext cx="7261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"STAR  TREK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39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LATE NIGHT" FOR 16 YEARS, "THE TONIGHT SHOW" FOR 9 MONTHS, AND HIS OWN TALK SHOW FOR 9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NEW YORK CITY'S MAIN JAIL COMPLEX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ITES THE COMIC STRIP "DILB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3 NORTH CAROLINA CITIES THAT MAKE UP THE "RESEARCH TRIANGLE", WHICH ONE COMES FIR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D" IN "IMDB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LANDO'S LARGEST EMPLOYER BEFORE DISNEY, RESPONSIBLE FOR THE 3-LETTER AIRPORT CODE "MC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STANLEY KUBRICK FILMS "PATHS OF GLORY" AND "SPARTIC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1:32Z</dcterms:modified>
  <cp:revision>386</cp:revision>
  <dc:subject/>
  <dc:title>Slide 1</dc:title>
</cp:coreProperties>
</file>