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E8A9-F871-4ABA-BBAC-14252D64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2CB-9EBB-4641-B0DA-63B42F94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957-4880-4649-83CC-B2310372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0DF-2429-48ED-B00C-BF54C069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4AA-5F40-4C96-B353-34611C65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91D-A5B7-45BC-B324-BC78C0BB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3446-99B6-407B-AC0A-DE15CB6C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F867-56ED-4A1E-8968-2BCC3139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5E9-DC74-4376-A19B-51969141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9769-E0DB-42A6-84DD-ACDEFCA4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888-CCD4-41A2-B039-20679E0A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4BD-D768-419F-9284-40D98044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D530-3846-4A24-9E59-FC583E665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2DE6-36E9-4AE7-AC01-6549C3E1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EDA-B379-49DD-A0DA-EDD1637B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F476-734D-43AB-9FE0-A66F35B8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A2BD-E79C-47D2-BF73-4C720FA6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4379-EF50-4C77-B461-8F7877D2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772D-2A2B-4908-80EF-711B0C27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8AB0-7BB3-4E0C-9A19-6F6B767C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424-FEFE-4870-883E-278CF469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E3C-AF42-4AC9-81B2-0AD1E8C1E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AAAF-2D98-420E-BE73-8CF0AEFE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1760"/>
            <a:ext cx="753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  CHEK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KER'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8564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PEL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ET  MOVIE)  DATA(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14360" y="4876920"/>
            <a:ext cx="65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Y  AIR  FORCE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41400" y="4343400"/>
            <a:ext cx="72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"STAR  TREK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32Z</dcterms:modified>
  <cp:revision>386</cp:revision>
  <dc:subject/>
  <dc:title>Slide 1</dc:title>
</cp:coreProperties>
</file>