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1AD6-D04B-4D94-ABF2-D5EFD163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523F-F50D-4BBE-A8EB-20D499C3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D609-98EF-4848-BFC3-C2D288E3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168-B2F7-4E72-A976-878A2FD0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4FBB-A53A-44E8-8120-798161E77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20F-D86E-4DEA-8BFC-C8E4E4C8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EF1D-5A74-4BD7-9167-A585C99F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6B6-B907-497E-8D52-53223F12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4E5B-F635-453C-8A8B-CE4672F6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84AC-966B-4CC4-AE4C-73CC5896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AEC3-1D84-4FD5-9850-9D1D6A145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B2A-F684-4753-8D65-A793E918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B20E-BA12-4CA4-A99E-F9F376FA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FB0-F814-450D-8B82-B61B5C2B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035D-8FE0-4586-A964-947A63D5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621-56AA-4880-97A6-02A237C0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160-3061-4AE6-91CF-31963B03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1E32-EEBD-4E5A-B695-D7EC576D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E042-BB9E-4FD3-A424-61463358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753-5694-47F6-B368-D9606D21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864-4336-4A4E-B50D-2379CAD3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8657-BA75-407F-AAFE-7FC704F8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73F8-FD0E-4E20-BA05-D229A907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4960" y="761760"/>
            <a:ext cx="753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DIATRICIAN WROTE "BABY AND CHILD CARE", ONE OF THE BEST-SELLING BOOK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  CHEK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WRIGHT IS CONSIDERED TO BE ONE OF THE GREATEST WRITERS OF SHORT STO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LATE NIGHT" FOR 16 YEARS, "THE TONIGHT SHOW" FOR 9 MONTHS, AND HIS OWN TALK SHOW FOR 9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KER'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NEW YORK CITY'S MAIN JAIL COMPLEX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ITES THE COMIC STRIP "DIL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8564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PEL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NORTH CAROLINA CITIES THAT MAKE UP THE "RESEARCH TRIANGLE", WHICH ON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TERNET  MOVIE)  DATA(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D" IN "IMDB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14360" y="4876920"/>
            <a:ext cx="65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Y  AIR  FORCE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WRIGHT IS CONSIDERED TO BE ONE OF THE GREATEST WRITERS OF SHORT STO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9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TANLEY KUBRICK FILMS "PATHS OF GLORY" AND "SPARTI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SP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DIATRICIAN WROTE "BABY AND CHILD CARE", ONE OF THE BEST-SELLING BOOK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41400" y="4343400"/>
            <a:ext cx="72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"STAR  TREK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LATE NIGHT" FOR 16 YEARS, "THE TONIGHT SHOW" FOR 9 MONTHS, AND HIS OWN TALK SHOW FOR 9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NEW YORK CITY'S MAIN JAIL COMPLEX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ITES THE COMIC STRIP "DILB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NORTH CAROLINA CITIES THAT MAKE UP THE "RESEARCH TRIANGLE", WHICH ONE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D" IN "IMDB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TANLEY KUBRICK FILMS "PATHS OF GLORY" AND "SPARTI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32Z</dcterms:modified>
  <cp:revision>386</cp:revision>
  <dc:subject/>
  <dc:title>Slide 1</dc:title>
</cp:coreProperties>
</file>