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83A0-0C41-4A61-AF72-93EF4D9D5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3EC9-5942-4C45-8994-0451A4055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41A0-8EA2-41AC-AC64-28EBA4D44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27AC-5F9F-4C3E-9F3D-84A6E1D94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EDE2-086B-43B4-B155-6AB928F53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DBDD-FEED-4251-8BA1-025A35A5B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ABB0-6D39-4D4C-9556-ABF429992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E71A-FD9E-48A5-9F50-5B3D0232B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4966-F1A4-42B7-9D50-F2803AAF1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A436-3189-432A-850D-75215F4F4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9B5E-9725-4838-9168-8AEA0455E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09B1-C948-448D-91EA-E36F590B0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E528-2ACB-4E8B-961E-C0D7B7D6C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850D-AA2F-40D9-B849-53ED1D8F7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1943-C51D-4CBA-9EF8-D69076CF1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F452-C0A6-4157-9627-4869EB80C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F272-1E27-4EFD-B222-9B6A1FC5A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9039-645E-4441-8EDE-8DE5696A7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0182-6477-4C83-AA34-E94477464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14F0-AE2C-4641-AE65-524BFD4B4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0412-571B-46CB-A953-8EA1E619D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5B39-4214-4A92-A8F8-C00962C8A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3229-925B-4FB1-ACCE-26D631B43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MORK AND MINDY", MORK CAME TO THE EARTH IN A SPACESHIP SHAPED LIKE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04840" y="4343400"/>
            <a:ext cx="693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ATIONAL  BROADCASTING)  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405080" y="762120"/>
            <a:ext cx="6333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C" STAND FOR IN "NB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LANGUAGES ARE SPANISH, PORTUGUESE, FRENCH, ITALIAN, AND ROMANIAN, BECAUSE THEY ORIGINATE FROM LA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ALUABLE COMPANY IN THE WORLD, ACCORDING TO MARKET CAPITA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25400" y="77148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1 NORTH-SOUTH LAKES IN CENTRAL NEW YORK ARE NAMED FOR WHAT PART OF THE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57160" y="762120"/>
            <a:ext cx="7429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MATOLOGY IS THE BRANCH OF MEDICINE THAT STUDIE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1800" y="762120"/>
            <a:ext cx="842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ISTS OF AN APRON, CINCTURE, CARD, COIF, SCAPULAR, SLEEVES, TUNIC, UNDERSKIRTS, AND VE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S'  (E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2600" y="838080"/>
            <a:ext cx="60120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CLOTHING COMPANY WITH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2184480" cy="276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03400" y="762120"/>
            <a:ext cx="6935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C" STAND FOR IN "NB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EGYPTIAN HIEROGLYPH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919240" y="3352680"/>
            <a:ext cx="330552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934920" y="762120"/>
            <a:ext cx="7272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MORK AND MINDY", MORK CAME TO THE EARTH IN A SPACESHIP SHAPED LIKE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BA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LANGUAGES ARE SPANISH, PORTUGUESE, FRENCH, ITALIAN, AND ROMANIAN, BECAUSE THEY ORIGINATE FROM LAT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ALUABLE COMPANY IN THE WORLD, ACCORDING TO MARKET CAPITA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73200" y="762120"/>
            <a:ext cx="7797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1 NORTH-SOUTH LAKES IN CENTRAL NEW YORK ARE NAMED FOR WHAT PART OF THE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7800" y="762120"/>
            <a:ext cx="7448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MATOLOGY IS THE BRANCH OF MEDICINE THAT STUDIE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ISTS OF AN APRON, CINCTURE, CARD, COIF, SCAPULAR, SLEEVES, TUNIC, UNDERSKIRTS, AND VE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5960" y="838080"/>
            <a:ext cx="59547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CLOTHING COMPANY WITH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2184480" cy="27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82480" y="762120"/>
            <a:ext cx="7979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EGYPTIAN HIEROGLYPH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919240" y="3352680"/>
            <a:ext cx="33055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12-16T14:11:56Z</dcterms:modified>
  <cp:revision>419</cp:revision>
  <dc:subject/>
  <dc:title>Slide 1</dc:title>
</cp:coreProperties>
</file>