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819C-F9EC-4F60-9FBF-94ED96BC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90D5-3B64-471C-8435-07998FF13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9811-4E8C-48A7-A386-C4B76A9F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6752-E6C4-4114-81B0-93E4CE285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85C9-6C7D-4459-956F-5CDDBFB46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A704-1466-4024-A3C6-7465D7A6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545A-F0D8-4415-BBF0-16458B67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4866-65E6-43FA-8808-ACACC282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75D1-9874-4CD5-AB87-023E51CF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A045-0C9A-4370-B401-A51E59F1D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9E73-B76A-474B-956E-7A57551EA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36EB-1373-4F92-84AE-D6BBB55D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D6A4-F2F9-4FAB-8BA7-B3432A48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73E3-3125-486B-A24B-E20974B4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8FD1-859A-46B5-8AD0-4B99D35C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73F3-640C-4A18-9F8C-920EB87C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C35C-75F0-47C3-8D6D-BFB25FEE3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4E3D-D013-435F-BFA1-895BC9410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B31-F63A-4116-8238-DEC662808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32A2-4664-42AA-A2BE-9F6350C5B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6E04-839D-41BE-A12C-2581C3E63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B9E6-2935-497E-9DBD-0A614E95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D25E-29E3-4531-A9D9-C6AA43210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AND MINDY", MORK CAME TO THE EARTH IN A SPACESHIP SHAPED LIKE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04840" y="4343400"/>
            <a:ext cx="693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ATIONAL  BROADCASTING)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405080" y="762120"/>
            <a:ext cx="6333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STAND FOR IN "NB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LANGUAGES ARE SPANISH, PORTUGUESE, FRENCH, ITALIAN, AND ROMANIAN, BECAUSE THEY ORIGINATE FROM LA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ALUABLE COMPANY IN THE WORLD, ACCORDING TO MARKET CAPITA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5400" y="77148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1 NORTH-SOUTH LAKES IN CENTRAL NEW YORK ARE NAMED FOR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7160" y="762120"/>
            <a:ext cx="742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MATOLOGY IS THE BRANCH OF MEDICINE THAT STUDIE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ISTS OF AN APRON, CINCTURE, CARD, COIF, SCAPULAR, SLEEVES, TUNIC, UNDERSKIRTS, AND VE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S'  (E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600" y="838080"/>
            <a:ext cx="6012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CLOTHING COMPANY WITH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184480" cy="27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3400" y="762120"/>
            <a:ext cx="693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STAND FOR IN "NB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EGYPTIAN HIEROGLYPH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919240" y="3352680"/>
            <a:ext cx="330552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34920" y="762120"/>
            <a:ext cx="7272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AND MINDY", MORK CAME TO THE EARTH IN A SPACESHIP SHAPED LIKE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BA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LANGUAGES ARE SPANISH, PORTUGUESE, FRENCH, ITALIAN, AND ROMANIAN, BECAUSE THEY ORIGINATE FROM LAT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ALUABLE COMPANY IN THE WORLD, ACCORDING TO MARKET CAPITA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3200" y="762120"/>
            <a:ext cx="779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1 NORTH-SOUTH LAKES IN CENTRAL NEW YORK ARE NAMED FOR WHAT PART OF THE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MATOLOGY IS THE BRANCH OF MEDICINE THAT STUDIE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ISTS OF AN APRON, CINCTURE, CARD, COIF, SCAPULAR, SLEEVES, TUNIC, UNDERSKIRTS, AND VE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59547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CLOTHING COMPANY WITH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184480" cy="27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2480" y="762120"/>
            <a:ext cx="7979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EGYPTIAN HIEROGLYPH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19240" y="3352680"/>
            <a:ext cx="33055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1:56Z</dcterms:modified>
  <cp:revision>419</cp:revision>
  <dc:subject/>
  <dc:title>Slide 1</dc:title>
</cp:coreProperties>
</file>