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A70E-0C02-4708-B527-4E2686CB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1351-9D98-4EA1-BE69-2CEFD135E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F77B-E081-47A5-8D59-5D88EF56F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A0B5-9DC2-4032-A2A7-D8F5DD84B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5443-2569-43A3-A8C7-AE704EB51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FF7F-33E8-4482-A67B-2400FAD8A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25B0-4215-402B-BCDA-BD9EB548A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965E-55A2-4066-9DDC-5CCF430A6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3AA0-B48B-40F8-ADBF-1FD54FD17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C08D-C81A-4092-A41A-68E613204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A013-4D38-455C-AEC1-29685F570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6C37-318F-4B82-802F-2CFFF0453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4E3B-EED3-4BEC-BAFB-38CB86FEA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BCEE-2A47-4AD8-833D-69E6AECCB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B092-AFE5-4698-903B-BF3B25D0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FBC4-8BB9-44AF-8281-6D338DF02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E937-B14B-4865-B0B0-3CEC1E142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797D-A9DB-4F26-99A3-AD7947A96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7003-19AA-4178-89B2-DCA20768B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C1CC-1FED-4C0A-AC57-5CCF0B790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003-AAC0-48CC-B7E8-B7CF078E1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5B7E-71A8-48B0-A9AE-BD595C468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789F-AAAE-4AD7-AE96-0941D212C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AND MINDY", MORK CAME TO THE EARTH IN A SPACESHIP SHAPED LIKE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04840" y="4343400"/>
            <a:ext cx="6934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ATIONAL  BROADCASTING)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405080" y="762120"/>
            <a:ext cx="6333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STAND FOR IN "NB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LANGUAGES ARE SPANISH, PORTUGUESE, FRENCH, ITALIAN, AND ROMANIAN, BECAUSE THEY ORIGINATE FROM LA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ALUABLE COMPANY IN THE WORLD, ACCORDING TO MARKET CAPITA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5400" y="77148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1 NORTH-SOUTH LAKES IN CENTRAL NEW YORK ARE NAMED FOR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7160" y="762120"/>
            <a:ext cx="742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MATOLOGY IS THE BRANCH OF MEDICINE THAT STUDIE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ISTS OF AN APRON, CINCTURE, CARD, COIF, SCAPULAR, SLEEVES, TUNIC, UNDERSKIRTS, AND VE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S'  (E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600" y="838080"/>
            <a:ext cx="6012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CLOTHING COMPANY WITH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184480" cy="27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3400" y="762120"/>
            <a:ext cx="693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STAND FOR IN "NB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EGYPTIAN HIEROGLYPH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919240" y="3352680"/>
            <a:ext cx="330552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34920" y="762120"/>
            <a:ext cx="7272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AND MINDY", MORK CAME TO THE EARTH IN A SPACESHIP SHAPED LIKE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BA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LANGUAGES ARE SPANISH, PORTUGUESE, FRENCH, ITALIAN, AND ROMANIAN, BECAUSE THEY ORIGINATE FROM LAT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ALUABLE COMPANY IN THE WORLD, ACCORDING TO MARKET CAPITALIZ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3200" y="762120"/>
            <a:ext cx="779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1 NORTH-SOUTH LAKES IN CENTRAL NEW YORK ARE NAMED FOR WHAT PART OF THE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MATOLOGY IS THE BRANCH OF MEDICINE THAT STUDIE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ISTS OF AN APRON, CINCTURE, CARD, COIF, SCAPULAR, SLEEVES, TUNIC, UNDERSKIRTS, AND VE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59547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CLOTHING COMPANY WITH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184480" cy="276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2480" y="762120"/>
            <a:ext cx="7979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EGYPTIAN HIEROGLYPH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19240" y="3352680"/>
            <a:ext cx="33055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1:56Z</dcterms:modified>
  <cp:revision>419</cp:revision>
  <dc:subject/>
  <dc:title>Slide 1</dc:title>
</cp:coreProperties>
</file>