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26A4-9BEC-4E7E-B81C-78FD4E1EE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F76A-0562-4749-90FD-CED6292F4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9277-1606-4B13-80E4-B19148465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9B69-13CE-46EE-B4CC-35DD6CE3F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D8B5-0EAE-4E7E-870A-04041957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4ED1-B472-4D61-8C6F-4C5BDCC44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FD19-5584-4D59-8364-1ED0C1BDA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6E68-F2FF-4B54-B07E-AF0E9944E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8175-01B7-43C0-A9F0-D15B1B7F9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B698-D4CE-4C20-8B12-7A42EFCB7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3103-AD72-402B-8497-51C229DEC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8C7F-FDDF-4884-AA99-09C0CF2EC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7A49-1159-4326-9CA2-3ADDCF228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B280-3475-4239-87E9-205D80ACB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6607-398A-4B7B-B667-998D1008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E2A3-1ECF-4DE2-82DF-BC5B06A88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8AB3-4033-4CA1-A627-C60550A6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F94A-E092-4412-B2E8-FBEE95612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0628-EF8D-4F49-8A56-EE68538EF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0E7A-F0AC-460E-BF92-A68111209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6D54-4D73-482E-9405-44A476A69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7F00-6BCD-49E7-AE36-1ED1AB373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2622-2F48-404F-996D-965810119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, WHOSE TITLE MEANS "STYLE" IN FRENCH, CELEBRATED ITS CENTENNIAL IN 199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LY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33480" y="762120"/>
            <a:ext cx="7277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TFLIX SHOW "BOJACK HORSEMAN", THE "D" IN WHAT FAMOUS SIGN HAS FALLEN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PI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87280" y="762120"/>
            <a:ext cx="8569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BS SHOW, WHICH USED TO HAVE "THEATER" APPENDED TO ITS NAME, IS THE LONGEST-RUNNING WEEKLY PRIME TIME DRAMA SERIES O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  ANOTHER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6640" y="758880"/>
            <a:ext cx="801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ES BOND FILM STARRING PIERCE BROSNAN AND HALLE BERRY TAKES PLACE IN NOR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1480" y="75888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IMATED FILM DOES THE OSCAR-WINNING SONG "LET IT GO"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62080" y="762120"/>
            <a:ext cx="8619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TH JIM'S EX-PRISON BUDDY IN   "THE ROCKFORD FILES" AND BUFFY'S LOVE INTEREST IN "BUFFY THE VAMPIRE SLAY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 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BANNISTER WAS THE FIRST PERSON TO RUN A MILE IN LESS THAN WHAT PERIOD OF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TFLIX SHOW "BOJACK HORSEMAN", THE "D" IN WHAT FAMOUS SIGN HAS FALLEN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28640" y="762120"/>
            <a:ext cx="7686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OL AND THE GANG HAS HAD A DOZEN TOP-10 HITS.  WHAT IS THEIR ONLY ONE WHOSE TITLE IS A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, WHOSE TITLE MEANS "STYLE" IN FRENCH, CELEBRATED ITS CENTENNIAL IN 19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GS  BY  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1160" y="761760"/>
            <a:ext cx="85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BS SHOW, WHICH USED TO HAVE "THEATER" APPENDED TO ITS NAME, IS THE LONGEST-RUNNING WEEKLY PRIME TIME DRAMA SERIES O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71400" y="762120"/>
            <a:ext cx="780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ES BOND FILM STARRING PIERCE BROSNAN AND HALLE BERRY TAKES PLACE IN NOR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2160" y="762120"/>
            <a:ext cx="769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IMATED FILM DOES THE OSCAR-WINNING SONG "LET IT GO"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762120"/>
            <a:ext cx="8785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TH JIM'S EX-PRISON BUDDY IN   "THE ROCKFORD FILES" AND BUFFY'S LOVE INTEREST IN "BUFFY THE VAMPIRE SLAY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48880" y="761760"/>
            <a:ext cx="7443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BANNISTER WAS THE FIRST PERSON TO RUN A MILE IN LESS THAN WHAT PERIOD OF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OL AND THE GANG HAS HAD A DOZEN TOP-10 HITS.  WHAT IS THEIR ONLY ONE WHOSE TITLE IS A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2:23Z</dcterms:modified>
  <cp:revision>386</cp:revision>
  <dc:subject/>
  <dc:title>Slide 1</dc:title>
</cp:coreProperties>
</file>