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EC7B-66E7-442E-8FBB-787DC6A82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0245-4BB4-4F28-936A-D28C4BA05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920D-118C-478C-9344-DDBC3D9F7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70DA-0108-4640-B16B-0935A4E84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BD4D-AD80-4F1A-8C34-9862FD4B8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A5AE-3007-46E9-9D0D-541F01393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6388-5BC8-45D6-8EE7-E9DE004B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5AD6-00E7-49FA-8AD1-A7FD1C463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8E69-CFA0-4EA0-9F6F-9987923CF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6ACB-8F44-4BB5-9396-B7670105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CC76-C699-46D5-B488-2FA383196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2C76E-744E-4728-9BA6-7F4F1CCDF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1B64-4AE9-40BA-AA6A-2E28D0A1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AF19-FE98-48AE-BF4E-227BFD976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33FC-912D-4E2D-AEF4-9A6D8ED89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4AA8-6C53-47EA-9505-910DB6BE4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71D7-59FB-4C46-BD1F-8376AA8CB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1AD6-097E-48D0-8EC7-1AC5FC206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D629-0833-4E6D-8F1C-D31E84155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481F-4AD5-4008-BAD8-552A19ACA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C533-5EBD-4A2B-A255-503C6C1D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3F13-1643-4089-95D2-DD3D81CE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2BB0-951C-48A8-BD17-AC4F30E2E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, WHOSE TITLE MEANS "STYLE" IN FRENCH, CELEBRATED ITS CENTENNIAL IN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3480" y="762120"/>
            <a:ext cx="727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TFLIX SHOW "BOJACK HORSEMAN", THE "D" IN WHAT FAMOUS SIGN HAS FALLEN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PI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87280" y="762120"/>
            <a:ext cx="8569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BS SHOW, WHICH USED TO HAVE "THEATER" APPENDED TO ITS NAME, IS THE LONGEST-RUNNING WEEKLY PRIME TIME DRAMA SERIES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  ANOTHER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66640" y="758880"/>
            <a:ext cx="801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STARRING PIERCE BROSNAN AND HALLE BERRY TAKES PLACE IN NOR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IMATED FILM DOES THE OSCAR-WINNING SONG "LET IT GO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62080" y="762120"/>
            <a:ext cx="8619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TH JIM'S EX-PRISON BUDDY IN   "THE ROCKFORD FILES" AND BUFFY'S LOVE INTEREST IN "BUFFY THE VAMPIRE S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BANNISTER WAS THE FIRST PERSON TO RUN A MILE IN LESS THAN WHAT PERIOD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TFLIX SHOW "BOJACK HORSEMAN", THE "D" IN WHAT FAMOUS SIGN HAS FALLEN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28640" y="762120"/>
            <a:ext cx="7686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OL AND THE GANG HAS HAD A DOZEN TOP-10 HITS.  WHAT IS THEIR ONLY ONE WHOSE TITLE IS A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, WHOSE TITLE MEANS "STYLE" IN FRENCH, CELEBRATED ITS CENTENNIAL IN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GS  B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1160" y="761760"/>
            <a:ext cx="85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BS SHOW, WHICH USED TO HAVE "THEATER" APPENDED TO ITS NAME, IS THE LONGEST-RUNNING WEEKLY PRIME TIME DRAMA SERIES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STARRING PIERCE BROSNAN AND HALLE BERRY TAKES PLACE IN NOR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762120"/>
            <a:ext cx="769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IMATED FILM DOES THE OSCAR-WINNING SONG "LET IT GO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TH JIM'S EX-PRISON BUDDY IN   "THE ROCKFORD FILES" AND BUFFY'S LOVE INTEREST IN "BUFFY THE VAMPIRE S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48880" y="761760"/>
            <a:ext cx="7443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BANNISTER WAS THE FIRST PERSON TO RUN A MILE IN LESS THAN WHAT PERIOD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IRST FEMALE DEODORANT, AND THE ONLY ONE NOW SOLD BY PROCTER &amp; GAM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OL AND THE GANG HAS HAD A DOZEN TOP-10 HITS.  WHAT IS THEIR ONLY ONE WHOSE TITLE IS A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2:23Z</dcterms:modified>
  <cp:revision>386</cp:revision>
  <dc:subject/>
  <dc:title>Slide 1</dc:title>
</cp:coreProperties>
</file>