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2754-A17E-4E43-9CAB-502ED02A7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1C30-A42E-4570-9C0F-CE70A56A1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4B59-1B1A-4DF5-AE2F-8497239B9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4FE0-8B06-4E16-A363-A827F4716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BEB3-CD0F-4AC8-8280-60DC4EB1B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CE78-A412-4997-BF54-303BC25FA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6856-036A-4DDC-8D7E-CD59A2A04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5734-0B0B-42FF-BEF1-F890539A7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DDEA-3D12-45C1-8D38-7E884DC24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B6D0-A700-4D94-81DF-CCBFD056C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9874-8E83-4EA2-9761-A14D3D6EA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10EB-A342-4B80-9FE2-02327306E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548D-7F51-48B1-878D-55D5FF008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150F-AE13-4FF4-AFA7-724EE5011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9535-6B49-40C3-A413-0E0F62707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B777-A6A8-4CC4-9859-CF67BCED9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36B5-46BD-4C6F-A755-77C7EF0A6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0429-783A-4939-8C9E-7753C0321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8691-6FF0-412F-AFF2-02CF3D505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718B-D895-4814-B3A1-C44496E52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EA51-74F1-43B2-A632-397AB103A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CAD4-ACDE-422C-BCB1-3FF54FAB7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BB90-ED0B-4F14-8FA4-178C12B82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76400" y="761760"/>
            <a:ext cx="6991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GAZINE, WHOSE TITLE MEANS "STYLE" IN FRENCH, CELEBRATED ITS CENTENNIAL IN 199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LLY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33480" y="762120"/>
            <a:ext cx="7277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NETFLIX SHOW "BOJACK HORSEMAN", THE "D" IN WHAT FAMOUS SIGN HAS FALLEN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STERPIE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87280" y="762120"/>
            <a:ext cx="8569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BS SHOW, WHICH USED TO HAVE "THEATER" APPENDED TO ITS NAME, IS THE LONGEST-RUNNING WEEKLY PRIME TIME DRAMA SERIES ON TV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E  ANOTHER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66640" y="758880"/>
            <a:ext cx="801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AMES BOND FILM STARRING PIERCE BROSNAN AND HALLE BERRY TAKES PLACE IN NORTH KOR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OZ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71480" y="758880"/>
            <a:ext cx="7601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ANIMATED FILM DOES THE OSCAR-WINNING SONG "LET IT GO" APP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G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62080" y="762120"/>
            <a:ext cx="8619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BOTH JIM'S EX-PRISON BUDDY IN   "THE ROCKFORD FILES" AND BUFFY'S LOVE INTEREST IN "BUFFY THE VAMPIRE SLAY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  MINU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52560" y="762120"/>
            <a:ext cx="72388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GER BANNISTER WAS THE FIRST PERSON TO RUN A MILE IN LESS THAN WHAT PERIOD OF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CR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61800" y="762120"/>
            <a:ext cx="8420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FIRST FEMALE DEODORANT, AND THE ONLY ONE NOW SOLD BY PROCTER &amp; GAM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71640" y="762120"/>
            <a:ext cx="7200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NETFLIX SHOW "BOJACK HORSEMAN", THE "D" IN WHAT FAMOUS SIGN HAS FALLEN D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R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28640" y="762120"/>
            <a:ext cx="768672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OOL AND THE GANG HAS HAD A DOZEN TOP-10 HITS.  WHAT IS THEIR ONLY ONE WHOSE TITLE IS A VER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OG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104840" y="762120"/>
            <a:ext cx="69343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GAZINE, WHOSE TITLE MEANS "STYLE" IN FRENCH, CELEBRATED ITS CENTENNIAL IN 199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85720" y="4876920"/>
            <a:ext cx="79725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NGS  BY  MADON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81160" y="761760"/>
            <a:ext cx="85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BS SHOW, WHICH USED TO HAVE "THEATER" APPENDED TO ITS NAME, IS THE LONGEST-RUNNING WEEKLY PRIME TIME DRAMA SERIES ON TV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71400" y="762120"/>
            <a:ext cx="7801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AMES BOND FILM STARRING PIERCE BROSNAN AND HALLE BERRY TAKES PLACE IN NORTH KOR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22160" y="762120"/>
            <a:ext cx="7699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ANIMATED FILM DOES THE OSCAR-WINNING SONG "LET IT GO" APP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9280" y="762120"/>
            <a:ext cx="8785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BOTH JIM'S EX-PRISON BUDDY IN   "THE ROCKFORD FILES" AND BUFFY'S LOVE INTEREST IN "BUFFY THE VAMPIRE SLAY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48880" y="761760"/>
            <a:ext cx="7443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GER BANNISTER WAS THE FIRST PERSON TO RUN A MILE IN LESS THAN WHAT PERIOD OF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79440" y="761760"/>
            <a:ext cx="8385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FIRST FEMALE DEODORANT, AND THE ONLY ONE NOW SOLD BY PROCTER &amp; GAMB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58800" y="762120"/>
            <a:ext cx="7826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OOL AND THE GANG HAS HAD A DOZEN TOP-10 HITS.  WHAT IS THEIR ONLY ONE WHOSE TITLE IS A VER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0-12-16T14:12:23Z</dcterms:modified>
  <cp:revision>386</cp:revision>
  <dc:subject/>
  <dc:title>Slide 1</dc:title>
</cp:coreProperties>
</file>