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B846-CE24-4588-9B83-42C1018D8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1154-B0E1-4FBD-9BC5-2915AD606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E62F-3DDB-4CF2-8116-96D073DA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947C-E29B-4B68-82B2-6352DABD3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F519-F659-45CC-B299-F41DB632C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74DF-7D28-4CD2-995E-C6A83ADBD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9E47-0521-4B2D-997C-9905C7A3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93AE-A9D9-492D-AAA1-3839EE20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3027-B9A4-49E3-A7B6-AAAF220F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EEC8-967E-4880-BD42-E5360F13A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A481-69BB-4794-A474-536397BC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45E6-5364-4548-89E4-BF6E0D88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9854-89A2-486F-BE39-689047208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72BF-DAF3-4C77-A600-87DA3E37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8BED-90B1-41FC-9FE5-BF839751B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FDDC-84D4-4825-8A50-B1CD358FD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F646-53F9-4181-96C3-4B8E5BDF7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31F-EB70-4BBA-8C6D-294E66835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13B7-96E0-4328-8DB3-4EBCEF14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EDF3-AC86-4A15-86DB-2FF25FDC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B102-11FC-4D67-9FDC-E72C0200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46F3-1821-413B-B430-A7F4C0FB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8E94-2B83-4534-82C9-29DE9988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42880" y="1523880"/>
            <a:ext cx="8058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SPLENDOR IN THE GRASS", "BONNIE AND CLYDE", AND "SHAMP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MEATBALLS", "CADDYSHACK", "TOOTSIE", AND "SCROO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876920"/>
            <a:ext cx="9220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E  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9080" y="762120"/>
            <a:ext cx="73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BOOMERANG" AND "MONSTER'S 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LEGALLY BLONDE" AND 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FER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58800" y="758880"/>
            <a:ext cx="78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ALLADEGA NIGHTS", "OLD SCHOOL", AND "DOWNH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PFEI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4800" y="762120"/>
            <a:ext cx="739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MARRIED TO THE MOB", "AGE OF INNOCENCE", AND "FRANKIE AND JOH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16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TIME TO KILL", "THE WEDDING PLANNER", "FOOL'S GOLD", AND "DALLAS BUYER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ROL  FLY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2920" y="762120"/>
            <a:ext cx="831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ADVENTURES OF ROBIN HOOD" AND "CAPTAIN BL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2520" y="762120"/>
            <a:ext cx="8238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MEATBALLS", "CADDYSHACK", "TOOTSIE", AND "SCROO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CONN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CAREER OPPORTUNITIES", "BLOOD DIAMOND",  AND "THE DAY THE EARTH STOOD ST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SPLENDOR IN THE GRASS", "BONNIE AND CLYDE", AND "SHAMP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27040" y="3809880"/>
            <a:ext cx="807732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AND  LAST  N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(AND  ALL  THE  FILM  TITLES)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DOUBLE 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BOOMERANG" AND "MONSTER'S B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0760" y="762120"/>
            <a:ext cx="724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LEGALLY BLONDE" AND 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ALLADEGA NIGHTS", "OLD SCHOOL", AND "DOWNH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3880" y="762120"/>
            <a:ext cx="735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MARRIED TO THE MOB", "AGE OF INNOCENCE", AND "FRANKIE AND JOH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7520" y="761760"/>
            <a:ext cx="832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TIME TO KILL", "THE WEDDING PLANNER", "FOOL'S GOLD", AND "DALLAS BUYERS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ADVENTURES OF ROBIN HOOD" AND "CAPTAIN BL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1600" y="762120"/>
            <a:ext cx="8739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CAREER OPPORTUNITIES", "BLOOD DIAMOND", AND "THE DAY THE EARTH STOOD ST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6:14:38Z</dcterms:modified>
  <cp:revision>442</cp:revision>
  <dc:subject/>
  <dc:title>Slide 1</dc:title>
</cp:coreProperties>
</file>