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D0A7-0926-4F93-AF96-A6F20EE95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F5CF-0B29-44B7-9553-4897823D4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DD25-2060-4F6E-B44E-B25F75128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D6D8-B0AF-4C45-BC5E-BD54C5B3E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17C4-6A82-4F34-AF88-C822E8D7B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4B31-2FD6-416E-BEA6-18F5A01B6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139D-EAAB-4CA7-8F7E-C68A956B2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8195-E53E-4EF9-AF76-4EC575C6F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7C80-42CE-4CFE-9F1E-C1757DFCC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5887-AAA4-48AC-87E4-75A0C259F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E0C8-D413-445F-BAAD-0FAA5C6C0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3475-AA9C-4A0D-AA77-EB0C7B4EE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F18A-AE28-43F7-9026-427EC79B0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18D5-872E-45C0-BE79-CB48EBC53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C696-715F-4F8C-AE70-58907478E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2DC5-ABC5-4027-904D-6DF33F0C0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825F-CC4A-4143-8DF8-CA7160EF3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B8A2-B0DA-4F94-82F7-ACCF8286D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75AD-3308-4BE3-A169-657580499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EE39-F62D-4558-9626-59A8EB7CF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59E1-AD74-4681-BF01-98BD81709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B671-9C39-4A33-AAFD-63AAF46E1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720E-C71A-4074-867E-FDFE47C73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42880" y="1523880"/>
            <a:ext cx="8058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85880" y="761760"/>
            <a:ext cx="757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SPLENDOR IN THE GRASS", "BONNIE AND CLYDE", AND "SHAMPO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MU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MEATBALLS", "CADDYSHACK", "TOOTSIE", AND "SCROOG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-38160" y="4876920"/>
            <a:ext cx="9220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E  B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19080" y="762120"/>
            <a:ext cx="7305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BOOMERANG" AND "MONSTER'S B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ESE  WITHERSP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71640" y="76212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LEGALLY BLONDE" AND "SWEET HOME ALABAM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FERR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58800" y="758880"/>
            <a:ext cx="782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TALLADEGA NIGHTS", "OLD SCHOOL", AND "DOWNHI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ELLE  PFEIF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74800" y="762120"/>
            <a:ext cx="7394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MARRIED TO THE MOB", "AGE OF INNOCENCE", AND "FRANKIE AND JOHNN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THEW  MCCONAUG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316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A TIME TO KILL", "THE WEDDING PLANNER", "FOOL'S GOLD", AND "DALLAS BUYERS CLU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ROL  FLY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12920" y="762120"/>
            <a:ext cx="8318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THE ADVENTURES OF ROBIN HOOD" AND "CAPTAIN BLO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2520" y="762120"/>
            <a:ext cx="8238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MEATBALLS", "CADDYSHACK", "TOOTSIE", AND "SCROOG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CONNE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18960" y="762120"/>
            <a:ext cx="850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CAREER OPPORTUNITIES", "BLOOD DIAMOND",  AND "THE DAY THE EARTH STOOD STI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REN  BEA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35040" y="762120"/>
            <a:ext cx="7873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SPLENDOR IN THE GRASS", "BONNIE AND CLYDE", AND "SHAMPO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27040" y="3809880"/>
            <a:ext cx="807732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FIRST  AND  LAST  NAMES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(AND  ALL  THE  FILM  TITLES)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DOUBLE   LE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14480" y="761760"/>
            <a:ext cx="711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BOOMERANG" AND "MONSTER'S B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50760" y="762120"/>
            <a:ext cx="724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LEGALLY BLONDE" AND "SWEET HOME ALABAM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71400" y="762120"/>
            <a:ext cx="7801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TALLADEGA NIGHTS", "OLD SCHOOL", AND "DOWNHI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93880" y="762120"/>
            <a:ext cx="7356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MARRIED TO THE MOB", "AGE OF INNOCENCE", AND "FRANKIE AND JOHNN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07520" y="761760"/>
            <a:ext cx="8326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A TIME TO KILL", "THE WEDDING PLANNER", "FOOL'S GOLD", AND "DALLAS BUYERS CLU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THE ADVENTURES OF ROBIN HOOD" AND "CAPTAIN BLO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01600" y="762120"/>
            <a:ext cx="8739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CAREER OPPORTUNITIES", "BLOOD DIAMOND", AND "THE DAY THE EARTH STOOD STI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21T16:14:38Z</dcterms:modified>
  <cp:revision>442</cp:revision>
  <dc:subject/>
  <dc:title>Slide 1</dc:title>
</cp:coreProperties>
</file>