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4DD2-065C-4749-8D5E-A744D615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CE6-C5B2-4A56-947F-6B459732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ABC-DFE5-470B-8CC2-1D7F48BAC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9ED3-7D16-4589-A132-38667647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10D-07B1-4A1A-AF56-F67F09FD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877-9BCB-4164-8A38-94A458FD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3F17-2026-48D6-B78E-3CAC7A61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A86-16F9-4DF1-A76C-238C88C4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7B2-7599-474D-8A5A-4E9570E9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9722-A6E8-4C51-9866-78296CC4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93E-E03D-4521-81B1-CBE52A08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2B54-35FA-479C-800C-E7B9CF79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D3C2-541A-4B09-96A3-9D11A5C7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EC7-23D5-46BE-97DD-B710E5DB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3B18-2528-4808-907F-4F91FC70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BA0E-434D-42FA-B202-4C68DE448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30B2-172B-4A88-A930-C1365AD7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6899-D5A0-4F77-896A-FA007D6F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AA7-8AFB-4EEF-98E4-2FB91A68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6FA-8DEC-4DD5-A662-142DBA31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DB0-D397-4A64-837F-D4361F09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E231-44D0-48BD-B8AF-4FB08DD8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438-947D-4D62-B028-53E3A530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8560" y="762120"/>
            <a:ext cx="734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, FOUND IN 2/3 OF ALL CANDY SOLD, WAS CONSUMED SOLELY IN LIQUID FORM FOR 90% OF ITS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IS THE ONLY ONE THAT CAN BE MOVED ON THE FIRST MOVE BESIDES A PA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93680" y="762120"/>
            <a:ext cx="695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MAKE IT WITH YOU" AND "BABY I'M–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THE U.S. HAD EXACTLY 28 OF, THE LAST ONE BEING IN US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  (LONG  ISLAND  EXPRESS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5880" y="774720"/>
            <a:ext cx="75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STATE 495, BEGINNING IN NEW YORK CITY, IS KNOWN BY WHAT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YTHROCYTES, LEUKOCYTES, AND THROMBOCYTES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3080" y="762120"/>
            <a:ext cx="719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RD OF THE RINGS" CHARACTER GIMLI WAS OF WHAT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TRADITIONAL WEDDING GIFT F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IS THE ONLY ONE THAT CAN BE MOVED ON THE FIRST MOVE BESIDES A PA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EGORY)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DOCTOR LED A TEAM OF DIAGNOSTICIANS AT PRINCETON–PLAINSBORO TEACHING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, FOUND IN 2/3 OF ALL CANDY SOLD, WAS CONSUMED SOLELY IN LIQUID FORM FOR 90% OF ITS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00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HI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6000" y="761760"/>
            <a:ext cx="691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MAKE IT WITH YOU" AND "BABY I'M–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THE U.S. HAD EXACTLY 28 OF, THE LAST ONE BEING IN US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STATE 495, BEGINNING IN NEW YORK CITY, IS KNOWN BY WHAT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YTHROCYTES, LEUKOCYTES, AND THROMBOCYTES ARE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RD OF THE RINGS" CHARACTER GIMLI WAS OF WHAT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TRADITIONAL WEDDING GIFT F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5760" y="762120"/>
            <a:ext cx="823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DOCTOR LED A TEAM OF DIAGNOSTICIANS AT PRINCETON–PLAINSBORO TEACHING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1-09-21T16:14:57Z</dcterms:modified>
  <cp:revision>470</cp:revision>
  <dc:subject/>
  <dc:title>Slide 1</dc:title>
</cp:coreProperties>
</file>