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6E6D-1BEA-4619-A3D1-E772BCBD9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42E9-43DC-4E7E-AB24-FACD969A5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B9B3-FA5C-4EE3-B183-18DD27F5E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09E5-2941-45EE-BC36-EA81475DB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E07D-1A1D-4ACD-AC43-2544ED0A7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86F0-7CE4-4534-BC15-A2B3ABA37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CD90-22D2-4DC2-BB9D-54952315E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FC1F-67B8-4ECA-B902-6361CD228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8280-E2F3-40EF-926D-CC707F07C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5AC3-CFF7-458E-8C8A-0D53EAFFE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FF9E-7444-4E5A-B8CB-AD2E2E3B5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EF71-1403-4197-8741-5AE7F2E81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2402-2251-4554-9CF5-F732A97A8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D2DD-049F-4BFD-A55D-E223D985D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9535-2894-4A6F-9C8A-CAA016023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ECBF-524A-4191-81FF-FB727FF37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A1C9-DB2A-4F4E-BECD-00920B9E0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AF50-4340-4817-A6E7-B82D8398E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F88A-9DBF-4935-859E-77762C0E1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EFE3-3438-4EA0-97DA-0D6367123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869B-1667-457B-92AB-15C482C42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32CE-8F73-43D2-A3E5-5DBA8DEEE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484F-9042-4907-B0C1-8CFE12059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98560" y="762120"/>
            <a:ext cx="7346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GREDIENT, FOUND IN 2/3 OF ALL CANDY SOLD, WAS CONSUMED SOLELY IN LIQUID FORM FOR 90% OF ITS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76160" y="762120"/>
            <a:ext cx="759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SS PIECE IS THE ONLY ONE THAT CAN BE MOVED ON THE FIRST MOVE BESIDES A PA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93680" y="762120"/>
            <a:ext cx="6956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MAKE IT WITH YOU" AND "BABY I'M–A WANT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0880" y="762120"/>
            <a:ext cx="8382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THE U.S. HAD EXACTLY 28 OF, THE LAST ONE BEING IN USE SINCE 196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E  (LONG  ISLAND  EXPRESSWA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85880" y="774720"/>
            <a:ext cx="757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STATE 495, BEGINNING IN NEW YORK CITY, IS KNOWN BY WHAT INITI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  C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99960" y="762120"/>
            <a:ext cx="8344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YTHROCYTES, LEUKOCYTES, AND THROMBOCYTES ARE TYPE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WA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73080" y="762120"/>
            <a:ext cx="71978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LORD OF THE RINGS" CHARACTER GIMLI WAS OF WHAT R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18960" y="762120"/>
            <a:ext cx="850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WHAT IS THE TRADITIONAL WEDDING GIFT FOR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NIVER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SS PIECE IS THE ONLY ONE THAT CAN BE MOVED ON THE FIRST MOVE BESIDES A PA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GREGORY)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47840" y="762120"/>
            <a:ext cx="8248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DOCTOR LED A TEAM OF DIAGNOSTICIANS AT PRINCETON–PLAINSBORO TEACHING HOSPI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41400" y="762120"/>
            <a:ext cx="725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GREDIENT, FOUND IN 2/3 OF ALL CANDY SOLD, WAS CONSUMED SOLELY IN LIQUID FORM FOR 90% OF ITS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85840" y="4800600"/>
            <a:ext cx="857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WHIT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16000" y="761760"/>
            <a:ext cx="691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MAKE IT WITH YOU" AND "BABY I'M–A WANT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90600" y="762120"/>
            <a:ext cx="8362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THE U.S. HAD EXACTLY 28 OF, THE LAST ONE BEING IN USE SINCE 196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33320" y="762120"/>
            <a:ext cx="767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STATE 495, BEGINNING IN NEW YORK CITY, IS KNOWN BY WHAT INITI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YTHROCYTES, LEUKOCYTES, AND THROMBOCYTES ARE TYPE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LORD OF THE RINGS" CHARACTER GIMLI WAS OF WHAT R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44520" y="762120"/>
            <a:ext cx="8454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WHAT IS THE TRADITIONAL WEDDING GIFT FOR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NIVER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5760" y="762120"/>
            <a:ext cx="823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DOCTOR LED A TEAM OF DIAGNOSTICIANS AT PRINCETON–PLAINSBORO TEACHING HOSPI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1-09-21T16:14:57Z</dcterms:modified>
  <cp:revision>470</cp:revision>
  <dc:subject/>
  <dc:title>Slide 1</dc:title>
</cp:coreProperties>
</file>