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28BD-E471-4AF9-826A-1DAE44AE5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2A07-7DAD-4598-B0DE-448188B1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B768-99A7-488D-8B04-79EBCB17A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38A6-9D91-462F-9E8A-14C039708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F1AE-C8C2-423B-BA5F-39D5AE4D4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D621-70EB-423E-BE08-81BDD5C21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767B-C6B9-4E0A-8303-BD80938B9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4B02-21EA-4977-8DAA-01F339B29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C597-853B-4CD9-88C0-1BE0E1FF7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2A73-B5F7-463D-BB8C-4EEB4827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D819-801D-45BC-8420-D27DD982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0B38-D9C4-4A08-9AC9-D8FAEA5B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13AC-3139-41F2-95FB-67A2A22F0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7CEC-1AD9-4F20-9D5E-837EC97C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FE9B-C961-4FD2-B8A3-77B30D760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3464-F2DF-4248-BF02-124C4E36D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5B5B-E696-42C9-BFA5-649F12DCD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18DD-DB65-4B00-B971-9735F9930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07F-8C54-4697-8EB6-E6AA6CFB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D69B-9815-4B7A-BBA8-760C226B1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1085-2EF2-49F1-AD2D-A9669517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C7B1-1857-45F7-97B8-3C55EB9D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69F1-DC60-458F-AC57-4581B14EE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63800" y="1295280"/>
            <a:ext cx="34164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224160" y="1295280"/>
            <a:ext cx="2695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  COU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L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220840" y="1295280"/>
            <a:ext cx="47023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121200" y="1371600"/>
            <a:ext cx="2901600" cy="35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4979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WARH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909800" y="1295280"/>
            <a:ext cx="5322960" cy="34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730600" y="1295280"/>
            <a:ext cx="3682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93720" y="1295280"/>
            <a:ext cx="595656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224160" y="1295280"/>
            <a:ext cx="2695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GA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48830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863800" y="1295280"/>
            <a:ext cx="34164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43434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E  FIRST  NAMES  AS  "PARKS  AND  RECREATION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54240" y="1295280"/>
            <a:ext cx="483552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121200" y="1371600"/>
            <a:ext cx="290160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63640" y="1295280"/>
            <a:ext cx="561672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30600" y="1295280"/>
            <a:ext cx="3682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93720" y="1295280"/>
            <a:ext cx="595656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9-21T16:15:16Z</dcterms:modified>
  <cp:revision>295</cp:revision>
  <dc:subject/>
  <dc:title>Slide 1</dc:title>
</cp:coreProperties>
</file>