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F8C9-151E-427C-BE5D-984ACFFCE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E775-0F86-435E-9862-A1369191C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54CC-9897-499D-842E-5F846604C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BD9DD-143F-416D-8661-FFB4495D6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A684-249F-4200-9F2F-82A40BD9E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588B-108A-4EA9-B490-292AECFC7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A7B-0CCF-4F71-8376-E82F55601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996C-145C-4DAE-B146-956B8E074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C867-4C7F-4AA6-8A54-F78DD395D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1BB5-5211-4944-9F66-85BAA8F34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EB85-5B5C-430B-AAD3-05644EF9A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40E0E-56D8-43B4-BCD9-9CDC07728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F25B-92C7-4B92-BAE2-E95D5ACC2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DC7-958B-40C1-AE56-3B84EBEA9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D489-9DC5-4EA0-A9A4-E545A8DE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586C-F192-4B1F-A83B-6A9FFAE75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1539-1EEB-4F04-986B-2CA2A4CE6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AD88-5F8E-47B3-814E-59347D235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CFD4-63EC-4880-92A5-C32180B5E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4BA5-8E39-4B6D-A991-9B298A90E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BE71-AF71-4429-A595-28CB0356A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6E99-3A03-4462-AB3E-32C1AC6A2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C8B4-8378-475B-82EB-CC012198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63800" y="1295280"/>
            <a:ext cx="34164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L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224160" y="1295280"/>
            <a:ext cx="2695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  COU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4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SEL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2220840" y="1295280"/>
            <a:ext cx="47023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121200" y="1371600"/>
            <a:ext cx="2901600" cy="350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4979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WARH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1909800" y="1295280"/>
            <a:ext cx="5322960" cy="34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AFFL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730600" y="1295280"/>
            <a:ext cx="3682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EV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593720" y="1295280"/>
            <a:ext cx="595656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224160" y="1295280"/>
            <a:ext cx="2695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GA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57200" y="48830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A  SU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863800" y="1295280"/>
            <a:ext cx="34164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28600" y="43434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E  FIRST  NAMES  AS  "PARKS  AND  RECREATION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47840" y="1371600"/>
            <a:ext cx="4648320" cy="34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54240" y="1295280"/>
            <a:ext cx="4835520" cy="362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3121200" y="1371600"/>
            <a:ext cx="2901600" cy="350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763640" y="1295280"/>
            <a:ext cx="561672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30600" y="1295280"/>
            <a:ext cx="3682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93720" y="1295280"/>
            <a:ext cx="5956560" cy="35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9-21T16:15:16Z</dcterms:modified>
  <cp:revision>295</cp:revision>
  <dc:subject/>
  <dc:title>Slide 1</dc:title>
</cp:coreProperties>
</file>