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C19F-CE95-416B-912C-54EBF7DD4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496C-FFE7-44AB-9355-882413C70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14A8-3A83-45C0-9F5A-EF9E2CAC7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110E-7634-475D-B0E6-777ACF38E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2598-547A-426B-9533-18BDDB67B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2F88-0572-43B2-88BD-3A25BF6D1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191D-ED1B-4E31-8AF6-E84D0BFC3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626F-62C5-403B-BB49-7648FFF1C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6A08-C168-4A8B-AA73-A02298AB2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0932-371B-40D9-ACFC-7B442A421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F344-33D3-49B4-929C-AB4BC1C5A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9E4A-2620-4C8E-8FF8-C7C2DDDD9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559F-F043-4EB8-9C1A-ED259E5CE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7743-DA1F-4DBA-A309-DA567ACC4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B665-D449-4BBB-BB6C-E0FA9A1F2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6C33-6913-4302-902C-1838C639B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3F9A-675D-49D8-9881-073B99A4C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F753-F369-49CC-AA50-2885FF8F3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6D98-AFB9-495A-B3DE-708C4A59D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F7F6-3F31-4756-89C5-E5302E234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40DC-5A89-4AA9-B822-3190DF5D6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52A2-BA1C-4464-97CE-2F29FA7A4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8707-C5A0-4E6D-997A-9EBC052A1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19040" y="1523880"/>
            <a:ext cx="6505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4240" y="761760"/>
            <a:ext cx="89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IRAQ, IRAN, SYRIA, GREECE, BULGARIA, ARMENIA, AND AZERBAIJ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LGR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49120" y="762120"/>
            <a:ext cx="8643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MAN WHO SHOT LIBERTY VALANCE", WHAT NICKNAME DID JOHN WAYNE USE FOR JIMMY STEWART 23 TIMES, BECAUSE HE WAS NEW TO THE W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QU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CKET SPORT WHOSE COURT DIMENSIONS ARE 9.75×6.4×5.64 METERS HAS BEEN DOMINATED LATELY BY EGYPTIAN PLA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PORT IN THE U.S., BUT ONLY THE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SPORT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RANBER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69800" y="762120"/>
            <a:ext cx="820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IRISH BAND TO HAVE A MUSIC VIDEO ("ZOMBIE", 1994) VIEWED ONE BILLION TIMES ON YOUTU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7760" y="762120"/>
            <a:ext cx="8448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Y OF THE WEEK WAS NAMED AFTER THE NORSE GOD OF THU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CAN  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072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ISH THIS ALLITERATIVE QUOTE FROM "WHEN HARRY MET SALLY": "WAITER, THERE IS TOO MUCH PEPPER IN MY PAPRIKASH, BUT I WOULD BE HAPPY TO PARTAKE OF YOUR ____ ____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14440" y="762120"/>
            <a:ext cx="811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IL YOUNG ALBUM WAS THE BEST-SELLING ALBUM IN THE U.S. IN 1972, FEATURING THE TOP-40 SONGS "OLD MAN" AND "HEART OF G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0680" y="762120"/>
            <a:ext cx="8702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MAN WHO SHOT LIBERTY VALANCE", WHAT NICKNAME DID JOHN WAYNE USE FOR JIMMY STEWART 23 TIMES, BECAUSE HE WAS NEW TO THE W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-76320" y="4952880"/>
            <a:ext cx="9296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71440" y="762120"/>
            <a:ext cx="860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FAMOUS POPEYE QUOTE: "I ____ WHAT I ____ AN' THA'S ALL I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-115920" y="762120"/>
            <a:ext cx="937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IRAQ, IRAN, SYRIA, GREECE, BULGARIA, ARMENIA, AND AZERBAIJ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5920" y="4952880"/>
            <a:ext cx="8415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SOCIATED  WITH  THANKSGIVI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43080" y="762120"/>
            <a:ext cx="845820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3240" y="761760"/>
            <a:ext cx="7877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CKET SPORT WHOSE COURT DIMENSIONS ARE 9.75×6.4×5.64 METERS HAS BEEN DOMINATED LATELY BY EGYPTIAN PLAY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69880" y="762120"/>
            <a:ext cx="8004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PORT IN THE U.S., BUT ONLY THE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SPORT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762120"/>
            <a:ext cx="8353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IRISH BAND TO HAVE A MUSIC VIDEO ("ZOMBIE", 1994) VIEWED ONE BILLION TIMES ON YOUTU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0" y="761760"/>
            <a:ext cx="82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Y OF THE WEEK WAS NAMED AFTER THE NORSE GOD OF THU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ISH THIS ALLITERATIVE QUOTE FROM "WHEN HARRY MET SALLY": "WAITER, THERE IS TOO MUCH PEPPER IN MY PAPRIKASH, BUT I WOULD BE HAPPY TO PARTAKE OF YOUR ____ ____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2040" y="761760"/>
            <a:ext cx="8359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IL YOUNG ALBUM WAS THE BEST-SELLING ALBUM IN THE U.S. IN 1972, FEATURING THE TOP-40 SONGS "OLD MAN" AND "HEART OF G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2840" y="762120"/>
            <a:ext cx="8516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FAMOUS POPEYE QUOTE: "I ____ WHAT I ____ AN' THA'S ALL I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09-21T16:15:32Z</dcterms:modified>
  <cp:revision>467</cp:revision>
  <dc:subject/>
  <dc:title>Slide 1</dc:title>
</cp:coreProperties>
</file>