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C0EA-01BA-4032-9A80-75A3BC8C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C166-0E99-414F-93CD-ECF37AEAA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DCC5-7F18-439D-947D-BC5B840F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43D5-4806-411E-BA0C-5CD28B5B2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4AD8-A38D-45A3-86DE-663A601A0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A42-149B-4646-AD19-38714860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3FFD-043B-451B-AE5F-D6DC5DD3C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1C72-695E-409C-8EAB-7C209B60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963F-4AB2-49CB-9E46-4DEC62C4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0748-D952-415E-87A0-02AA86CF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F55-2B2D-4329-9D6E-2D13F9626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8691-B6C6-4FD6-B40E-412E2302B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5C3-97FA-41B7-BD11-87999FD1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64EC-061E-43E4-B66C-85C89676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6F93-1CBD-4B2B-9148-4A99175E0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0CFE-7BCD-4156-867E-AFFC73317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16C9-778B-4EA8-B1EA-E9D68499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4BFF-E573-497C-8D82-231B6A62C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49FD-F082-417E-8316-13202E78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C6BA-7DD1-4D33-AE7E-0710A1D8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6A37-97B6-41C0-8DDF-D6EB15940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2F52-848F-47CC-8E97-94FCA7E8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B582-E8DC-4F95-BF40-0B90097C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19040" y="1523880"/>
            <a:ext cx="6505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240" y="761760"/>
            <a:ext cx="89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RAQ, IRAN, SYRIA, GREECE, BULGARIA, ARMENIA, AND AZERBAIJ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GR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762120"/>
            <a:ext cx="8643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MAN WHO SHOT LIBERTY VALANCE", WHAT NICKNAME DID JOHN WAYNE USE FOR JIMMY STEWART 23 TIMES, BECAUSE HE WAS NEW TO THE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KET SPORT WHOSE COURT DIMENSIONS ARE 9.75×6.4×5.64 METERS HAS BEEN DOMINATED LATELY BY EGYPTIAN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PORT IN THE U.S., BUT ONLY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SPO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AN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9800" y="762120"/>
            <a:ext cx="820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IRISH BAND TO HAVE A MUSIC VIDEO ("ZOMBIE", 1994) VIEWED ONE BILLION TIMES ON YOUT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S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7760" y="762120"/>
            <a:ext cx="84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WAS NAMED AFTER THE NORSE GOD OF TH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07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ISH THIS ALLITERATIVE QUOTE FROM "WHEN HARRY MET SALLY": "WAITER, THERE IS TOO MUCH PEPPER IN MY PAPRIKASH, BUT I WOULD BE HAPPY TO PARTAKE OF YOUR ____ ____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ALBUM WAS THE BEST-SELLING ALBUM IN THE U.S. IN 1972, FEATURING THE TOP-40 SONGS "OLD MAN" AND "HEART OF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MAN WHO SHOT LIBERTY VALANCE", WHAT NICKNAME DID JOHN WAYNE USE FOR JIMMY STEWART 23 TIMES, BECAUSE HE WAS NEW TO THE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71440" y="762120"/>
            <a:ext cx="860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FAMOUS POPEYE QUOTE: "I ____ WHAT I ____ AN' THA'S ALL I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-115920" y="762120"/>
            <a:ext cx="937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RAQ, IRAN, SYRIA, GREECE, BULGARIA, ARMENIA, AND AZERBAIJ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5920" y="4952880"/>
            <a:ext cx="8415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SOCIATED  WITH  THANKSGIV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CKET SPORT WHOSE COURT DIMENSIONS ARE 9.75×6.4×5.64 METERS HAS BEEN DOMINATED LATELY BY EGYPTIAN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9880" y="762120"/>
            <a:ext cx="800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PORT IN THE U.S., BUT ONLY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SPO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IRISH BAND TO HAVE A MUSIC VIDEO ("ZOMBIE", 1994) VIEWED ONE BILLION TIMES ON YOUT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WAS NAMED AFTER THE NORSE GOD OF TH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ISH THIS ALLITERATIVE QUOTE FROM "WHEN HARRY MET SALLY": "WAITER, THERE IS TOO MUCH PEPPER IN MY PAPRIKASH, BUT I WOULD BE HAPPY TO PARTAKE OF YOUR ____ ____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2040" y="761760"/>
            <a:ext cx="835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YOUNG ALBUM WAS THE BEST-SELLING ALBUM IN THE U.S. IN 1972, FEATURING THE TOP-40 SONGS "OLD MAN" AND "HEART OF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6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FAMOUS POPEYE QUOTE: "I ____ WHAT I ____ AN' THA'S ALL I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9-21T16:15:32Z</dcterms:modified>
  <cp:revision>467</cp:revision>
  <dc:subject/>
  <dc:title>Slide 1</dc:title>
</cp:coreProperties>
</file>