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D54-A2F4-4CB2-8A71-C46566A4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85F9-B053-42BB-8ADA-BC71DB3A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0F18-0E89-45A5-A886-6697359D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720-FFE7-48C1-ABE7-716F3829A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DFB5-4B4E-42F7-B478-A928FC48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C4D7-EB82-4C27-B145-8F7C753A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D340-A83B-4FE8-832B-EA7A7654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FAAF-5161-48B8-91ED-C90227AA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3572-0803-48C5-8AE0-56773513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442A-A8A0-476E-980A-5EC3FFEF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CAD4-C549-4565-A9B5-FD7304DEE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F7EB-17E5-425D-99B3-8947CD1D5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79FE-2E33-4CAA-A30C-2AE092345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38F-7B53-4E51-B725-27D68040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98F3-2C15-43F3-8B02-11BECBDA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9BB3-7B13-473A-9170-0FD4D0E22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D5AD-7402-4424-B2C2-6370C98C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88EE-764D-47B0-B8A8-DC47EDC36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54AE-97F3-4B3B-BF32-8C58D7ADF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99E9-B4A2-4306-A9B7-7D3C96B9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B620-0D3C-445C-A2E6-57254074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A2D7-68FD-4223-AD9D-49813613F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EACB-F46D-4714-9FC4-D04B3925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0B3-817A-467A-9056-1F3C23604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6040" y="762120"/>
            <a:ext cx="8251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BOOKS OF THE OLD TESTAMENT THAT BEGIN WITH "J": JOSHUA, JUDGES, JUDITH, JOB, JEREMIAH, JONAH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1520" y="761760"/>
            <a:ext cx="894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ES, NATIVE TO SOUTHEAST ASIA, ARE THE FASTEST AND MOST AGILE OF ALL TREE-DWELLING MAM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YSTAL  (GAY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4480" y="762120"/>
            <a:ext cx="89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D FOR THE SINGER'S FIRST NAME, WHAT ALBUM CONTAINED THE #1 COUNTRY HITS "YOU NEVER MISS A REAL GOOD THING" AND "READY FOR THE TIMES TO GET BET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228680" y="495288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(GREENE)  (NAS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54120" y="762120"/>
            <a:ext cx="783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OF THE AUTHORS OF THE NOVEL "THE POWER AND THE GLORY", AND THE SONG "MARRAKESH EXPR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OT  (STABLER)  (REI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04920" y="762120"/>
            <a:ext cx="8496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S PORTRAYED BY CHRISTOPHER MELONI ON "LAW &amp; ORDER: SVU", AND BY SARAH CHALKE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63400" y="762120"/>
            <a:ext cx="80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THONY GATTO JUGGLE 7 OF FOR 4 MINUTES AND 24 SECONDS, SETTING A WORLD RECORD IN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MERICAN)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CURRENT TV SHOW THAT WAS THE #1 SHOW FOR 8 CONSECUTIVE YEARS, 2003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APPROPRIATELY ENOUGH, IS AN ANAGRAM OF THE WORD "CANO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66880" y="1066680"/>
            <a:ext cx="74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AT  (GREATEST  OF  ALL 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287360" y="762120"/>
            <a:ext cx="656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SERVES AS AN ACRONYM FOR A PHRASE MEANING "THE BEST PLAYER 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5760" y="762120"/>
            <a:ext cx="8231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BOOKS OF THE OLD TESTAMENT THAT BEGIN WITH "J": JOSHUA, JUDGES, JUDITH, JOB, JEREMIAH, JONAH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B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63440" y="762120"/>
            <a:ext cx="881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ES, NATIVE TO SOUTHEAST ASIA, ARE THE FASTEST AND MOST AGILE OF ALL TREE-DWELLING MAM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BIL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20" y="762120"/>
            <a:ext cx="904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D FOR THE SINGER'S FIRST NAME, WHAT ALBUM CONTAINED THE #1 COUNTRY HITS "YOU NEVER MISS A REAL GOOD THING" AND "READY FOR THE TIMES TO GET BET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7040" y="761760"/>
            <a:ext cx="7907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OF THE AUTHORS OF THE NOVEL "THE POWER AND THE GLORY", AND THE SONG "MARRAKESH EXPR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93760" y="762120"/>
            <a:ext cx="855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S PORTRAYED BY CHRISTOPHER MELONI ON "LAW &amp; ORDER: SVU", AND BY SARAH CHALKE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20280" y="762120"/>
            <a:ext cx="790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THONY GATTO JUGGLE 7 OF FOR 4 MINUTES AND 24 SECONDS, SETTING A WORLD RECORD IN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CURRENT TV SHOW THAT WAS THE #1 SHOW FOR 8 CONSECUTIVE YEARS, 2003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APPROPRIATELY ENOUGH, IS AN ANAGRAM  OF THE WORD "CANO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SERVES AS AN ACRONYM FOR A PHRASE MEANING "THE BEST PLAYER E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8-29T16:26:55Z</dcterms:modified>
  <cp:revision>513</cp:revision>
  <dc:subject/>
  <dc:title>Slide 1</dc:title>
</cp:coreProperties>
</file>