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1F0B-AC48-458E-B909-AB1D499CB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9E25-114E-491A-9D10-6FB29599A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1153-D4DC-441F-99BD-38449F363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0D90-4FC6-48B0-8489-FDA48506B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4DD9-6004-43E5-BFA9-BDCD3C78C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15CF-3292-4082-A588-5D82DB683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DCCB-9EAB-4EB2-86A5-9BDD11BF2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8950-22CE-4B63-90E0-73AC9B77D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4CED-EC80-481C-80BA-B32D43E85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167E-F880-43EA-9952-D69BBE71D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7F7D-D835-4648-AB56-26F28F02E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5017-A3C1-4745-A16E-ADE83F9D6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23CB-B8AB-4ED2-A6BD-9B20DE76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45E5-D8E7-4632-9AFB-7B4E09AF5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9F1E-15DA-4B6B-A667-8B032B64F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A76A-4969-4228-839A-AC51DD251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945A-1092-4B9A-8A5B-A15B7D75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0546-D3D8-4CB7-AF85-9CBBF2A5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E3D7-94FA-4065-BDF9-AE33F24B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B8C9-CCDF-4B85-8DCC-748A1A54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505B-BCA9-4CA3-AE89-C1AA7B54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9330-8E57-4F3C-A20E-E1EA44764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32E7-634C-4F16-8924-D5B37FE0C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73C6-6071-4FF1-8349-839DD1E9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46040" y="762120"/>
            <a:ext cx="8251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BOOKS OF THE OLD TESTAMENT THAT BEGIN WITH "J": JOSHUA, JUDGES, JUDITH, JOB, JEREMIAH, JONAH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1520" y="761760"/>
            <a:ext cx="894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ES, NATIVE TO SOUTHEAST ASIA, ARE THE FASTEST AND MOST AGILE OF ALL TREE-DWELLING MAM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YSTAL  (GAY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4480" y="762120"/>
            <a:ext cx="89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D FOR THE SINGER'S FIRST NAME, WHAT ALBUM CONTAINED THE #1 COUNTRY HITS "YOU NEVER MISS A REAL GOOD THING" AND "READY FOR THE TIMES TO GET BET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228680" y="4952880"/>
            <a:ext cx="6686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(GREENE)  (NAS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54120" y="762120"/>
            <a:ext cx="783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OF THE AUTHORS OF THE NOVEL "THE POWER AND THE GLORY", AND THE SONG "MARRAKESH EXPR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OT  (STABLER)  (REI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04920" y="762120"/>
            <a:ext cx="8496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S PORTRAYED BY CHRISTOPHER MELONI ON "LAW &amp; ORDER: SVU", AND BY SARAH CHALKE ON "SCRU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63400" y="762120"/>
            <a:ext cx="8015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THONY GATTO JUGGLE 7 OF FOR 4 MINUTES AND 24 SECONDS, SETTING A WORLD RECORD IN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MERICAN)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CURRENT TV SHOW THAT WAS THE #1 SHOW FOR 8 CONSECUTIVE YEARS, 2003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APPROPRIATELY ENOUGH, IS AN ANAGRAM OF THE WORD "CANO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66880" y="1066680"/>
            <a:ext cx="7410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AT  (GREATEST  OF  ALL 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287360" y="762120"/>
            <a:ext cx="6569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SERVES AS AN ACRONYM FOR A PHRASE MEANING "THE BEST PLAYER 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5760" y="762120"/>
            <a:ext cx="8231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BOOKS OF THE OLD TESTAMENT THAT BEGIN WITH "J": JOSHUA, JUDGES, JUDITH, JOB, JEREMIAH, JONAH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B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63440" y="762120"/>
            <a:ext cx="881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ES, NATIVE TO SOUTHEAST ASIA, ARE THE FASTEST AND MOST AGILE OF ALL TREE-DWELLING MAM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BIL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20" y="762120"/>
            <a:ext cx="904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D FOR THE SINGER'S FIRST NAME, WHAT ALBUM CONTAINED THE #1 COUNTRY HITS "YOU NEVER MISS A REAL GOOD THING" AND "READY FOR THE TIMES TO GET BET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7040" y="761760"/>
            <a:ext cx="7907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OF THE AUTHORS OF THE NOVEL "THE POWER AND THE GLORY", AND THE SONG "MARRAKESH EXPR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93760" y="762120"/>
            <a:ext cx="855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HARACTERS PORTRAYED BY CHRISTOPHER MELONI ON "LAW &amp; ORDER: SVU", AND BY SARAH CHALKE ON "SCRU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20280" y="762120"/>
            <a:ext cx="790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THONY GATTO JUGGLE 7 OF FOR 4 MINUTES AND 24 SECONDS, SETTING A WORLD RECORD IN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CURRENT TV SHOW THAT WAS THE #1 SHOW FOR 8 CONSECUTIVE YEARS, 2003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APPROPRIATELY ENOUGH, IS AN ANAGRAM  OF THE WORD "CANO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0480" y="761760"/>
            <a:ext cx="668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SERVES AS AN ACRONYM FOR A PHRASE MEANING "THE BEST PLAYER E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8-29T16:26:55Z</dcterms:modified>
  <cp:revision>513</cp:revision>
  <dc:subject/>
  <dc:title>Slide 1</dc:title>
</cp:coreProperties>
</file>