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0B6E-3652-4AC1-AA48-843D5F481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5B56-AAE6-4CE5-8F50-AF7295CCE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341D-E4CF-4604-8A2C-50F2DADDB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83B2-C846-4BB9-B482-00F4B5FC5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2329-09BC-4808-BD04-816979EE1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167D-C905-4D23-A7FD-D09CCA4A9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5B67-D656-4ADC-8AEA-E96825352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EF91-8CDB-4734-94F4-DCF9472D5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BA2F-0064-4C07-A06A-1739F370F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17F3-D5DA-4D33-B526-E93B33FEB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78F0-7D20-4308-ADE9-B498E9197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E289-4AB1-4AF0-A566-EDE7C68B2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D45F-4461-4E20-A5F1-10AD928B8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DF4A-C572-486C-B7A0-9AFCE6759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69AC-208E-41AD-8184-CB60FAF7C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AE11-2F49-42ED-A6AE-990730EF2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8055-A037-4ECB-9888-20F641BE9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B162-63C2-454B-9855-BDBD69102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0022-A048-4419-998B-5D6884A0D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231C-93D1-400D-925A-AEFAE29FC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8654-DB27-4B7D-89EF-326DCB186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2866-D2B0-4AAA-92E6-2A44FF7CD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49C9-76E1-4984-8B87-2BCC943FB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DEBORAH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UREAU OF ENGRAVING AND PRINTING PRODUCES THE PAPER CURRENCY USED BY THE U.S.  WHAT PRODUCES THE COIN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UTMEG  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NECTICUT IS OFFICIALLY KNOWN AS THE CONSTITUTION STATE.  WHAT IS ITS UNOFFICIAL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BASIL'S  CATHED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45960" y="762120"/>
            <a:ext cx="8452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ICONIC ONION-DOMED STRUCTURE ON RED SQU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 W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RIGINAL      NAME OF THE 1990 MERGER           OF 2 MASS MEDIA AND ENTERTAINMENT COMPAN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GER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714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ULL NAME OF THE MOVIE STAR TRAPPED ON GILLIGAN'S IS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MARY'S  BA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85760" y="762120"/>
            <a:ext cx="8772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MAN POLANSKI’S FIRST HOLLYWOOD FILM, WHICH ESTABLISHED HIM AS A MAJOR COMMERCIAL FILMMA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CRACKER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PPER  POT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0160" y="762120"/>
            <a:ext cx="748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ULL NAME OF IRON MAN'S GIRLFRI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41280" y="762120"/>
            <a:ext cx="8460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NECTICUT IS OFFICIALLY KNOWN AS THE CONSTITUTION STATE.  WHAT IS ITS UNOFFICIAL NICK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  D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41240" y="762120"/>
            <a:ext cx="7661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ACTOR AND DIRECTOR ESTABLISHED HIMSELF AS A TEEN IDOL    IN FILMS SUCH AS           "THE FLAMINGO K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.S.  M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73200" y="762120"/>
            <a:ext cx="779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UREAU OF ENGRAVING AND PRINTING PRODUCES THE PAPER CURRENCY USED BY THE U.S.  WHAT PRODUCES THE COIN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343400"/>
            <a:ext cx="878544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(OR  HOMOPHONES)  OF  SP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ICONIC ONION-DOMED STRUCTURE ON RED SQU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47840" y="762120"/>
            <a:ext cx="824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RIGINAL      NAME OF THE 1990 MERGER           OF 2 MASS MEDIA AND ENTERTAINMENT COMPAN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ULL NAME OF THE MOVIE STAR TRAPPED ON GILLIGAN'S IS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3160" y="762120"/>
            <a:ext cx="8797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MAN POLANSKI’S FIRST HOLLYWOOD FILM, WHICH ESTABLISHED HIM AS A MAJOR COMMERCIAL FILMMA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3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CRACKER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ULL NAME OF IRON MAN'S GIRLFRI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72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ACTOR AND DIRECTOR ESTABLISHED HIMSELF AS A TEEN IDOL    IN FILMS SUCH AS           "THE FLAMINGO K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12-26T18:11:28Z</dcterms:modified>
  <cp:revision>427</cp:revision>
  <dc:subject/>
  <dc:title>Slide 1</dc:title>
</cp:coreProperties>
</file>