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502-FB2D-4ECB-B2A5-CC7880C3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2E1-EDC3-4069-8B9A-944A606A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908-E6CE-472A-B7C3-7F3C9743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1AF-6D58-4DBD-A899-608D28BE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43D-773D-49AF-B268-252B52C6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934-AD30-498A-AF36-F074A065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801-B5EF-447A-AFC1-C136EF87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3CF-1034-4944-8B9D-8827D6E1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BC1-F4DB-4811-B062-5C9DB1C4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18B3-565D-4FC3-A5CC-591EC5970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DE2-4353-4531-A682-C26C9485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4F5-A3AD-44EB-A449-A2C970A6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FD0-E7A5-4CDA-B39F-BFDF7766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3A9C-493F-47E2-99A2-EFC38BC7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46F-A971-4C2A-9440-D6E83EED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B39-ADF5-4A69-BF65-A0FA6D01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8B4-A9CD-4056-86BD-09283EA0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387-BE07-4B2D-A05F-E3634F5A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B32-FAC1-4FA7-A684-A3B84107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93A-095A-4006-BF85-95835FDB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FCA-0025-47EE-B0B5-2C5119E0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2774-FFA9-423B-B48F-1100C436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AFD-12E7-42E3-AA10-3ED733B2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REAU OF ENGRAVING AND PRINTING PRODUCES THE PAPER CURRENCY USED BY THE U.S.  WHAT PRODUCES THE COIN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UTMEG 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CUT IS OFFICIALLY KNOWN AS THE CONSTITUTION STATE.  WHAT IS ITS UNOFFICIAL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BASIL'S  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CONIC ONION-DOMED STRUCTURE ON RED SQU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RIGINAL      NAME OF THE 1990 MERGER           OF 2 MASS MEDIA AND ENTERTAINMENT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MOVIE STAR TRAPPED ON GILLIGAN'S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'S 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85760" y="762120"/>
            <a:ext cx="877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MAN POLANSKI’S FIRST HOLLYWOOD FILM, WHICH ESTABLISHED HIM AS A MAJOR COMMERCIAL FILM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RACKE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  PO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IRON MAN'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1280" y="762120"/>
            <a:ext cx="846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CUT IS OFFICIALLY KNOWN AS THE CONSTITUTION STATE.  WHAT IS ITS UNOFFICIAL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1240" y="762120"/>
            <a:ext cx="766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AND DIRECTOR ESTABLISHED HIMSELF AS A TEEN IDOL    IN FILMS SUCH AS           "THE FLAMINGO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S.  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3200" y="762120"/>
            <a:ext cx="779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REAU OF ENGRAVING AND PRINTING PRODUCES THE PAPER CURRENCY USED BY THE U.S.  WHAT PRODUCES THE COIN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34340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(OR  HOMOPHONES)  OF  SP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CONIC ONION-DOMED STRUCTURE ON RED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RIGINAL      NAME OF THE 1990 MERGER           OF 2 MASS MEDIA AND ENTERTAINMENT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MOVIE STAR TRAPPED ON GILLIGAN'S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3160" y="762120"/>
            <a:ext cx="879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MAN POLANSKI’S FIRST HOLLYWOOD FILM, WHICH ESTABLISHED HIM AS A MAJOR COMMERCIAL FILM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RACKE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IRON MAN'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AND DIRECTOR ESTABLISHED HIMSELF AS A TEEN IDOL    IN FILMS SUCH AS           "THE FLAMINGO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26T18:11:28Z</dcterms:modified>
  <cp:revision>427</cp:revision>
  <dc:subject/>
  <dc:title>Slide 1</dc:title>
</cp:coreProperties>
</file>